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move the slide</a:t>
            </a:r>
            <a:endParaRPr b="0" lang="en-US" sz="4800" spc="-1" strike="noStrike">
              <a:solidFill>
                <a:srgbClr val="cc00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0C0F-8291-4FDC-AB7E-AC05C30F5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anno partecipato alla ricerca 36 Ser.T.. su 38 esistenti nel Territorio del Veneto, mancano il Ser.T..1 di Verona ed il Ser.T. di Valdagno Vicenza, che erano stati interpellati ma che non hanno dato nessuna risposta. Del resto non vi era nessun obbligo a partecipar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mia ricerca è nata dall'esigenza personale di conoscere le realtà dei Ser.T.. che in qualche modo mi affiancano nel lavoro con utenti che hanno come problema fondamentale la "DIPEND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vorando nel piccolo Ser.T.. 2 di Camposampiero ed essendo spesso unico referente infermieristico sentivo l'esigenza di un confronto con pari ruolo di altri Ser.T.. del veneto, per imparare da alt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perienze, e perché no per aprire un dialogo all'interno dell'area Infermieristica, area che come  vedremo da altre ricerche, attualmente sta rivestendo enorme importanza all'interno del sistema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ricerca è stata fatta attraverso un questionario con domande a risposta chiusa ed alcune domande a risposta aperta, al questionario doveva rispondere la figura infermieristica che rispondeva per il Ser.T.. in cui lavora o lavorava, e poteva rispondere assieme ad altri colleghi infermi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 ogni Ser.T.. corrisponde un unico questionario, che si può ritenere un sunto del sentire anche emotivo dell'infermieristica in quel preciso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n si richiedeva una precisione "numerica" a certi quesiti, in quanto queste risposte non dovevano essere lette solo da un punto di vista numerico, vi sono tra l'altro molte altre ricerche a livello Regionale e Nazionale che possono rispondere in manier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con fatica sta nascendo in Italia, e a volte rischia di non seguire i crismi della ricerca scientifica con la "S" maius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sicuramente questa ricerca non può essere annoverata fra le ricerche con la "S" maiuscola e non se lo poneva come  obbiet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no del resto convinto che la fantasia sia la base per qualsiasi ricerca e se la fantasia fa perno sull'esperienza potrebbe aprire almeno nuove strade di confronto e questo è il mio obbiettivo, se poi da questo nasce dell'altro non sarò Io ad oppor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a mio avviso non sta facendo molta strada un pò per la solita carenza di risorse sia economiche che umane ma anche probabilmente per mancanza di idee e di parametri che possano misurare la fase assistenziale ed in particolare la quotidianità del rapporto che l'infermiere svolge a contatto con l'utenza sia come risposta ai bisogni fisici che come risposta ai bisogni psicologici,sanitari e social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6C372-1073-49D4-BD1B-6B6301209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A1087-5BD3-4320-B6AC-85DBDAB1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59B4A-0075-40DE-9F02-A095B3DD3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7ACB4-02A9-42B5-B546-CEAC3524A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1F90F-FEB6-4AE9-9C43-0D602547E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BA060-813B-443F-A42B-1451FB44D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78DD7-F34D-4E86-8481-A571ECD0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2A2FF-E783-46BC-9C01-DF26C717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D7A73-E2BA-4413-8468-9D65C69A0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7D578-DC91-461F-97BD-B9FD14DC3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BCC90-A2AA-41AD-BADC-BCB2CF130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FA95-A69E-4F7B-BCD6-12DC0C1B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238E2-406B-4B28-88A4-353F8DC1F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F3963-3835-40B8-81F1-988F934ED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9321-9655-41D4-A732-645A466B9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DD7BB-3D03-43DF-A1D9-8335CFEEF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836C9-870A-44EC-A7C4-157994D2F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5CB7-65EB-433D-9176-AFCCDA672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8123-AFB3-4C8B-B70C-93D95A6D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297D-14E8-4112-A6B8-981352FF0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6880-2730-460A-B543-7B726A609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C89E-9BFE-44D7-B323-C8B084865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8B7F-19E9-4D87-9C95-BB64AFDD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C0DC-BA7F-4028-9B81-2DF533E19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203280" y="6473520"/>
            <a:ext cx="297180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oberto Nalon  dicembre 2003</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14ED-C6FB-4B60-B5CE-7347FDE24076}"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edit the title text format</a:t>
            </a:r>
            <a:endParaRPr b="0" lang="en-US" sz="4800" spc="-1" strike="noStrike">
              <a:solidFill>
                <a:srgbClr val="cc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BB89-D8A8-4EBE-BBB5-C4318258929A}"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0000"/>
                </a:solidFill>
                <a:latin typeface="Times New Roman"/>
              </a:rPr>
              <a:t>La gestione dei conflitti nei Ser.T.</a:t>
            </a:r>
            <a:endParaRPr b="0" lang="en-US" sz="4400" spc="-1" strike="noStrike">
              <a:solidFill>
                <a:srgbClr val="cc0000"/>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oberto Nal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rona, dicembre 2003</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28E8036-C116-4839-8EAB-D331A5EE2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 base per la sicurezza</a:t>
            </a:r>
            <a:endParaRPr b="0" lang="en-US" sz="4200" spc="-1" strike="noStrike">
              <a:solidFill>
                <a:srgbClr val="cc0000"/>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vere delle protezioni anche strutturali (legge 626 sicurezza negli ambienti di lavor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territorio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proprio servizi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reare un clima empatico positivo con utenti e colleghi</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79D8E3-1B70-4569-9D05-6EEF9B74C4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a:t>
            </a:r>
            <a:endParaRPr b="0" lang="en-US" sz="4200" spc="-1" strike="noStrike">
              <a:solidFill>
                <a:srgbClr val="cc0000"/>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mozione a carattere  esplosivo e temporaneo</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rabbia di per sé non implica l’entrare in relazione. A volte la rabbia vuole eliminare la relazione. Attaccando bruscamente l’altro si esprime la propria intemperanza e la propria indisponibilità a ogni forma di contat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2073E9-0B77-4754-8DD6-6F08144E0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la gestione</a:t>
            </a:r>
            <a:endParaRPr b="0" lang="en-US" sz="4200" spc="-1" strike="noStrike">
              <a:solidFill>
                <a:srgbClr val="cc0000"/>
              </a:solidFill>
              <a:latin typeface="Times New Roman"/>
            </a:endParaRPr>
          </a:p>
        </p:txBody>
      </p:sp>
      <p:sp>
        <p:nvSpPr>
          <p:cNvPr id="13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va accettata, </a:t>
            </a:r>
            <a:r>
              <a:rPr b="0" lang="it-IT" sz="3200" spc="-1" strike="noStrike">
                <a:solidFill>
                  <a:srgbClr val="000000"/>
                </a:solidFill>
                <a:latin typeface="Arial"/>
              </a:rPr>
              <a:t>è un modo di conoscere se stessi, “non bisogna avere sensi di colpa nei confronti della propria rabbia”, “scarichiamo la rabbia”, ec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è comunque un’energia positiva, </a:t>
            </a:r>
            <a:r>
              <a:rPr b="0" lang="it-IT" sz="3200" spc="-1" strike="noStrike">
                <a:solidFill>
                  <a:srgbClr val="000000"/>
                </a:solidFill>
                <a:latin typeface="Arial"/>
              </a:rPr>
              <a:t>energia che si può trasformare, incanalare e reinvestire in attività più util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AA738F-8359-4C17-BF7E-56BCACD18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terzo approccio</a:t>
            </a:r>
            <a:endParaRPr b="0" lang="en-US" sz="4200" spc="-1" strike="noStrike">
              <a:solidFill>
                <a:srgbClr val="cc0000"/>
              </a:solidFill>
              <a:latin typeface="Times New Roman"/>
            </a:endParaRPr>
          </a:p>
        </p:txBody>
      </p:sp>
      <p:sp>
        <p:nvSpPr>
          <p:cNvPr id="13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Queste </a:t>
            </a:r>
            <a:r>
              <a:rPr b="1" lang="it-IT" sz="3600" spc="-1" strike="noStrike">
                <a:solidFill>
                  <a:srgbClr val="000000"/>
                </a:solidFill>
                <a:latin typeface="Arial"/>
              </a:rPr>
              <a:t>due strategie</a:t>
            </a:r>
            <a:r>
              <a:rPr b="0" lang="it-IT" sz="3600" spc="-1" strike="noStrike">
                <a:solidFill>
                  <a:srgbClr val="000000"/>
                </a:solidFill>
                <a:latin typeface="Arial"/>
              </a:rPr>
              <a:t> a volte appaiono piuttosto deboli, se non inconsistenti, nella loro natura pratica, in particolare nel nostro lavoro quotidiano (infermieri in un Ser.T..).</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FFD1ABF-F7BC-4C59-A5F4-77FC7C4C7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Violenza</a:t>
            </a:r>
            <a:endParaRPr b="0" lang="en-US" sz="4200" spc="-1" strike="noStrike">
              <a:solidFill>
                <a:srgbClr val="cc0000"/>
              </a:solidFill>
              <a:latin typeface="Times New Roman"/>
            </a:endParaRPr>
          </a:p>
        </p:txBody>
      </p:sp>
      <p:sp>
        <p:nvSpPr>
          <p:cNvPr id="13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to o situazione fondate sull’intenzione di danneggiare l’altro per eliminare le componenti perturbanti</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1564F64-3EF7-4FCB-8B32-1868F23AE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l latino “conflictu”</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 confliggere “combattere”</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trasto, Scontro, Urto, aspro e prolungato di idee, opinioni </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231C3EFE-F490-4B1F-BFE4-12EFC3907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952560" indent="-495360">
              <a:spcBef>
                <a:spcPts val="1151"/>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000000"/>
                </a:solidFill>
                <a:latin typeface="Arial"/>
              </a:rPr>
              <a:t>Situazione relazionale dove due o più persone o gruppi si oppongono tra di loro</a:t>
            </a:r>
            <a:endParaRPr b="0" lang="en-US" sz="4600" spc="-1" strike="noStrike">
              <a:solidFill>
                <a:srgbClr val="000000"/>
              </a:solidFill>
              <a:latin typeface="Arial"/>
            </a:endParaRPr>
          </a:p>
          <a:p>
            <a:pPr marL="533520"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 name="PlaceHolder 3"/>
          <p:cNvSpPr>
            <a:spLocks noGrp="1"/>
          </p:cNvSpPr>
          <p:nvPr>
            <p:ph type="sldNum" idx="3"/>
          </p:nvPr>
        </p:nvSpPr>
        <p:spPr/>
        <p:txBody>
          <a:bodyPr/>
          <a:p>
            <a:fld id="{FF023D22-5D8D-460C-B696-8C8716804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Psicologia il conflitto fa parte del conflitto di interessi</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rapposizione manifesta o latente di impulsi, desideri o tendenze opposte che si escludono a vicenda.</a:t>
            </a:r>
            <a:r>
              <a:rPr b="0" lang="it-IT"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74845CA-9566-433A-AB91-B9AF34ABE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6" name="PlaceHolder 2"/>
          <p:cNvSpPr>
            <a:spLocks noGrp="1"/>
          </p:cNvSpPr>
          <p:nvPr>
            <p:ph/>
          </p:nvPr>
        </p:nvSpPr>
        <p:spPr>
          <a:xfrm>
            <a:off x="914400" y="1599840"/>
            <a:ext cx="601992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flitto, la diversità di opinioni, le differenze tra noi, sono benefiche e feconde, ma diventano malefiche e sterili se si irrigidiscono in sorda contrapposizione di muro contro mur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lvio Scapar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62F5D9-66AF-4B80-8953-6A7EDA107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risi costituiscono momenti alti della nostra vita, quelli nei quali siamo chiamati a misurarci con noi stessi senza infingimenti alla ricerca di uno sbocco favorevole e di un nuovo equilibrio.</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ulvio Scaparr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06EF45-F4D8-4F60-BA44-2C8D57A83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Ricerca sui "nodi problematici" dell'area Infermieristica nei Ser.T. del Veneto</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volta nel novembre 2001</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Hanno partecipato alla ricerca 36 Ser.T.. su 38 esistenti nel Territorio del Venet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AF578CD-3FF8-4091-9FBC-693472CF8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parliamo di conflitto parliamo di un’esperienza molto diversa dalla violenza, intendendo per violenza un danneggiamento intenzionale con carattere di irreversibilità. La violenza è nell’area della distruttività, invece il conflitto è nell’area della contrarietà, del contrasto relaziona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3212BE-A604-4E79-A4BE-92F77FDC7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utente</a:t>
            </a:r>
            <a:endParaRPr b="0" lang="en-US" sz="4200" spc="-1" strike="noStrike">
              <a:solidFill>
                <a:srgbClr val="cc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determinato da:</a:t>
            </a:r>
            <a:endParaRPr b="0" lang="en-US" sz="28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erenti letture dei bisogn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zioni di regole del servizio</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sempi:</a:t>
            </a:r>
            <a:endParaRPr b="0" lang="en-US" sz="36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Orar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Affid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Controlli….</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90D85C3-6208-487A-BA73-9DE42DF80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Arial"/>
              </a:rPr>
              <a:t>Contrasto di ide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prolungato di idee e opinioni </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o</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u="sng">
                <a:solidFill>
                  <a:srgbClr val="000000"/>
                </a:solidFill>
                <a:uFillTx/>
                <a:latin typeface="Arial"/>
              </a:rPr>
              <a:t>Contrasto di Competenz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tra professioni diverse che lavorano nello stesso setto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0F01FB4-D430-4BB5-A8C6-2729E95C2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filosofia dell’equip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inea teorica del servizio</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etodologie o protocolli applicati</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0A6457B-16FF-48A1-81DE-B4AC9AEEF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infermiere</a:t>
            </a:r>
            <a:endParaRPr b="0" lang="en-US" sz="3800" spc="-1" strike="noStrike">
              <a:solidFill>
                <a:srgbClr val="cc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Gelosie professional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vendicare la propria identità</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deologie ed utopie different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isogni di affermazion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icoltà nella comunicazion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01E2AD5-4B06-489D-A0FE-CE15F3E7E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altri professionisti</a:t>
            </a:r>
            <a:endParaRPr b="0" lang="en-US" sz="3800" spc="-1" strike="noStrike">
              <a:solidFill>
                <a:srgbClr val="cc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fficoltà a trovare confini chiari tra professioni diverse</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protocolli che definiscano l’area d’intervento di ogni professionista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una linea d’intervento chiara all’interno del servizi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2758DA-9D03-4A8B-B841-99CFCD910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Competenza sociale</a:t>
            </a:r>
            <a:endParaRPr b="0" lang="en-US" sz="4200" spc="-1" strike="noStrike">
              <a:solidFill>
                <a:srgbClr val="cc0000"/>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personale;</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proprio ruol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i nostri utenti;</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vivon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operiam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fisico (architettonico)</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legislativo ( leggi, linee guida, protocolli…..);</a:t>
            </a:r>
            <a:endParaRPr b="0" lang="en-US" sz="22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gruppo di lavor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sponsabile (la sua filosofia sul servizio, i suoi obiettiv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tre figure professionali (Medici, Psicologi, Assistenti Sociali, Educator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propri colleghi Assistenti Sanitari Infermieri, OS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3CBFFAB-A451-4293-894C-A81BE9BEE2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e strategie, per gestire i conflitti</a:t>
            </a:r>
            <a:endParaRPr b="0" lang="en-US" sz="4200" spc="-1" strike="noStrike">
              <a:solidFill>
                <a:srgbClr val="cc0000"/>
              </a:solidFill>
              <a:latin typeface="Times New Roman"/>
            </a:endParaRPr>
          </a:p>
        </p:txBody>
      </p:sp>
      <p:sp>
        <p:nvSpPr>
          <p:cNvPr id="164" name="PlaceHolder 2"/>
          <p:cNvSpPr>
            <a:spLocks noGrp="1"/>
          </p:cNvSpPr>
          <p:nvPr>
            <p:ph/>
          </p:nvPr>
        </p:nvSpPr>
        <p:spPr>
          <a:xfrm>
            <a:off x="914040" y="1599840"/>
            <a:ext cx="61722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ssere assertivi</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idea dell’assertività nasce nel ‘49 da Salter e nel ’50 da Wolpe, vi è stato poi un lavoro di altri autori che l’hanno utilizzata nel </a:t>
            </a:r>
            <a:r>
              <a:rPr b="1" i="1" lang="it-IT" sz="2400" spc="-1" strike="noStrike">
                <a:solidFill>
                  <a:srgbClr val="000000"/>
                </a:solidFill>
                <a:latin typeface="Arial"/>
              </a:rPr>
              <a:t>filone Clinico </a:t>
            </a:r>
            <a:r>
              <a:rPr b="0" i="1" lang="it-IT" sz="2400" spc="-1" strike="noStrike">
                <a:solidFill>
                  <a:srgbClr val="000000"/>
                </a:solidFill>
                <a:latin typeface="Arial"/>
              </a:rPr>
              <a:t>(nella pratica psicoterapeutica) e nel </a:t>
            </a:r>
            <a:r>
              <a:rPr b="1" i="1" lang="it-IT" sz="2400" spc="-1" strike="noStrike">
                <a:solidFill>
                  <a:srgbClr val="000000"/>
                </a:solidFill>
                <a:latin typeface="Arial"/>
              </a:rPr>
              <a:t>filone Educativo </a:t>
            </a:r>
            <a:r>
              <a:rPr b="0" i="1" lang="it-IT" sz="2400" spc="-1" strike="noStrike">
                <a:solidFill>
                  <a:srgbClr val="000000"/>
                </a:solidFill>
                <a:latin typeface="Arial"/>
              </a:rPr>
              <a:t>(scuola, mondo del lavoro).</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Solo in questi ultimi anni è arrivata in Italia, ed è usata nel mondo della scuola per nuovi modelli educativi, e nel mondo del lavoro per la formazione di équipe sul lavoro collaborati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FB5949-0DF9-4DDE-ADE1-CAC6D015D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ssertività può essere definita come lo stile comunicativo che caratterizza un individuo </a:t>
            </a:r>
            <a:r>
              <a:rPr b="1" lang="it-IT" sz="2800" spc="-1" strike="noStrike">
                <a:solidFill>
                  <a:srgbClr val="000000"/>
                </a:solidFill>
                <a:latin typeface="Arial"/>
              </a:rPr>
              <a:t>socievole, sicuro di sé e aperto al confronto.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ndotta assertiva rimuove gli ostacoli che impediscono il contatto con gli altri e minimizza i rischi di incomprensi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96EE7E-F754-496D-A737-7EF1E263C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ersona assertiva sa</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rendere gli altri e rispettarli;</a:t>
            </a:r>
            <a:endParaRPr b="0" lang="en-US" sz="22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 in grado di salvaguardare i propri diritti.</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Un comportamento assertivo promuove l’uguaglianza nei rapporti umani, mettendoci in grado di agire nel nostro migliore interesse, di difenderci senza ansia, di esprimere con facilità e onestà le nostre sensazioni, di esercitare i nostri diritti senza negare quelli degli altr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berti ed Emmons 19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87ABAD-A25F-4248-9EEC-5793882913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graphicFrame>
        <p:nvGraphicFramePr>
          <p:cNvPr id="109" name=""/>
          <p:cNvGraphicFramePr/>
          <p:nvPr/>
        </p:nvGraphicFramePr>
        <p:xfrm>
          <a:off x="706320" y="1600200"/>
          <a:ext cx="8437680" cy="4594320"/>
        </p:xfrm>
        <a:graphic>
          <a:graphicData uri="http://schemas.openxmlformats.org/presentationml/2006/ole">
            <p:oleObj progId="Excel.Sheet.12" r:id="rId1" spid="">
              <p:embed/>
              <p:pic>
                <p:nvPicPr>
                  <p:cNvPr id="110" name="" descr=""/>
                  <p:cNvPicPr/>
                  <p:nvPr/>
                </p:nvPicPr>
                <p:blipFill>
                  <a:blip r:embed="rId2"/>
                  <a:stretch/>
                </p:blipFill>
                <p:spPr>
                  <a:xfrm>
                    <a:off x="706320" y="1600200"/>
                    <a:ext cx="8437680" cy="4594320"/>
                  </a:xfrm>
                  <a:prstGeom prst="rect">
                    <a:avLst/>
                  </a:prstGeom>
                  <a:ln w="0">
                    <a:noFill/>
                  </a:ln>
                </p:spPr>
              </p:pic>
            </p:oleObj>
          </a:graphicData>
        </a:graphic>
      </p:graphicFrame>
      <p:sp>
        <p:nvSpPr>
          <p:cNvPr id="3" name="PlaceHolder 2"/>
          <p:cNvSpPr>
            <a:spLocks noGrp="1"/>
          </p:cNvSpPr>
          <p:nvPr>
            <p:ph type="sldNum" idx="3"/>
          </p:nvPr>
        </p:nvSpPr>
        <p:spPr/>
        <p:txBody>
          <a:bodyPr/>
          <a:p>
            <a:fld id="{9CECC438-FCC7-4082-9EB1-F0709C13D6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70" name="PlaceHolder 2"/>
          <p:cNvSpPr>
            <a:spLocks noGrp="1"/>
          </p:cNvSpPr>
          <p:nvPr>
            <p:ph/>
          </p:nvPr>
        </p:nvSpPr>
        <p:spPr>
          <a:xfrm>
            <a:off x="914040" y="1599840"/>
            <a:ext cx="7467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ove si pone la persona assertiv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ersona assertiva si pone tra due tipologie di stili comunicativi e relazional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ra la persona </a:t>
            </a:r>
            <a:r>
              <a:rPr b="1" lang="it-IT" sz="3600" spc="-1" strike="noStrike">
                <a:solidFill>
                  <a:srgbClr val="000000"/>
                </a:solidFill>
                <a:latin typeface="Arial"/>
              </a:rPr>
              <a:t>passiva</a:t>
            </a:r>
            <a:r>
              <a:rPr b="0" lang="it-IT" sz="3600" spc="-1" strike="noStrike">
                <a:solidFill>
                  <a:srgbClr val="000000"/>
                </a:solidFill>
                <a:latin typeface="Arial"/>
              </a:rPr>
              <a:t> e la persona </a:t>
            </a:r>
            <a:r>
              <a:rPr b="1" lang="it-IT" sz="3600" spc="-1" strike="noStrike">
                <a:solidFill>
                  <a:srgbClr val="000000"/>
                </a:solidFill>
                <a:latin typeface="Arial"/>
              </a:rPr>
              <a:t>aggressiv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8ACC7BB-7C02-4C9B-90A7-331BAF306D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passiva:</a:t>
            </a:r>
            <a:endParaRPr b="0" lang="en-US" sz="4200" spc="-1" strike="noStrike">
              <a:solidFill>
                <a:srgbClr val="cc0000"/>
              </a:solidFill>
              <a:latin typeface="Times New Roman"/>
            </a:endParaRPr>
          </a:p>
        </p:txBody>
      </p:sp>
      <p:graphicFrame>
        <p:nvGraphicFramePr>
          <p:cNvPr id="172" name=""/>
          <p:cNvGraphicFramePr/>
          <p:nvPr/>
        </p:nvGraphicFramePr>
        <p:xfrm>
          <a:off x="900000" y="2060640"/>
          <a:ext cx="7772400" cy="401004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sso prova rabbia “repressa”. Ha paura.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264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ga, scarso coinvolgimento. A volte manipola gli altr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colpa e di svalutazione. Si autoesamina duramente e collega il suo valore di essere umano alla qualità delle sue prestazion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B9B4258-51DC-4A2E-8186-DD591A078F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ggressiva:</a:t>
            </a:r>
            <a:endParaRPr b="0" lang="en-US" sz="4200" spc="-1" strike="noStrike">
              <a:solidFill>
                <a:srgbClr val="cc0000"/>
              </a:solidFill>
              <a:latin typeface="Times New Roman"/>
            </a:endParaRPr>
          </a:p>
        </p:txBody>
      </p:sp>
      <p:graphicFrame>
        <p:nvGraphicFramePr>
          <p:cNvPr id="174" name=""/>
          <p:cNvGraphicFramePr/>
          <p:nvPr/>
        </p:nvGraphicFramePr>
        <p:xfrm>
          <a:off x="900000" y="2060640"/>
          <a:ext cx="7772400" cy="429588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spesso rabbia “esplosiva” e risentimento.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acca verbalmente e fisicamente l’interlocutore, è esageratamente competitivo. Invad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3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a che “o si attacca o si viene attaccati”. A volte Si sente in colpa dopo essere stato aggressivo. Collega il suo valore di essere umano ai risultati che riesce ad ottener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FA78EB4-3226-4544-A53A-704308270F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ssertiva:</a:t>
            </a:r>
            <a:endParaRPr b="0" lang="en-US" sz="4200" spc="-1" strike="noStrike">
              <a:solidFill>
                <a:srgbClr val="cc0000"/>
              </a:solidFill>
              <a:latin typeface="Times New Roman"/>
            </a:endParaRPr>
          </a:p>
        </p:txBody>
      </p:sp>
      <p:graphicFrame>
        <p:nvGraphicFramePr>
          <p:cNvPr id="176" name=""/>
          <p:cNvGraphicFramePr/>
          <p:nvPr/>
        </p:nvGraphicFramePr>
        <p:xfrm>
          <a:off x="914400" y="1752480"/>
          <a:ext cx="7772400" cy="4573440"/>
        </p:xfrm>
        <a:graphic>
          <a:graphicData uri="http://schemas.openxmlformats.org/drawingml/2006/table">
            <a:tbl>
              <a:tblPr/>
              <a:tblGrid>
                <a:gridCol w="3370320"/>
                <a:gridCol w="4402080"/>
              </a:tblGrid>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emozioni in modo misurato ed è in grado di controllarle attraverso i pensieri e i comportament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1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a il contatto con l’altro, ma sempre in modo da rispettar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3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autostima. E’ consapevole che ogni essere vivente va rispettato in quanto tale e non sulla base delle sue prestazion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0B1769A-E388-4455-B817-24E2A5DFBD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gnitivo-verbale</a:t>
            </a:r>
            <a:endParaRPr b="0" lang="en-US" sz="3800" spc="-1" strike="noStrike">
              <a:solidFill>
                <a:srgbClr val="cc0000"/>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chiara e dirett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prime onestamente le sue opinioni e sensazion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manipolativo.</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 di comprendere il messaggio dell’interlocutore.</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non comprende chiede chiarim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3DE3EB-0790-4464-A5F1-0275B186EE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mportamentale</a:t>
            </a:r>
            <a:endParaRPr b="0" lang="en-US" sz="3800" spc="-1" strike="noStrike">
              <a:solidFill>
                <a:srgbClr val="cc0000"/>
              </a:solidFill>
              <a:latin typeface="Times New Roman"/>
            </a:endParaRPr>
          </a:p>
        </p:txBody>
      </p:sp>
      <p:sp>
        <p:nvSpPr>
          <p:cNvPr id="180" name="PlaceHolder 2"/>
          <p:cNvSpPr>
            <a:spLocks noGrp="1"/>
          </p:cNvSpPr>
          <p:nvPr>
            <p:ph/>
          </p:nvPr>
        </p:nvSpPr>
        <p:spPr>
          <a:xfrm>
            <a:off x="761760" y="1904760"/>
            <a:ext cx="7924680" cy="4530600"/>
          </a:xfrm>
          <a:prstGeom prst="rect">
            <a:avLst/>
          </a:prstGeom>
          <a:noFill/>
          <a:ln w="0">
            <a:noFill/>
          </a:ln>
        </p:spPr>
        <p:txBody>
          <a:bodyPr lIns="90000" rIns="90000" tIns="46800" bIns="46800" anchor="t">
            <a:normAutofit/>
          </a:bodyPr>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ostura eretta.</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orpo è rivolto verso l’interlocutore.</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 comporta in modo da rispettare l’altro.</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0D315366-2627-4227-8906-4A8FA00AC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fisiologico</a:t>
            </a:r>
            <a:endParaRPr b="0" lang="en-US" sz="3800" spc="-1" strike="noStrike">
              <a:solidFill>
                <a:srgbClr val="cc0000"/>
              </a:solidFill>
              <a:latin typeface="Times New Roman"/>
            </a:endParaRPr>
          </a:p>
        </p:txBody>
      </p:sp>
      <p:sp>
        <p:nvSpPr>
          <p:cNvPr id="182"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enza di segnali d’ansia, quali battito cardiaco accelerato, sudorazione, tremori ecc.</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teme di esprimere dubbi e di fare richieste.</a:t>
            </a:r>
            <a:endParaRPr b="0" lang="en-US" sz="3200" spc="-1" strike="noStrike">
              <a:solidFill>
                <a:srgbClr val="000000"/>
              </a:solidFill>
              <a:latin typeface="Arial"/>
            </a:endParaRPr>
          </a:p>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mane tranquillo anche in situazioni ansiogene</a:t>
            </a:r>
            <a:r>
              <a:rPr b="0" lang="it-IT"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8784583-62EC-459C-BF99-7B7D93066A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onosci e analizza le caus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 le cause dello stress in una prospettiva corretta  e proficua</a:t>
            </a:r>
            <a:endParaRPr b="0" lang="en-US" sz="28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senza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bisogno dell’aiuto di un altro;</a:t>
            </a:r>
            <a:endParaRPr b="0" lang="en-US" sz="26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di coltivare pensieri e fantasie negative (dubbi, preoccupazioni, paur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re il lato costruttivo di tutte le co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26D6CF-0C4C-482C-A360-28D5058815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tenere una buona condizione fisica:</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Un adeguato ripos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imentazione sana e regol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ecniche di rilassa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trollo della respirazio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Recupero del contatto e dell’ascolto del proprio corp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ssualità gratificant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cedersi un breve intervallo di ripo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1BBD10F-22E3-4268-8F28-E5B103454E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porti interpersonali nutrient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uona organizzazione personale:</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abilisci obiettivi e fissa priorità</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pila tutti i giorni una lista di cose da f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incia da A e non da C</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hiediti spesso. “Qual è l’uso del mio tempo in questo mo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 cominci una cosa, portala a termi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Non procrastinar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CE37A59-489F-446C-B5A8-6CA0EE1A9D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graphicFrame>
        <p:nvGraphicFramePr>
          <p:cNvPr id="112" name=""/>
          <p:cNvGraphicFramePr/>
          <p:nvPr/>
        </p:nvGraphicFramePr>
        <p:xfrm>
          <a:off x="609480" y="1600200"/>
          <a:ext cx="8534520" cy="4583160"/>
        </p:xfrm>
        <a:graphic>
          <a:graphicData uri="http://schemas.openxmlformats.org/presentationml/2006/ole">
            <p:oleObj progId="Excel.Sheet.12" r:id="rId1" spid="">
              <p:embed/>
              <p:pic>
                <p:nvPicPr>
                  <p:cNvPr id="113" name="" descr=""/>
                  <p:cNvPicPr/>
                  <p:nvPr/>
                </p:nvPicPr>
                <p:blipFill>
                  <a:blip r:embed="rId2"/>
                  <a:stretch/>
                </p:blipFill>
                <p:spPr>
                  <a:xfrm>
                    <a:off x="609480" y="1600200"/>
                    <a:ext cx="8534520" cy="4583160"/>
                  </a:xfrm>
                  <a:prstGeom prst="rect">
                    <a:avLst/>
                  </a:prstGeom>
                  <a:ln w="0">
                    <a:noFill/>
                  </a:ln>
                </p:spPr>
              </p:pic>
            </p:oleObj>
          </a:graphicData>
        </a:graphic>
      </p:graphicFrame>
      <p:sp>
        <p:nvSpPr>
          <p:cNvPr id="3" name="PlaceHolder 2"/>
          <p:cNvSpPr>
            <a:spLocks noGrp="1"/>
          </p:cNvSpPr>
          <p:nvPr>
            <p:ph type="sldNum" idx="3"/>
          </p:nvPr>
        </p:nvSpPr>
        <p:spPr/>
        <p:txBody>
          <a:bodyPr/>
          <a:p>
            <a:fld id="{6EA39C3A-EC9E-4F75-9FCC-5951AE6B845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colto attivo</a:t>
            </a:r>
            <a:endParaRPr b="0" lang="en-US" sz="4200" spc="-1" strike="noStrike">
              <a:solidFill>
                <a:srgbClr val="cc0000"/>
              </a:solidFill>
              <a:latin typeface="Times New Roman"/>
            </a:endParaRPr>
          </a:p>
        </p:txBody>
      </p:sp>
      <p:sp>
        <p:nvSpPr>
          <p:cNvPr id="190"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ormulare domande aper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domande alle quali non si può rispondere sbrigativamente o con un si/no e, quindi, incoraggiano l’interlocutore a parlare e a rappresentare la propria situazio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aticare l’ascolto riflessivo</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colto riflessivo è la comunicazione di una ragionevole supposizione sul significato delle parole del cliente, restituita dall’operatore </a:t>
            </a:r>
            <a:r>
              <a:rPr b="1" lang="it-IT" sz="2400" spc="-1" strike="noStrike" u="sng">
                <a:solidFill>
                  <a:srgbClr val="000000"/>
                </a:solidFill>
                <a:uFillTx/>
                <a:latin typeface="Arial"/>
              </a:rPr>
              <a:t>sotto forma di afferm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94343B-A57C-40AB-9A28-C4ACAC5A2A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volgersi alla persona gius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egliere se agire in privato o in pubblico.</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testare verbalmente o con la mimic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umorismo di bassa lega e ironi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lasciare che il problema si consolidi.</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uovere una critica alla vol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domandare scu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4CF8F9-0030-4737-B975-72FD9B6746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l’uso di termini come “sempre” e “ma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sere concreti e precis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tere in risalto l’aspetto positivo della cos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scrivere le conseguenze negative dei problemi non risolt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lare soprattutto del problem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pretendere l’impossibile.</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pararsi ed esercitars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1A91A9-05EB-45D5-9949-0964BADCBD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icevere una critica</a:t>
            </a:r>
            <a:endParaRPr b="0" lang="en-US" sz="4200" spc="-1" strike="noStrike">
              <a:solidFill>
                <a:srgbClr val="cc0000"/>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venir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coltare con attenz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fiutare le etichet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iedere spiegazioni concre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re ai fatti la giusta dimens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ttare l’inevitabil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dividuare il vero problema.</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3CACC5-8893-40C9-8D20-0DFB39D3AC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Bibliografia utilizzata e consigliata</a:t>
            </a:r>
            <a:endParaRPr b="0" lang="en-US" sz="4200" spc="-1" strike="noStrike">
              <a:solidFill>
                <a:srgbClr val="cc0000"/>
              </a:solidFill>
              <a:latin typeface="Times New Roman"/>
            </a:endParaRPr>
          </a:p>
        </p:txBody>
      </p:sp>
      <p:sp>
        <p:nvSpPr>
          <p:cNvPr id="198" name="PlaceHolder 2"/>
          <p:cNvSpPr>
            <a:spLocks noGrp="1"/>
          </p:cNvSpPr>
          <p:nvPr>
            <p:ph/>
          </p:nvPr>
        </p:nvSpPr>
        <p:spPr>
          <a:xfrm>
            <a:off x="914400" y="1557000"/>
            <a:ext cx="7772400" cy="4824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berti R., Emmons M. (1999), ne hai il diritto, Calderini Ed, Bologn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1 (2000);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2 (2000);</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niele Novara, “Conflitti”, rivista Italiana di ricerca e formazione psicopedagogica, Piacenza www.cppp.it</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ian Paolo G. e aavv art. CMC(Centre for Motivation &amp; Change)italia http.//digilander.iol/cmcitalia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ller W. R., Rollnick S. “Il colloquio motivazionale” (1991) Ed EricKson, Trento</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rizia Rosso e AAVV. Appunti del  Corso LOGICOL S.R.L., Trieste</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by L. Wesley, Rn, Ph D. “Modelli e teorie infermieristiche” (1993) Ed Summa, Padov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omas Gordon, “Genitori Efficaci”,(1994) Ed La Meridiana, Bari</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ww.dronet.or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76F543-6022-49C2-8487-72B03D08FF60}"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infermiere segue in media 32 utenti in terapia sostitutiva,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questi si aggiungono tutti gli utenti in carico per controlli urinari (art. 75 e 121) ed esami ematochimici, e tutti gli utenti in fase riabilitativa o in terapia antagonista, o pazienti con patologie correlate alla tossicodipendenza, Pat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F92B63-3D20-4F31-8A39-E4097D99CD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i sono 5 Ser.T. del Veneto in cui non vi sono sistemi di sicurezza dove l’infermiere si sente sicuro, mentre vi sono dei Ser.T. in cui vi è il sistema di sicurezza ma l’infermiere che vi lavora percepisce insicurezz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3FA670-46DD-4424-B96F-DC5DEF687E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19" name=""/>
          <p:cNvGraphicFramePr/>
          <p:nvPr/>
        </p:nvGraphicFramePr>
        <p:xfrm>
          <a:off x="914400" y="1936800"/>
          <a:ext cx="7772400" cy="3855960"/>
        </p:xfrm>
        <a:graphic>
          <a:graphicData uri="http://schemas.openxmlformats.org/presentationml/2006/ole">
            <p:oleObj progId="Excel.Sheet.12" r:id="rId1" spid="">
              <p:embed/>
              <p:pic>
                <p:nvPicPr>
                  <p:cNvPr id="120" name="" descr=""/>
                  <p:cNvPicPr/>
                  <p:nvPr/>
                </p:nvPicPr>
                <p:blipFill>
                  <a:blip r:embed="rId2"/>
                  <a:stretch/>
                </p:blipFill>
                <p:spPr>
                  <a:xfrm>
                    <a:off x="914400" y="1936800"/>
                    <a:ext cx="7772400" cy="3855960"/>
                  </a:xfrm>
                  <a:prstGeom prst="rect">
                    <a:avLst/>
                  </a:prstGeom>
                  <a:ln w="0">
                    <a:noFill/>
                  </a:ln>
                </p:spPr>
              </p:pic>
            </p:oleObj>
          </a:graphicData>
        </a:graphic>
      </p:graphicFrame>
      <p:sp>
        <p:nvSpPr>
          <p:cNvPr id="3" name="PlaceHolder 2"/>
          <p:cNvSpPr>
            <a:spLocks noGrp="1"/>
          </p:cNvSpPr>
          <p:nvPr>
            <p:ph type="sldNum" idx="3"/>
          </p:nvPr>
        </p:nvSpPr>
        <p:spPr/>
        <p:txBody>
          <a:bodyPr/>
          <a:p>
            <a:fld id="{4D43DBEC-B919-4CEC-ABCA-07B1956EDC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2" name=""/>
          <p:cNvGraphicFramePr/>
          <p:nvPr/>
        </p:nvGraphicFramePr>
        <p:xfrm>
          <a:off x="324000" y="2077920"/>
          <a:ext cx="8820000" cy="4375440"/>
        </p:xfrm>
        <a:graphic>
          <a:graphicData uri="http://schemas.openxmlformats.org/presentationml/2006/ole">
            <p:oleObj progId="Excel.Sheet.12" r:id="rId1" spid="">
              <p:embed/>
              <p:pic>
                <p:nvPicPr>
                  <p:cNvPr id="123" name="" descr=""/>
                  <p:cNvPicPr/>
                  <p:nvPr/>
                </p:nvPicPr>
                <p:blipFill>
                  <a:blip r:embed="rId2"/>
                  <a:stretch/>
                </p:blipFill>
                <p:spPr>
                  <a:xfrm>
                    <a:off x="324000" y="2077920"/>
                    <a:ext cx="8820000" cy="4375440"/>
                  </a:xfrm>
                  <a:prstGeom prst="rect">
                    <a:avLst/>
                  </a:prstGeom>
                  <a:ln w="0">
                    <a:noFill/>
                  </a:ln>
                </p:spPr>
              </p:pic>
            </p:oleObj>
          </a:graphicData>
        </a:graphic>
      </p:graphicFrame>
      <p:sp>
        <p:nvSpPr>
          <p:cNvPr id="124"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DD1CC94-B2F4-4840-B0C8-C9BEB5E18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6" name=""/>
          <p:cNvGraphicFramePr/>
          <p:nvPr/>
        </p:nvGraphicFramePr>
        <p:xfrm>
          <a:off x="324000" y="2205000"/>
          <a:ext cx="8640720" cy="4286160"/>
        </p:xfrm>
        <a:graphic>
          <a:graphicData uri="http://schemas.openxmlformats.org/presentationml/2006/ole">
            <p:oleObj progId="Excel.Sheet.12" r:id="rId1" spid="">
              <p:embed/>
              <p:pic>
                <p:nvPicPr>
                  <p:cNvPr id="127" name="" descr=""/>
                  <p:cNvPicPr/>
                  <p:nvPr/>
                </p:nvPicPr>
                <p:blipFill>
                  <a:blip r:embed="rId2"/>
                  <a:stretch/>
                </p:blipFill>
                <p:spPr>
                  <a:xfrm>
                    <a:off x="324000" y="2205000"/>
                    <a:ext cx="8640720" cy="4286160"/>
                  </a:xfrm>
                  <a:prstGeom prst="rect">
                    <a:avLst/>
                  </a:prstGeom>
                  <a:ln w="0">
                    <a:noFill/>
                  </a:ln>
                </p:spPr>
              </p:pic>
            </p:oleObj>
          </a:graphicData>
        </a:graphic>
      </p:graphicFrame>
      <p:sp>
        <p:nvSpPr>
          <p:cNvPr id="128"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non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2067FD2-36E3-4863-902A-3CA5593201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3:02:48Z</dcterms:created>
  <dc:creator>roby</dc:creator>
  <dc:description/>
  <dc:language>en-US</dc:language>
  <cp:lastModifiedBy>roby</cp:lastModifiedBy>
  <dcterms:modified xsi:type="dcterms:W3CDTF">2003-11-27T17:44:39Z</dcterms:modified>
  <cp:revision>37</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