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AEE67-5A1E-453A-BC0C-2D03F2B1D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4183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1147E-D772-4FBA-9B90-A362F1AE0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183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4183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F179A-00F4-4DC2-B2B0-BACE8A201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4183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4183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4183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6CF57-5D61-44FB-8CF1-0B132FD131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44C2-E76F-482F-8F73-CF2204A99A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3649A-48BB-4E4F-9318-04704DBF4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F689D-C7DE-41D3-8013-A0F05D932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6324-F00B-4C3F-8C64-7B6DD9D1E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3805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EE8E1-98FD-491F-8F97-478E64372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4183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69476-9AD3-4A56-B9E0-E4DF8DD82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4183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16592-C72B-46EB-B79B-DD4370FB1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83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F7028-51C6-4E65-BED3-B81AB5372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6320"/>
            <a:ext cx="9144000" cy="1522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958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footer&gt;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© G. Serpelloni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129528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2B5B-CE2B-4FF9-942D-D0E057CA5DA7}" type="slidenum">
              <a:rPr b="1" lang="en-US" sz="2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5426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7200" spc="-1" strike="noStrike">
                <a:solidFill>
                  <a:srgbClr val="0000cc"/>
                </a:solidFill>
                <a:latin typeface="Tahoma"/>
              </a:rPr>
              <a:t>il Dipartimento </a:t>
            </a:r>
            <a:br>
              <a:rPr sz="7200"/>
            </a:br>
            <a:r>
              <a:rPr b="1" lang="en-US" sz="7200" spc="-1" strike="noStrike">
                <a:solidFill>
                  <a:srgbClr val="0000cc"/>
                </a:solidFill>
                <a:latin typeface="Tahoma"/>
              </a:rPr>
              <a:t>delle Dipendenze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4072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oma 9 giugno 200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residenza Consiglio dei Ministri - Palazzo Chig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Giovanni Serpellon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2608560" y="533520"/>
            <a:ext cx="39268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zi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 sistemi assistenziali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entati al TQM: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D9370-277C-483C-986D-36732F48501A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ZIONE</a:t>
            </a: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sempio della costruzione di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765440"/>
            <a:ext cx="3917880" cy="364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rietario singo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ole famiglia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nto di vista unico (salvo mogli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ti specific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7320" y="1765440"/>
            <a:ext cx="3916440" cy="364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CONDOMIN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Multi propriet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egolamanto di condominio (punti di vista divers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ntenti complessiv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095880"/>
            <a:ext cx="3429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tà Organizz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6095880"/>
            <a:ext cx="3429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AR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2133000" y="541008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6095880" y="5410080"/>
            <a:ext cx="5335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5181480"/>
            <a:ext cx="1014480" cy="938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086600" y="5105520"/>
            <a:ext cx="1066680" cy="1049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DC52D-443C-480E-AC5A-09C4C510C0D7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0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ZIONE</a:t>
            </a: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 3 aspetti principali da definire, formalizzare e condividere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2155320"/>
            <a:ext cx="2911680" cy="463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47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ION GENER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entamento strategico gener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pretazione della patologia e del fenomeno da prevenire e trattare (fattori determinant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zioni di politica sanita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55760" y="2155320"/>
            <a:ext cx="2909880" cy="463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47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ORGANIZZA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istema delle responsabilit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Organigram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Funzionigram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nterdipendenz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istema di budget (Obiettivi &amp; Risors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1754280"/>
            <a:ext cx="3808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57800" y="2152800"/>
            <a:ext cx="2909880" cy="463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6920" indent="-185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C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85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 7 processi principal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tt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itoraggio e valu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venzione e gestione delle urgen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venzione e gestione patologie corre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sferime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missio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85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ee guida e protocol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85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iteri di qua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1754280"/>
            <a:ext cx="3808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1754280"/>
            <a:ext cx="38124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3D517-ECF9-44E9-94CF-BF019C9F679B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71880" y="3032280"/>
            <a:ext cx="83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isogni – Offerte – Organizz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445F8-5564-48EA-AA8B-AE654D129884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66688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029200"/>
            <a:ext cx="9144000" cy="19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57200"/>
            <a:ext cx="914400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762120"/>
            <a:ext cx="0" cy="6056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1600" y="582624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tà Mobil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rator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 s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33400" y="582624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n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38560" y="582624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9" idx="3"/>
            <a:endCxn id="120" idx="1"/>
          </p:cNvCxnSpPr>
          <p:nvPr/>
        </p:nvCxnSpPr>
        <p:spPr>
          <a:xfrm>
            <a:off x="1369800" y="6244920"/>
            <a:ext cx="36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0" idx="3"/>
            <a:endCxn id="121" idx="1"/>
          </p:cNvCxnSpPr>
          <p:nvPr/>
        </p:nvCxnSpPr>
        <p:spPr>
          <a:xfrm>
            <a:off x="2901600" y="62449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4743360" y="582624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mi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4406400" y="62449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248520" y="582624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3"/>
            <a:endCxn id="126" idx="1"/>
          </p:cNvCxnSpPr>
          <p:nvPr/>
        </p:nvCxnSpPr>
        <p:spPr>
          <a:xfrm>
            <a:off x="5911560" y="62449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7772400" y="582624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6" idx="3"/>
            <a:endCxn id="128" idx="1"/>
          </p:cNvCxnSpPr>
          <p:nvPr/>
        </p:nvCxnSpPr>
        <p:spPr>
          <a:xfrm>
            <a:off x="7416720" y="624492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3048120" y="563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6000" y="342576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Opzioni 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Preven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Primary Heal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47800" y="342576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ssistenza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ondizion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urgenz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onten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52960" y="342576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rap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rmacolog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ppor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pecialis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1" idx="3"/>
            <a:endCxn id="132" idx="1"/>
          </p:cNvCxnSpPr>
          <p:nvPr/>
        </p:nvCxnSpPr>
        <p:spPr>
          <a:xfrm>
            <a:off x="1384200" y="3844440"/>
            <a:ext cx="364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2" idx="3"/>
            <a:endCxn id="133" idx="1"/>
          </p:cNvCxnSpPr>
          <p:nvPr/>
        </p:nvCxnSpPr>
        <p:spPr>
          <a:xfrm>
            <a:off x="2916000" y="384444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757760" y="342576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ve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iabilitati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3" idx="3"/>
            <a:endCxn id="136" idx="1"/>
          </p:cNvCxnSpPr>
          <p:nvPr/>
        </p:nvCxnSpPr>
        <p:spPr>
          <a:xfrm>
            <a:off x="4420800" y="384444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6262560" y="342576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nterve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riabilitati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e conteniti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6" idx="3"/>
            <a:endCxn id="138" idx="1"/>
          </p:cNvCxnSpPr>
          <p:nvPr/>
        </p:nvCxnSpPr>
        <p:spPr>
          <a:xfrm>
            <a:off x="5925600" y="384444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7786800" y="342576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gramm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ciale 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vo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8" idx="3"/>
            <a:endCxn id="140" idx="1"/>
          </p:cNvCxnSpPr>
          <p:nvPr/>
        </p:nvCxnSpPr>
        <p:spPr>
          <a:xfrm>
            <a:off x="7431120" y="384444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3086280" y="38480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10484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 Prevenzi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overdos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 prime 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60400" y="110484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Urgenz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onten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65560" y="110484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ind. Astin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Pat. Interni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Desiderio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mettere“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3" idx="3"/>
            <a:endCxn id="144" idx="1"/>
          </p:cNvCxnSpPr>
          <p:nvPr/>
        </p:nvCxnSpPr>
        <p:spPr>
          <a:xfrm>
            <a:off x="1396800" y="1523520"/>
            <a:ext cx="36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4" idx="3"/>
            <a:endCxn id="145" idx="1"/>
          </p:cNvCxnSpPr>
          <p:nvPr/>
        </p:nvCxnSpPr>
        <p:spPr>
          <a:xfrm>
            <a:off x="2928600" y="15235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4770360" y="110484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vilupp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utonomia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ilità social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5" idx="3"/>
            <a:endCxn id="148" idx="1"/>
          </p:cNvCxnSpPr>
          <p:nvPr/>
        </p:nvCxnSpPr>
        <p:spPr>
          <a:xfrm>
            <a:off x="4433400" y="15235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6275520" y="110484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vilupp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utonomia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ilità soci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8" idx="3"/>
            <a:endCxn id="150" idx="1"/>
          </p:cNvCxnSpPr>
          <p:nvPr/>
        </p:nvCxnSpPr>
        <p:spPr>
          <a:xfrm>
            <a:off x="5938560" y="15235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52320" y="749160"/>
            <a:ext cx="32076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0840" y="749160"/>
            <a:ext cx="32076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45080" y="749160"/>
            <a:ext cx="32040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08480" y="749160"/>
            <a:ext cx="32076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32720" y="749160"/>
            <a:ext cx="32040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99400" y="110484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ciale 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vo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82160" y="752400"/>
            <a:ext cx="32040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0" idx="3"/>
            <a:endCxn id="157" idx="1"/>
          </p:cNvCxnSpPr>
          <p:nvPr/>
        </p:nvCxnSpPr>
        <p:spPr>
          <a:xfrm>
            <a:off x="7443720" y="152352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3111480" y="1527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46320" y="213372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etossific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77880" y="750960"/>
            <a:ext cx="0" cy="6056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762120"/>
            <a:ext cx="0" cy="6056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762120"/>
            <a:ext cx="0" cy="6056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0120" y="762120"/>
            <a:ext cx="0" cy="6056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00" y="259092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MultiOff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600" y="21924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so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46320" y="5257800"/>
            <a:ext cx="1739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Unità di </a:t>
            </a: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detossificazion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445788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etossific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5257800"/>
            <a:ext cx="4952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dici di Medicina Gene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0080" y="4876920"/>
            <a:ext cx="49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ganizzazione dipartimen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D3626-5E50-4D04-8A4E-25E072DFAFF0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zio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IPART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zazione costituita da varie unità operative con forti interdipendenze tecnico-funzionali che perseguono, in maniera coordinata,  finalità com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to da regole chiare, formali, condivise e conosciute dai partecip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 può definire in diverse tipologi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UNZIONALE – coordinamento tecnico funzionale, non gerarchizz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LE – gerarchizzante, gestione delle risorse centralizzata con allocazione sulle U.O. di tipo budget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A (Mista) – funzionale nei confronti delle U.O. extraaziendale e Strutturale VS U.O. intraaziend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A750-E483-48FB-8E76-CE4FEE0AAC97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zio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IPART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MA CONSIGLI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A (Mist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zionale VS U.O. extraaziend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le VS U.O. intraaziend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AF1D7-3B1E-4AD8-AD2D-74C8CDF934FE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ota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ipartimento delle dipenden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tità nosografica autono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on inglobato in altre realtà organizzative (es. dip. Psichiatr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aggior specializz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sponsabilità chi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corsi di carriera non intersec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ordinato con distretti e altri dipartim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346ED-E6AA-46B7-AF53-6F61F457DB72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258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6 Finalità principali del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IPART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5680" y="1666800"/>
            <a:ext cx="2666880" cy="1524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 allineare le U.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 i processi d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agnosi e Tratt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tazione risult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51160" y="1666800"/>
            <a:ext cx="2666880" cy="1524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ment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’accessibilità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tempestività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46640" y="1666800"/>
            <a:ext cx="2667240" cy="1524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curar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inuit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stenz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1440" y="3419640"/>
            <a:ext cx="2667240" cy="15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lare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timizz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sp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85960" y="3419640"/>
            <a:ext cx="2666880" cy="15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rantire u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tazione co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lla qualità de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st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 dei risult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36760" y="5148360"/>
            <a:ext cx="2667240" cy="15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are in m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rtato le attiv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l terri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B3286-FD8B-4FED-9848-706B5344A790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1600" y="129528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tà Mobil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rator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 s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33400" y="129528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n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38560" y="129528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6" idx="3"/>
            <a:endCxn id="187" idx="1"/>
          </p:cNvCxnSpPr>
          <p:nvPr/>
        </p:nvCxnSpPr>
        <p:spPr>
          <a:xfrm>
            <a:off x="1369800" y="1714320"/>
            <a:ext cx="36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7" idx="3"/>
            <a:endCxn id="188" idx="1"/>
          </p:cNvCxnSpPr>
          <p:nvPr/>
        </p:nvCxnSpPr>
        <p:spPr>
          <a:xfrm>
            <a:off x="2901600" y="17143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743360" y="129528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mi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8" idx="3"/>
            <a:endCxn id="191" idx="1"/>
          </p:cNvCxnSpPr>
          <p:nvPr/>
        </p:nvCxnSpPr>
        <p:spPr>
          <a:xfrm>
            <a:off x="4406400" y="17143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248520" y="129528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1" idx="3"/>
            <a:endCxn id="193" idx="1"/>
          </p:cNvCxnSpPr>
          <p:nvPr/>
        </p:nvCxnSpPr>
        <p:spPr>
          <a:xfrm>
            <a:off x="5911560" y="17143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7772400" y="129528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3" idx="3"/>
            <a:endCxn id="195" idx="1"/>
          </p:cNvCxnSpPr>
          <p:nvPr/>
        </p:nvCxnSpPr>
        <p:spPr>
          <a:xfrm>
            <a:off x="7416720" y="171432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2133720" y="2327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Unità di </a:t>
            </a: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detossificazion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048120" y="17175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77400" y="425520"/>
            <a:ext cx="73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rganizzazione Dipartiment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4343400" y="-1025640"/>
            <a:ext cx="457200" cy="8839440"/>
          </a:xfrm>
          <a:custGeom>
            <a:avLst/>
            <a:gdLst>
              <a:gd name="textAreaLeft" fmla="*/ 0 w 457200"/>
              <a:gd name="textAreaRight" fmla="*/ 164880 w 457200"/>
              <a:gd name="textAreaTop" fmla="*/ 230400 h 8839440"/>
              <a:gd name="textAreaBottom" fmla="*/ 8609040 h 883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61"/>
                </a:lnTo>
                <a:cubicBezTo>
                  <a:pt x="10800" y="9861"/>
                  <a:pt x="16200" y="10761"/>
                  <a:pt x="21600" y="10761"/>
                </a:cubicBezTo>
                <a:cubicBezTo>
                  <a:pt x="16200" y="10761"/>
                  <a:pt x="10800" y="11661"/>
                  <a:pt x="10800" y="1256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774960"/>
            <a:ext cx="2286000" cy="2210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76720" y="3971880"/>
            <a:ext cx="82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07988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RARCH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2992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52992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UTONOM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407988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PONSABILIT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468936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RIT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95280" y="468936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TE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CESSITA’ DI CONCER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30EEA-1E08-47FF-B6AF-C3D01FC02B5D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ali Aree di concertazione e defini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27008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iteri 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38600" y="127008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ces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istenzi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81560" y="127008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stemi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lu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24520" y="127008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iteri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mi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2057400"/>
            <a:ext cx="0" cy="366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2444760"/>
            <a:ext cx="0" cy="328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24447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2057400"/>
            <a:ext cx="0" cy="366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3087720"/>
            <a:ext cx="70898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740040"/>
            <a:ext cx="7080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425840"/>
            <a:ext cx="710100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5111640"/>
            <a:ext cx="708660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213372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nit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040" y="2903400"/>
            <a:ext cx="145152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Pronta acc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2560" y="3546360"/>
            <a:ext cx="13100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Sert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520" y="4232160"/>
            <a:ext cx="14292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munità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640" y="4917960"/>
            <a:ext cx="15692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inser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8465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28591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28591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0800" y="35114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35114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35114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41972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41972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41972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48830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48830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48830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4876560" y="2384280"/>
            <a:ext cx="304920" cy="6858000"/>
          </a:xfrm>
          <a:custGeom>
            <a:avLst/>
            <a:gdLst>
              <a:gd name="textAreaLeft" fmla="*/ 0 w 304920"/>
              <a:gd name="textAreaRight" fmla="*/ 110160 w 304920"/>
              <a:gd name="textAreaTop" fmla="*/ 178560 h 6858000"/>
              <a:gd name="textAreaBottom" fmla="*/ 667944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35053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41911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28526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48769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1882800"/>
            <a:ext cx="14475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Criteridiagnosti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2184480"/>
            <a:ext cx="14475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rattame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1887480"/>
            <a:ext cx="14479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dicato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2184480"/>
            <a:ext cx="14479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rume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67480" y="1270080"/>
            <a:ext cx="152424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stema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inanz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467480" y="1879560"/>
            <a:ext cx="14479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tità e qu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67480" y="2176560"/>
            <a:ext cx="14479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sponsabilit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229600" y="2449440"/>
            <a:ext cx="0" cy="32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001000" y="286380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01000" y="351648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01000" y="420228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01000" y="488808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7150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itato Operativo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nucleo ristretto di programmazione concerta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6720" y="5838840"/>
            <a:ext cx="1364760" cy="9464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istema del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sponsabil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sset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rganizz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5400000">
            <a:off x="685440" y="480708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1879560"/>
            <a:ext cx="13716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riteri S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1881360"/>
            <a:ext cx="14479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riteri S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CF2E7-F43B-4D37-BBC4-FD27992BD400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d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concetto di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sogni – Offerte – Organizz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reditamento: principi 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’obbligo dei sistemi di Valutazione dei risult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tazione dell’out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partimento delle Dipendenze e rapporti con il Distret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B95A1-B444-4404-90F6-499C459F57B8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ziazione degli ambienti di erogazione e dei processi assistenzia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3246480" y="224316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Cannabi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exst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89440" y="224316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cai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32400" y="224316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roi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08600" y="2892600"/>
            <a:ext cx="12600" cy="343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520960" y="2901960"/>
            <a:ext cx="11160" cy="357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80400" y="290196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432160" y="3349440"/>
            <a:ext cx="5341680" cy="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2160" y="4341960"/>
            <a:ext cx="53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432160" y="5297400"/>
            <a:ext cx="534168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432160" y="6296040"/>
            <a:ext cx="533880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2538360"/>
            <a:ext cx="121932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84160" y="3171960"/>
            <a:ext cx="143352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unior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83080" y="4148280"/>
            <a:ext cx="141516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enior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08560" y="5111640"/>
            <a:ext cx="15570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exsperienc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81920" y="6108840"/>
            <a:ext cx="165888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madrebamb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51800" y="4113360"/>
            <a:ext cx="457200" cy="14173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417320"/>
              <a:gd name="textAreaBottom" fmla="*/ 1395000 h 1417320"/>
            </a:gdLst>
            <a:ahLst/>
            <a:rect l="textAreaLeft" t="textAreaTop" r="textAreaRight" b="textAreaBottom"/>
            <a:pathLst>
              <a:path w="21600" h="66924">
                <a:moveTo>
                  <a:pt x="3600" y="0"/>
                </a:moveTo>
                <a:arcTo wR="3600" hR="3600" stAng="16200000" swAng="-5400000"/>
                <a:lnTo>
                  <a:pt x="0" y="63324"/>
                </a:lnTo>
                <a:arcTo wR="3600" hR="3600" stAng="10800000" swAng="-5400000"/>
                <a:lnTo>
                  <a:pt x="18000" y="66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757680" y="3127320"/>
            <a:ext cx="2003400" cy="1443240"/>
            <a:chOff x="3757680" y="3127320"/>
            <a:chExt cx="2003400" cy="1443240"/>
          </a:xfrm>
        </p:grpSpPr>
        <p:sp>
          <p:nvSpPr>
            <p:cNvPr id="280" name=""/>
            <p:cNvSpPr/>
            <p:nvPr/>
          </p:nvSpPr>
          <p:spPr>
            <a:xfrm>
              <a:off x="3760920" y="3127320"/>
              <a:ext cx="2000160" cy="4572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57680" y="3141720"/>
              <a:ext cx="457200" cy="142884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1428840"/>
                <a:gd name="textAreaBottom" fmla="*/ 1406520 h 1428840"/>
              </a:gdLst>
              <a:ahLst/>
              <a:rect l="textAreaLeft" t="textAreaTop" r="textAreaRight" b="textAreaBottom"/>
              <a:pathLst>
                <a:path w="21600" h="67468">
                  <a:moveTo>
                    <a:pt x="3600" y="0"/>
                  </a:moveTo>
                  <a:arcTo wR="3600" hR="3600" stAng="16200000" swAng="-5400000"/>
                  <a:lnTo>
                    <a:pt x="0" y="63868"/>
                  </a:lnTo>
                  <a:arcTo wR="3600" hR="3600" stAng="10800000" swAng="-5400000"/>
                  <a:lnTo>
                    <a:pt x="18000" y="674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751800" y="312120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51800" y="60674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1522440"/>
            <a:ext cx="1447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stanz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765240" y="4068360"/>
            <a:ext cx="2003400" cy="1443240"/>
            <a:chOff x="3765240" y="4068360"/>
            <a:chExt cx="2003400" cy="1443240"/>
          </a:xfrm>
        </p:grpSpPr>
        <p:sp>
          <p:nvSpPr>
            <p:cNvPr id="286" name=""/>
            <p:cNvSpPr/>
            <p:nvPr/>
          </p:nvSpPr>
          <p:spPr>
            <a:xfrm flipH="1" flipV="1">
              <a:off x="3765240" y="5054400"/>
              <a:ext cx="2000160" cy="4572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5311440" y="4068000"/>
              <a:ext cx="457200" cy="142884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1428840"/>
                <a:gd name="textAreaBottom" fmla="*/ 1406520 h 1428840"/>
              </a:gdLst>
              <a:ahLst/>
              <a:rect l="textAreaLeft" t="textAreaTop" r="textAreaRight" b="textAreaBottom"/>
              <a:pathLst>
                <a:path w="21600" h="67468">
                  <a:moveTo>
                    <a:pt x="3600" y="0"/>
                  </a:moveTo>
                  <a:arcTo wR="3600" hR="3600" stAng="16200000" swAng="-5400000"/>
                  <a:lnTo>
                    <a:pt x="0" y="63868"/>
                  </a:lnTo>
                  <a:arcTo wR="3600" hR="3600" stAng="10800000" swAng="-5400000"/>
                  <a:lnTo>
                    <a:pt x="18000" y="674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803760" y="609588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5450040" y="-304560"/>
            <a:ext cx="149040" cy="4648320"/>
          </a:xfrm>
          <a:custGeom>
            <a:avLst/>
            <a:gdLst>
              <a:gd name="textAreaLeft" fmla="*/ 0 w 149040"/>
              <a:gd name="textAreaRight" fmla="*/ 53640 w 14904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B1FB3-6A48-48BC-AA4C-FD43C10FC941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struttura organizzativa dipartiment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066680" y="1143000"/>
            <a:ext cx="8001000" cy="5676480"/>
            <a:chOff x="1066680" y="1143000"/>
            <a:chExt cx="8001000" cy="5676480"/>
          </a:xfrm>
        </p:grpSpPr>
        <p:grpSp>
          <p:nvGrpSpPr>
            <p:cNvPr id="292" name=""/>
            <p:cNvGrpSpPr/>
            <p:nvPr/>
          </p:nvGrpSpPr>
          <p:grpSpPr>
            <a:xfrm>
              <a:off x="1066680" y="1143000"/>
              <a:ext cx="8001000" cy="1523880"/>
              <a:chOff x="1066680" y="1143000"/>
              <a:chExt cx="8001000" cy="152388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1066680" y="1143000"/>
                <a:ext cx="6705720" cy="1523880"/>
                <a:chOff x="1066680" y="1143000"/>
                <a:chExt cx="6705720" cy="15238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066680" y="1143000"/>
                  <a:ext cx="6705720" cy="1523880"/>
                </a:xfrm>
                <a:prstGeom prst="rect">
                  <a:avLst/>
                </a:prstGeom>
                <a:solidFill>
                  <a:srgbClr val="00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038480" y="1295280"/>
                  <a:ext cx="1600200" cy="642600"/>
                </a:xfrm>
                <a:prstGeom prst="rect">
                  <a:avLst/>
                </a:prstGeom>
                <a:solidFill>
                  <a:srgbClr val="0000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Direzione Genera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019920" y="1600200"/>
                  <a:ext cx="1600200" cy="642600"/>
                </a:xfrm>
                <a:prstGeom prst="rect">
                  <a:avLst/>
                </a:prstGeom>
                <a:solidFill>
                  <a:srgbClr val="0000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Direzione Sanitari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57400" y="1635120"/>
                  <a:ext cx="1600200" cy="642600"/>
                </a:xfrm>
                <a:prstGeom prst="rect">
                  <a:avLst/>
                </a:prstGeom>
                <a:solidFill>
                  <a:srgbClr val="0000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ffffff"/>
                      </a:solidFill>
                      <a:latin typeface="Tahoma"/>
                    </a:rPr>
                    <a:t>Direzione Serv. Social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066680" y="1143000"/>
                  <a:ext cx="22100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ahoma"/>
                    </a:rPr>
                    <a:t>PROGRAMMAZIONE STRATEG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657600" y="1752480"/>
                  <a:ext cx="38088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638680" y="1752480"/>
                  <a:ext cx="38124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7772400" y="1219320"/>
                <a:ext cx="129528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buClr>
                    <a:srgbClr val="ffffff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llineamento con gli obiettivi Regional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066680" y="2819520"/>
              <a:ext cx="7848720" cy="1828800"/>
              <a:chOff x="1066680" y="2819520"/>
              <a:chExt cx="7848720" cy="1828800"/>
            </a:xfrm>
          </p:grpSpPr>
          <p:sp>
            <p:nvSpPr>
              <p:cNvPr id="303" name=""/>
              <p:cNvSpPr/>
              <p:nvPr/>
            </p:nvSpPr>
            <p:spPr>
              <a:xfrm>
                <a:off x="1066680" y="2819520"/>
                <a:ext cx="5181840" cy="1828800"/>
              </a:xfrm>
              <a:prstGeom prst="rect">
                <a:avLst/>
              </a:prstGeom>
              <a:solidFill>
                <a:srgbClr val="00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657600" y="3657600"/>
                <a:ext cx="2362320" cy="785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Comitat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Operativ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800600" y="3124080"/>
                <a:ext cx="0" cy="533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48520" y="3657600"/>
                <a:ext cx="266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trutture specialistiche TD  con attività prevalenti su T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66680" y="2835360"/>
                <a:ext cx="221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PROGRAMMAZIONE OPERATIVA  E COORDINAMENT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066680" y="4419720"/>
              <a:ext cx="7925040" cy="1590840"/>
              <a:chOff x="1066680" y="4419720"/>
              <a:chExt cx="7925040" cy="1590840"/>
            </a:xfrm>
          </p:grpSpPr>
          <p:sp>
            <p:nvSpPr>
              <p:cNvPr id="309" name=""/>
              <p:cNvSpPr/>
              <p:nvPr/>
            </p:nvSpPr>
            <p:spPr>
              <a:xfrm>
                <a:off x="1066680" y="4724280"/>
                <a:ext cx="5181840" cy="1219320"/>
              </a:xfrm>
              <a:prstGeom prst="rect">
                <a:avLst/>
              </a:prstGeom>
              <a:solidFill>
                <a:srgbClr val="00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57600" y="5002200"/>
                <a:ext cx="2362320" cy="785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Comitat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Allarga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00600" y="4419720"/>
                <a:ext cx="0" cy="5331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324480" y="4952880"/>
                <a:ext cx="2667240" cy="105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trutture non specialistiche o   con attività non prevalenti su T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Volontariat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066680" y="4740120"/>
                <a:ext cx="2210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CONSULTAZIONE E CONCERTAZIO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2666880" y="5791320"/>
              <a:ext cx="4419720" cy="1028160"/>
              <a:chOff x="2666880" y="5791320"/>
              <a:chExt cx="4419720" cy="1028160"/>
            </a:xfrm>
          </p:grpSpPr>
          <p:sp>
            <p:nvSpPr>
              <p:cNvPr id="315" name=""/>
              <p:cNvSpPr/>
              <p:nvPr/>
            </p:nvSpPr>
            <p:spPr>
              <a:xfrm>
                <a:off x="2666880" y="6176880"/>
                <a:ext cx="4419720" cy="642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Gruppi di lavoro per temi e Collaborazion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800600" y="5791320"/>
                <a:ext cx="0" cy="380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819520" y="2286000"/>
              <a:ext cx="5790960" cy="840600"/>
              <a:chOff x="2819520" y="2286000"/>
              <a:chExt cx="5790960" cy="84060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2819520" y="2286000"/>
                <a:ext cx="4038480" cy="829800"/>
                <a:chOff x="2819520" y="2286000"/>
                <a:chExt cx="4038480" cy="8298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657600" y="2473200"/>
                  <a:ext cx="2362320" cy="6426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Ufficio di Direzione   e Coordinamen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819520" y="2286000"/>
                  <a:ext cx="0" cy="4572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858000" y="2286000"/>
                  <a:ext cx="0" cy="4572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819520" y="2743200"/>
                  <a:ext cx="8380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019920" y="2743200"/>
                  <a:ext cx="8380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6324480" y="2819520"/>
                <a:ext cx="228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iretto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735FE-351D-42E0-A28F-4B6A4111ABA2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ncipali Component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04920" y="1371600"/>
            <a:ext cx="8305560" cy="5617800"/>
            <a:chOff x="304920" y="1371600"/>
            <a:chExt cx="8305560" cy="5617800"/>
          </a:xfrm>
        </p:grpSpPr>
        <p:grpSp>
          <p:nvGrpSpPr>
            <p:cNvPr id="327" name=""/>
            <p:cNvGrpSpPr/>
            <p:nvPr/>
          </p:nvGrpSpPr>
          <p:grpSpPr>
            <a:xfrm>
              <a:off x="457200" y="1371600"/>
              <a:ext cx="8152920" cy="2216160"/>
              <a:chOff x="457200" y="1371600"/>
              <a:chExt cx="8152920" cy="2216160"/>
            </a:xfrm>
          </p:grpSpPr>
          <p:sp>
            <p:nvSpPr>
              <p:cNvPr id="328" name=""/>
              <p:cNvSpPr/>
              <p:nvPr/>
            </p:nvSpPr>
            <p:spPr>
              <a:xfrm>
                <a:off x="4495680" y="2597040"/>
                <a:ext cx="0" cy="990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457200" y="1371600"/>
                <a:ext cx="8152920" cy="1380600"/>
                <a:chOff x="457200" y="1371600"/>
                <a:chExt cx="8152920" cy="1380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3352680" y="1758960"/>
                  <a:ext cx="2361600" cy="8254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Comitato Operativ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57200" y="1758960"/>
                  <a:ext cx="2361960" cy="45972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Ser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57200" y="2282760"/>
                  <a:ext cx="2361960" cy="45972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Alcologi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248160" y="1758960"/>
                  <a:ext cx="2361960" cy="45972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ffffff"/>
                      </a:solidFill>
                      <a:latin typeface="Tahoma"/>
                    </a:rPr>
                    <a:t>Comunità Ter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248160" y="2292480"/>
                  <a:ext cx="2361960" cy="45972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Enti local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819160" y="1987560"/>
                  <a:ext cx="533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714640" y="1987560"/>
                  <a:ext cx="533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714640" y="2444760"/>
                  <a:ext cx="533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819160" y="2444760"/>
                  <a:ext cx="533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124080" y="1371600"/>
                  <a:ext cx="1066320" cy="3373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I livell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304920" y="4425840"/>
              <a:ext cx="8305560" cy="2563560"/>
              <a:chOff x="304920" y="4425840"/>
              <a:chExt cx="8305560" cy="2563560"/>
            </a:xfrm>
          </p:grpSpPr>
          <p:sp>
            <p:nvSpPr>
              <p:cNvPr id="341" name=""/>
              <p:cNvSpPr/>
              <p:nvPr/>
            </p:nvSpPr>
            <p:spPr>
              <a:xfrm>
                <a:off x="3352680" y="5432400"/>
                <a:ext cx="2361600" cy="1557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Gruppi di lavoro per temi e collaborazion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6840" y="541656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Prefettura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6840" y="5934240"/>
                <a:ext cx="2361960" cy="39888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ahoma"/>
                  </a:rPr>
                  <a:t>Tribunale - CSSA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248160" y="542592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Carcere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248160" y="5950080"/>
                <a:ext cx="2361960" cy="39888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ahoma"/>
                  </a:rPr>
                  <a:t>Forze dell’Ordine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95680" y="4425840"/>
                <a:ext cx="0" cy="990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819160" y="56451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4640" y="56451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819160" y="61023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714640" y="617868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124080" y="5029200"/>
                <a:ext cx="106632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III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 livell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4920" y="4876920"/>
                <a:ext cx="830556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57200" y="3200400"/>
              <a:ext cx="8152920" cy="1395720"/>
              <a:chOff x="457200" y="3200400"/>
              <a:chExt cx="8152920" cy="1395720"/>
            </a:xfrm>
          </p:grpSpPr>
          <p:sp>
            <p:nvSpPr>
              <p:cNvPr id="354" name=""/>
              <p:cNvSpPr/>
              <p:nvPr/>
            </p:nvSpPr>
            <p:spPr>
              <a:xfrm>
                <a:off x="3352680" y="3594240"/>
                <a:ext cx="2361600" cy="825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Comitato Allargato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57200" y="3587760"/>
                <a:ext cx="2361960" cy="1008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Ospedale: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reparti               unità di emergenz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48160" y="358776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Scuol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714640" y="39686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819160" y="39686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124080" y="3200400"/>
                <a:ext cx="106632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II livell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248160" y="411480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Volontaria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14640" y="426708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05BE-3EB0-493E-B2E6-6F39326232B4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mitato Operativo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ucleo ristretto di programmazione concert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380880" y="1940040"/>
          <a:ext cx="8382240" cy="4824360"/>
        </p:xfrm>
        <a:graphic>
          <a:graphicData uri="http://schemas.openxmlformats.org/drawingml/2006/table">
            <a:tbl>
              <a:tblPr/>
              <a:tblGrid>
                <a:gridCol w="2887920"/>
                <a:gridCol w="549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onent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iti princip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442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unità terapeuti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rv. di Alcolog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un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……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mazione concertata delle attività territoriali nelle aree: prevenzione, cura e riabilit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esura del piano di intervento loca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inizione dell’uso delle riso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mazione delle attività di formazione perman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859F9-A61F-44BE-84F2-13272153B690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tre Component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l Comitato allarga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33520" y="1752480"/>
            <a:ext cx="8153280" cy="4703040"/>
            <a:chOff x="533520" y="1752480"/>
            <a:chExt cx="8153280" cy="4703040"/>
          </a:xfrm>
        </p:grpSpPr>
        <p:sp>
          <p:nvSpPr>
            <p:cNvPr id="366" name=""/>
            <p:cNvSpPr/>
            <p:nvPr/>
          </p:nvSpPr>
          <p:spPr>
            <a:xfrm>
              <a:off x="3429000" y="2146320"/>
              <a:ext cx="2362320" cy="825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omitato Allarga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3520" y="2139840"/>
              <a:ext cx="2361960" cy="1008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ahoma"/>
                </a:rPr>
                <a:t>Ospedale:  </a:t>
              </a:r>
              <a:r>
                <a:rPr b="0" lang="en-US" sz="1800" spc="-1" strike="noStrike">
                  <a:solidFill>
                    <a:srgbClr val="dddddd"/>
                  </a:solidFill>
                  <a:latin typeface="Tahoma"/>
                </a:rPr>
                <a:t>reparti            pronto soccor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24480" y="2139840"/>
              <a:ext cx="2362320" cy="4597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ahoma"/>
                </a:rPr>
                <a:t>Scuo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91320" y="2521080"/>
              <a:ext cx="53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95480" y="25210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00400" y="1752480"/>
              <a:ext cx="106668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I livel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24480" y="2666880"/>
              <a:ext cx="2362320" cy="4597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ahoma"/>
                </a:rPr>
                <a:t>Volontari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1143000" y="2819520"/>
              <a:ext cx="6933960" cy="3636000"/>
              <a:chOff x="1143000" y="2819520"/>
              <a:chExt cx="6933960" cy="3636000"/>
            </a:xfrm>
          </p:grpSpPr>
          <p:sp>
            <p:nvSpPr>
              <p:cNvPr id="374" name=""/>
              <p:cNvSpPr/>
              <p:nvPr/>
            </p:nvSpPr>
            <p:spPr>
              <a:xfrm>
                <a:off x="5790960" y="281952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715000" y="360360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……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15000" y="4289400"/>
                <a:ext cx="2361960" cy="82548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ahoma"/>
                  </a:rPr>
                  <a:t>Dip. Salute Menta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43000" y="3613320"/>
                <a:ext cx="2361960" cy="76428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Tahoma"/>
                  </a:rPr>
                  <a:t>Ordine dei Medici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43000" y="5264280"/>
                <a:ext cx="2361960" cy="119124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ahoma"/>
                  </a:rPr>
                  <a:t>Uff. educazione alla salu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038480" y="3003480"/>
                <a:ext cx="0" cy="263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504960" y="384192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504960" y="468000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81480" y="468000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181480" y="384192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181480" y="3003480"/>
                <a:ext cx="0" cy="263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143000" y="4334040"/>
                <a:ext cx="2361960" cy="10695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Medici di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ahoma"/>
                  </a:rPr>
                  <a:t>Medicina Genera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715000" y="525780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……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.              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504960" y="563868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181480" y="563868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0978-F644-4D7E-96C5-712422405C01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89" name=""/>
          <p:cNvCxnSpPr/>
          <p:nvPr/>
        </p:nvCxnSpPr>
        <p:spPr>
          <a:xfrm rot="5400000">
            <a:off x="2202840" y="2568240"/>
            <a:ext cx="3963240" cy="1283400"/>
          </a:xfrm>
          <a:prstGeom prst="bentConnector3">
            <a:avLst>
              <a:gd name="adj1" fmla="val 9073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4304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AFF di Direzio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266688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0160" y="820800"/>
            <a:ext cx="6913440" cy="4167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14680" y="1030320"/>
            <a:ext cx="62481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zione di Dipart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27280" y="5211720"/>
            <a:ext cx="3657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itato Diret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14680" y="6113520"/>
            <a:ext cx="1143000" cy="490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990880" y="6113520"/>
            <a:ext cx="1143000" cy="490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6113520"/>
            <a:ext cx="1143000" cy="490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43640" y="6113520"/>
            <a:ext cx="1143000" cy="490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19840" y="6113520"/>
            <a:ext cx="1143000" cy="490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4" idx="2"/>
            <a:endCxn id="395" idx="0"/>
          </p:cNvCxnSpPr>
          <p:nvPr/>
        </p:nvCxnSpPr>
        <p:spPr>
          <a:xfrm rot="5400000">
            <a:off x="2698200" y="5256000"/>
            <a:ext cx="445320" cy="127080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1" name=""/>
          <p:cNvCxnSpPr>
            <a:stCxn id="394" idx="2"/>
            <a:endCxn id="399" idx="0"/>
          </p:cNvCxnSpPr>
          <p:nvPr/>
        </p:nvCxnSpPr>
        <p:spPr>
          <a:xfrm flipH="1" rot="16200000">
            <a:off x="5251320" y="3972960"/>
            <a:ext cx="445320" cy="383616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"/>
          <p:cNvCxnSpPr>
            <a:stCxn id="394" idx="2"/>
            <a:endCxn id="396" idx="0"/>
          </p:cNvCxnSpPr>
          <p:nvPr/>
        </p:nvCxnSpPr>
        <p:spPr>
          <a:xfrm flipH="1" rot="16200000">
            <a:off x="3335760" y="5887800"/>
            <a:ext cx="445320" cy="684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394" idx="2"/>
            <a:endCxn id="398" idx="0"/>
          </p:cNvCxnSpPr>
          <p:nvPr/>
        </p:nvCxnSpPr>
        <p:spPr>
          <a:xfrm flipH="1" rot="16200000">
            <a:off x="4613040" y="4611240"/>
            <a:ext cx="445320" cy="255960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1714680" y="1695600"/>
            <a:ext cx="21333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fficio di direzi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 coordin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14680" y="2762280"/>
            <a:ext cx="21333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sservator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pidemiolo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trollo bu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14680" y="3905280"/>
            <a:ext cx="21333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iano di Formazi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erman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29480" y="1695600"/>
            <a:ext cx="21333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P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nità d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ject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29480" y="2762280"/>
            <a:ext cx="21333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WEB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29480" y="3905280"/>
            <a:ext cx="21333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 Coordiname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fession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4" idx="3"/>
            <a:endCxn id="407" idx="1"/>
          </p:cNvCxnSpPr>
          <p:nvPr/>
        </p:nvCxnSpPr>
        <p:spPr>
          <a:xfrm>
            <a:off x="3848040" y="2076120"/>
            <a:ext cx="19821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1" name=""/>
          <p:cNvCxnSpPr>
            <a:stCxn id="405" idx="3"/>
            <a:endCxn id="408" idx="1"/>
          </p:cNvCxnSpPr>
          <p:nvPr/>
        </p:nvCxnSpPr>
        <p:spPr>
          <a:xfrm>
            <a:off x="3848040" y="3142800"/>
            <a:ext cx="19821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2" name=""/>
          <p:cNvCxnSpPr>
            <a:stCxn id="406" idx="3"/>
            <a:endCxn id="409" idx="1"/>
          </p:cNvCxnSpPr>
          <p:nvPr/>
        </p:nvCxnSpPr>
        <p:spPr>
          <a:xfrm>
            <a:off x="3848040" y="4285800"/>
            <a:ext cx="19821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3" name=""/>
          <p:cNvSpPr/>
          <p:nvPr/>
        </p:nvSpPr>
        <p:spPr>
          <a:xfrm>
            <a:off x="5981760" y="5211720"/>
            <a:ext cx="19987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itato Allarg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394" idx="2"/>
            <a:endCxn id="397" idx="0"/>
          </p:cNvCxnSpPr>
          <p:nvPr/>
        </p:nvCxnSpPr>
        <p:spPr>
          <a:xfrm flipH="1" rot="16200000">
            <a:off x="3974040" y="5249520"/>
            <a:ext cx="445320" cy="128340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4" idx="3"/>
            <a:endCxn id="413" idx="1"/>
          </p:cNvCxnSpPr>
          <p:nvPr/>
        </p:nvCxnSpPr>
        <p:spPr>
          <a:xfrm>
            <a:off x="5384880" y="5439960"/>
            <a:ext cx="597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4DC8B-E92F-42A7-9CF2-667F9A5A2663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9400" y="2835360"/>
            <a:ext cx="8834400" cy="132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62320" y="1447920"/>
            <a:ext cx="4419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o diretto e lib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9720" y="320040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05120" y="3200400"/>
            <a:ext cx="83808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95520" y="320040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10040" y="320040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11960" y="3200400"/>
            <a:ext cx="83808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935840" y="320040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8" idx="2"/>
            <a:endCxn id="419" idx="0"/>
          </p:cNvCxnSpPr>
          <p:nvPr/>
        </p:nvCxnSpPr>
        <p:spPr>
          <a:xfrm rot="5400000">
            <a:off x="2070360" y="699120"/>
            <a:ext cx="1220040" cy="37836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8" idx="2"/>
            <a:endCxn id="424" idx="0"/>
          </p:cNvCxnSpPr>
          <p:nvPr/>
        </p:nvCxnSpPr>
        <p:spPr>
          <a:xfrm flipH="1" rot="16200000">
            <a:off x="5853600" y="698760"/>
            <a:ext cx="1220040" cy="37836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20" idx="0"/>
            <a:endCxn id="421" idx="0"/>
          </p:cNvCxnSpPr>
          <p:nvPr/>
        </p:nvCxnSpPr>
        <p:spPr>
          <a:xfrm flipH="1" rot="16200000">
            <a:off x="3068640" y="2455560"/>
            <a:ext cx="2160" cy="1491480"/>
          </a:xfrm>
          <a:prstGeom prst="bentConnector3">
            <a:avLst>
              <a:gd name="adj1" fmla="val -38100000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8" name=""/>
          <p:cNvCxnSpPr>
            <a:stCxn id="422" idx="0"/>
            <a:endCxn id="423" idx="0"/>
          </p:cNvCxnSpPr>
          <p:nvPr/>
        </p:nvCxnSpPr>
        <p:spPr>
          <a:xfrm flipH="1" rot="16200000">
            <a:off x="6079320" y="2449800"/>
            <a:ext cx="2160" cy="1502640"/>
          </a:xfrm>
          <a:prstGeom prst="bentConnector3">
            <a:avLst>
              <a:gd name="adj1" fmla="val -38100000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201600" y="43783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tà Mobil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rator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 s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733400" y="43783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n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38560" y="437832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29" idx="3"/>
            <a:endCxn id="430" idx="1"/>
          </p:cNvCxnSpPr>
          <p:nvPr/>
        </p:nvCxnSpPr>
        <p:spPr>
          <a:xfrm>
            <a:off x="1369800" y="4797000"/>
            <a:ext cx="36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30" idx="3"/>
            <a:endCxn id="431" idx="1"/>
          </p:cNvCxnSpPr>
          <p:nvPr/>
        </p:nvCxnSpPr>
        <p:spPr>
          <a:xfrm>
            <a:off x="2901600" y="47970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4743360" y="43783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mi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1" idx="3"/>
            <a:endCxn id="434" idx="1"/>
          </p:cNvCxnSpPr>
          <p:nvPr/>
        </p:nvCxnSpPr>
        <p:spPr>
          <a:xfrm>
            <a:off x="4406400" y="47970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437832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4" idx="3"/>
            <a:endCxn id="436" idx="1"/>
          </p:cNvCxnSpPr>
          <p:nvPr/>
        </p:nvCxnSpPr>
        <p:spPr>
          <a:xfrm>
            <a:off x="5911560" y="47970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772400" y="43783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6" idx="3"/>
            <a:endCxn id="438" idx="1"/>
          </p:cNvCxnSpPr>
          <p:nvPr/>
        </p:nvCxnSpPr>
        <p:spPr>
          <a:xfrm>
            <a:off x="7416720" y="479700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2133720" y="5410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Unità di </a:t>
            </a: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detossificazion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048120" y="480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32800" y="425520"/>
            <a:ext cx="67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l Dipartimento “permeabil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19" idx="2"/>
            <a:endCxn id="429" idx="0"/>
          </p:cNvCxnSpPr>
          <p:nvPr/>
        </p:nvCxnSpPr>
        <p:spPr>
          <a:xfrm flipH="1">
            <a:off x="785160" y="3919680"/>
            <a:ext cx="396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20" idx="2"/>
            <a:endCxn id="430" idx="0"/>
          </p:cNvCxnSpPr>
          <p:nvPr/>
        </p:nvCxnSpPr>
        <p:spPr>
          <a:xfrm flipH="1">
            <a:off x="2317320" y="3919680"/>
            <a:ext cx="720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5" name=""/>
          <p:cNvCxnSpPr>
            <a:stCxn id="421" idx="2"/>
            <a:endCxn id="431" idx="0"/>
          </p:cNvCxnSpPr>
          <p:nvPr/>
        </p:nvCxnSpPr>
        <p:spPr>
          <a:xfrm>
            <a:off x="3814920" y="3919680"/>
            <a:ext cx="864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22" idx="2"/>
            <a:endCxn id="434" idx="0"/>
          </p:cNvCxnSpPr>
          <p:nvPr/>
        </p:nvCxnSpPr>
        <p:spPr>
          <a:xfrm flipH="1">
            <a:off x="5327280" y="3919680"/>
            <a:ext cx="216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"/>
          <p:cNvCxnSpPr>
            <a:stCxn id="423" idx="2"/>
            <a:endCxn id="436" idx="0"/>
          </p:cNvCxnSpPr>
          <p:nvPr/>
        </p:nvCxnSpPr>
        <p:spPr>
          <a:xfrm>
            <a:off x="6831000" y="3919680"/>
            <a:ext cx="216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4" idx="2"/>
            <a:endCxn id="438" idx="0"/>
          </p:cNvCxnSpPr>
          <p:nvPr/>
        </p:nvCxnSpPr>
        <p:spPr>
          <a:xfrm>
            <a:off x="8354520" y="3919680"/>
            <a:ext cx="252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>
            <a:off x="2733480" y="2820960"/>
            <a:ext cx="367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Criteri preconcordati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5400000">
            <a:off x="4381200" y="1638000"/>
            <a:ext cx="304920" cy="8763120"/>
          </a:xfrm>
          <a:custGeom>
            <a:avLst/>
            <a:gdLst>
              <a:gd name="textAreaLeft" fmla="*/ 0 w 304920"/>
              <a:gd name="textAreaRight" fmla="*/ 110160 w 304920"/>
              <a:gd name="textAreaTop" fmla="*/ 228240 h 8763120"/>
              <a:gd name="textAreaBottom" fmla="*/ 8534880 h 876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20240" y="6270480"/>
            <a:ext cx="34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STEMA DI BUDGET per singola U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A32AA-14DD-4C0C-B5BB-8EAD7B895261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9400" y="2335320"/>
            <a:ext cx="8834400" cy="132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1295280"/>
            <a:ext cx="4419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69720" y="270036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05120" y="2700360"/>
            <a:ext cx="83808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395520" y="270036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10040" y="2700360"/>
            <a:ext cx="838440" cy="762120"/>
          </a:xfrm>
          <a:prstGeom prst="flowChartDocumen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411960" y="2700360"/>
            <a:ext cx="83808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935840" y="2700360"/>
            <a:ext cx="838440" cy="762120"/>
          </a:xfrm>
          <a:prstGeom prst="flowChartDocumen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1" name=""/>
          <p:cNvCxnSpPr>
            <a:stCxn id="454" idx="2"/>
            <a:endCxn id="460" idx="0"/>
          </p:cNvCxnSpPr>
          <p:nvPr/>
        </p:nvCxnSpPr>
        <p:spPr>
          <a:xfrm flipH="1" rot="16200000">
            <a:off x="6027480" y="372600"/>
            <a:ext cx="872280" cy="3783600"/>
          </a:xfrm>
          <a:prstGeom prst="bentConnector3">
            <a:avLst>
              <a:gd name="adj1" fmla="val 49876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62" name=""/>
          <p:cNvSpPr/>
          <p:nvPr/>
        </p:nvSpPr>
        <p:spPr>
          <a:xfrm>
            <a:off x="201600" y="52927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tà Mobil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rator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 s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733400" y="52927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n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38560" y="529272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stCxn id="462" idx="3"/>
            <a:endCxn id="463" idx="1"/>
          </p:cNvCxnSpPr>
          <p:nvPr/>
        </p:nvCxnSpPr>
        <p:spPr>
          <a:xfrm>
            <a:off x="1369800" y="5711400"/>
            <a:ext cx="36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" name=""/>
          <p:cNvCxnSpPr>
            <a:stCxn id="463" idx="3"/>
            <a:endCxn id="464" idx="1"/>
          </p:cNvCxnSpPr>
          <p:nvPr/>
        </p:nvCxnSpPr>
        <p:spPr>
          <a:xfrm>
            <a:off x="2901600" y="57114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>
            <a:off x="4743360" y="5292720"/>
            <a:ext cx="1168560" cy="8380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emi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4" idx="3"/>
            <a:endCxn id="467" idx="1"/>
          </p:cNvCxnSpPr>
          <p:nvPr/>
        </p:nvCxnSpPr>
        <p:spPr>
          <a:xfrm>
            <a:off x="4406400" y="57114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9" name=""/>
          <p:cNvSpPr/>
          <p:nvPr/>
        </p:nvSpPr>
        <p:spPr>
          <a:xfrm>
            <a:off x="6248520" y="529272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7" idx="3"/>
            <a:endCxn id="469" idx="1"/>
          </p:cNvCxnSpPr>
          <p:nvPr/>
        </p:nvCxnSpPr>
        <p:spPr>
          <a:xfrm>
            <a:off x="5911560" y="57114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7772400" y="5292720"/>
            <a:ext cx="116856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9" idx="3"/>
            <a:endCxn id="471" idx="1"/>
          </p:cNvCxnSpPr>
          <p:nvPr/>
        </p:nvCxnSpPr>
        <p:spPr>
          <a:xfrm>
            <a:off x="7416720" y="571140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2133720" y="63244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Unità di </a:t>
            </a: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detossificazion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048120" y="5714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120" y="380880"/>
            <a:ext cx="80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l Dipartimento “permeabile”: ESEM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55" idx="2"/>
            <a:endCxn id="462" idx="0"/>
          </p:cNvCxnSpPr>
          <p:nvPr/>
        </p:nvCxnSpPr>
        <p:spPr>
          <a:xfrm flipH="1">
            <a:off x="785160" y="3419280"/>
            <a:ext cx="3960" cy="18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56" idx="2"/>
            <a:endCxn id="463" idx="0"/>
          </p:cNvCxnSpPr>
          <p:nvPr/>
        </p:nvCxnSpPr>
        <p:spPr>
          <a:xfrm flipH="1">
            <a:off x="2317320" y="3419280"/>
            <a:ext cx="7200" cy="18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stCxn id="457" idx="2"/>
            <a:endCxn id="464" idx="0"/>
          </p:cNvCxnSpPr>
          <p:nvPr/>
        </p:nvCxnSpPr>
        <p:spPr>
          <a:xfrm>
            <a:off x="3814920" y="3419280"/>
            <a:ext cx="8640" cy="18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stCxn id="458" idx="2"/>
            <a:endCxn id="467" idx="0"/>
          </p:cNvCxnSpPr>
          <p:nvPr/>
        </p:nvCxnSpPr>
        <p:spPr>
          <a:xfrm flipH="1">
            <a:off x="5327280" y="3419280"/>
            <a:ext cx="2160" cy="1873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59" idx="2"/>
            <a:endCxn id="469" idx="0"/>
          </p:cNvCxnSpPr>
          <p:nvPr/>
        </p:nvCxnSpPr>
        <p:spPr>
          <a:xfrm>
            <a:off x="6831000" y="3419280"/>
            <a:ext cx="2160" cy="18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60" idx="2"/>
            <a:endCxn id="482" idx="0"/>
          </p:cNvCxnSpPr>
          <p:nvPr/>
        </p:nvCxnSpPr>
        <p:spPr>
          <a:xfrm>
            <a:off x="8354520" y="3419280"/>
            <a:ext cx="1080" cy="315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2733480" y="2320920"/>
            <a:ext cx="367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Criteri preconcordati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935840" y="3733920"/>
            <a:ext cx="838440" cy="533160"/>
          </a:xfrm>
          <a:prstGeom prst="flowChartDecision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erenz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342640" y="421632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61160" y="408636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2" idx="1"/>
            <a:endCxn id="458" idx="3"/>
          </p:cNvCxnSpPr>
          <p:nvPr/>
        </p:nvCxnSpPr>
        <p:spPr>
          <a:xfrm rot="10800000">
            <a:off x="5747760" y="3080520"/>
            <a:ext cx="2188080" cy="920160"/>
          </a:xfrm>
          <a:prstGeom prst="bentConnector3">
            <a:avLst>
              <a:gd name="adj1" fmla="val 8293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6923160" y="3844800"/>
            <a:ext cx="838080" cy="271440"/>
          </a:xfrm>
          <a:prstGeom prst="flowChartProcess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v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08600" y="3733920"/>
            <a:ext cx="838080" cy="533160"/>
          </a:xfrm>
          <a:prstGeom prst="flowChartDecision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erenz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27280" y="421632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08600" y="4630680"/>
            <a:ext cx="838080" cy="271440"/>
          </a:xfrm>
          <a:prstGeom prst="flowChartProcess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ccog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"/>
          <p:cNvCxnSpPr>
            <a:stCxn id="482" idx="2"/>
            <a:endCxn id="471" idx="0"/>
          </p:cNvCxnSpPr>
          <p:nvPr/>
        </p:nvCxnSpPr>
        <p:spPr>
          <a:xfrm>
            <a:off x="8354520" y="4266720"/>
            <a:ext cx="2520" cy="1026360"/>
          </a:xfrm>
          <a:prstGeom prst="straightConnector1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492" name=""/>
          <p:cNvSpPr/>
          <p:nvPr/>
        </p:nvSpPr>
        <p:spPr>
          <a:xfrm>
            <a:off x="7935840" y="4630680"/>
            <a:ext cx="838440" cy="27144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cog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01953-5A99-4D8C-9865-9DAEA550A185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cessità per il funzionamento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ire formalmente  e concertare i criteri di ingresso e invio per singola U.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t STD per la valutazione all’intake, utilizzabile da tutte le U.O. del diparti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E44AD-8938-4541-B2B4-DD94646547BF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67760" y="425520"/>
            <a:ext cx="88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a certificazione di tossicodipenden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95360" y="1870200"/>
            <a:ext cx="6351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È un atto medic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“diagnos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03280" y="2801880"/>
            <a:ext cx="6351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 valore medico leg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411200" y="3735360"/>
            <a:ext cx="6351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enza di personale medico abili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07960" y="4668840"/>
            <a:ext cx="6351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on esclusiva dei Sert ma “atto specialistic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05080" y="5602320"/>
            <a:ext cx="63514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ta sulla base di criteri stand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ati sulle evidenze scientif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9753A-6CA5-4B38-B894-C3863BCE73C3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39960" y="822240"/>
          <a:ext cx="7289640" cy="5467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822240"/>
                    <a:ext cx="728964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633680" y="1093680"/>
            <a:ext cx="5886360" cy="217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n collaborazione 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Executive Master in General Management in Sanità Pubb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D6686-2F21-4ECD-836E-E105F7F780C3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56520" y="4255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ERT pubblici o privat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ccreditati)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395360" y="2286000"/>
            <a:ext cx="6351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nda improp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03280" y="3247920"/>
            <a:ext cx="6351480" cy="74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zi di QUALITA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pendentemente dall’ente ge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11200" y="4421160"/>
            <a:ext cx="635184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pondenti a criteri di qualità predefin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l sistema di accreditamento reg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93083-5DB5-4884-A5E7-D62D7C54C6AC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042200" y="380880"/>
            <a:ext cx="77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I DIRIG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direttore di dipartimento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395360" y="2286000"/>
            <a:ext cx="6351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PERSONA COMPE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03280" y="3247920"/>
            <a:ext cx="6351480" cy="74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pondente a criteri predefiniti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essionalità in campo manager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11200" y="4421160"/>
            <a:ext cx="635184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blico o privato (attenzione alle carriere) -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25E3-5E3B-4F41-A365-6284A5AD30FD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590120" y="1916280"/>
            <a:ext cx="593856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Principali Are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da standardizz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76303-327F-4E71-9C6F-578E19F3B9DA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re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954080" y="2187360"/>
            <a:ext cx="6950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ss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riteri di ingresso e di inv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t per la valutazione all’int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3AA64-7C10-44DA-92EE-9C07E1A7E2BE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055160" y="1916280"/>
            <a:ext cx="697176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Accreditament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delle unità operativ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del sistem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FEB59-366F-4156-B63C-993926749E99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533520" y="4648320"/>
            <a:ext cx="8076960" cy="761760"/>
          </a:xfrm>
          <a:prstGeom prst="flowChart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l criterio di base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rità nella richiesta dei requisit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criteri di accreditamento devono valere per tut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ociazioni e Cooperative che vogliono svolgere attività sulla perso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41148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43480" y="41148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un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5880" y="41148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ociazioni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oper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A043B-384C-4FF6-A2B9-91830BA1D908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457200" y="1981080"/>
            <a:ext cx="79246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2498760"/>
            <a:ext cx="914400" cy="1905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2498760"/>
            <a:ext cx="914400" cy="1905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etenze ed integrazion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380880" y="1295280"/>
            <a:ext cx="8217000" cy="457200"/>
          </a:xfrm>
          <a:prstGeom prst="rightArrow">
            <a:avLst>
              <a:gd name="adj1" fmla="val 55556"/>
              <a:gd name="adj2" fmla="val 167826"/>
            </a:avLst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6560" y="134604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inuità assistenz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" y="201132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venzione primaria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Contatto precoce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05320" y="2011320"/>
            <a:ext cx="49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rapia e prevenzione secondaria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iabilitazione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einser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5400000">
            <a:off x="1333440" y="1774800"/>
            <a:ext cx="228600" cy="1828800"/>
          </a:xfrm>
          <a:custGeom>
            <a:avLst/>
            <a:gdLst>
              <a:gd name="textAreaLeft" fmla="*/ 0 w 228600"/>
              <a:gd name="textAreaRight" fmla="*/ 8244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rot="5400000">
            <a:off x="4343040" y="-320400"/>
            <a:ext cx="304560" cy="6095880"/>
          </a:xfrm>
          <a:custGeom>
            <a:avLst/>
            <a:gdLst>
              <a:gd name="textAreaLeft" fmla="*/ 0 w 304560"/>
              <a:gd name="textAreaRight" fmla="*/ 109800 w 304560"/>
              <a:gd name="textAreaTop" fmla="*/ 158760 h 6095880"/>
              <a:gd name="textAreaBottom" fmla="*/ 5937120 h 609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5400000">
            <a:off x="7353000" y="1851120"/>
            <a:ext cx="228600" cy="1676520"/>
          </a:xfrm>
          <a:custGeom>
            <a:avLst/>
            <a:gdLst>
              <a:gd name="textAreaLeft" fmla="*/ 0 w 228600"/>
              <a:gd name="textAreaRight" fmla="*/ 8244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0880" y="29559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 lo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48120" y="2955960"/>
            <a:ext cx="28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zienze UL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477120" y="29559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 lo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429000" y="447984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ee di integ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5400000">
            <a:off x="4343040" y="1279440"/>
            <a:ext cx="304920" cy="7772400"/>
          </a:xfrm>
          <a:custGeom>
            <a:avLst/>
            <a:gdLst>
              <a:gd name="textAreaLeft" fmla="*/ 0 w 304920"/>
              <a:gd name="textAreaRight" fmla="*/ 110160 w 30492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52680" y="548496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ile un unico sistema di accreditam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6" idx="1"/>
            <a:endCxn id="524" idx="2"/>
          </p:cNvCxnSpPr>
          <p:nvPr/>
        </p:nvCxnSpPr>
        <p:spPr>
          <a:xfrm rot="10800000">
            <a:off x="1904400" y="4403160"/>
            <a:ext cx="1524600" cy="261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"/>
          <p:cNvCxnSpPr>
            <a:stCxn id="536" idx="3"/>
            <a:endCxn id="523" idx="2"/>
          </p:cNvCxnSpPr>
          <p:nvPr/>
        </p:nvCxnSpPr>
        <p:spPr>
          <a:xfrm flipV="1">
            <a:off x="5638680" y="4403160"/>
            <a:ext cx="1448640" cy="261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C1D4F-E152-45C3-8441-FE59450F3371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057320" y="2735280"/>
            <a:ext cx="6964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’obbligo dei sistemi di Valutazione dei risulta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Valutazione del siste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41477-7E0E-4B35-ACCB-1FCF0CB4C3E8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529320" y="3987720"/>
            <a:ext cx="0" cy="11732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270480" y="1965240"/>
            <a:ext cx="1244880" cy="213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ultati ottenu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71760" y="1965240"/>
            <a:ext cx="1752480" cy="213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alità di produzion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dure e protocol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654440" y="1965240"/>
            <a:ext cx="1185840" cy="213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tazioni re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2280" y="1965240"/>
            <a:ext cx="1890720" cy="213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ziam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e lav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zi e be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orse uma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9760" y="3110040"/>
            <a:ext cx="1719360" cy="88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64440" y="3112920"/>
            <a:ext cx="1004760" cy="88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41600" y="3110040"/>
            <a:ext cx="1592280" cy="88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41560" y="3448080"/>
            <a:ext cx="430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827680" y="3443400"/>
            <a:ext cx="442800" cy="4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1874520" y="5167440"/>
            <a:ext cx="4654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879560" y="4101840"/>
            <a:ext cx="1800" cy="10602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3537000" y="4113360"/>
            <a:ext cx="0" cy="1047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754520" y="3100320"/>
            <a:ext cx="959040" cy="88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49800" y="3443400"/>
            <a:ext cx="404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38280" y="895320"/>
            <a:ext cx="30481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ance - Economicit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268360" y="1312920"/>
            <a:ext cx="14655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icienz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13240" y="1339920"/>
            <a:ext cx="1463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icaci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5400000">
            <a:off x="3847680" y="-1581120"/>
            <a:ext cx="228600" cy="5791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5400000">
            <a:off x="2912760" y="-177840"/>
            <a:ext cx="183960" cy="3886200"/>
          </a:xfrm>
          <a:custGeom>
            <a:avLst/>
            <a:gdLst>
              <a:gd name="textAreaLeft" fmla="*/ 117720 w 183960"/>
              <a:gd name="textAreaRight" fmla="*/ 184320 w 18396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5946840" y="1296000"/>
            <a:ext cx="184320" cy="957240"/>
          </a:xfrm>
          <a:custGeom>
            <a:avLst/>
            <a:gdLst>
              <a:gd name="textAreaLeft" fmla="*/ 117720 w 184320"/>
              <a:gd name="textAreaRight" fmla="*/ 184680 w 184320"/>
              <a:gd name="textAreaTop" fmla="*/ 24840 h 957240"/>
              <a:gd name="textAreaBottom" fmla="*/ 932400 h 9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16240" y="4970520"/>
            <a:ext cx="989280" cy="34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7148520" y="4102200"/>
            <a:ext cx="0" cy="698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51720" y="4495680"/>
            <a:ext cx="1501560" cy="1428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TTOR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DIZIONA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non controllabil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713640" y="5086440"/>
            <a:ext cx="1396800" cy="32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ient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713640" y="5467320"/>
            <a:ext cx="13968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rtament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851600" y="298116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vidu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851600" y="363852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 insie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48" idx="3"/>
            <a:endCxn id="568" idx="1"/>
          </p:cNvCxnSpPr>
          <p:nvPr/>
        </p:nvCxnSpPr>
        <p:spPr>
          <a:xfrm flipV="1">
            <a:off x="7369200" y="3271320"/>
            <a:ext cx="480240" cy="28656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1" name=""/>
          <p:cNvCxnSpPr>
            <a:stCxn id="548" idx="3"/>
            <a:endCxn id="569" idx="1"/>
          </p:cNvCxnSpPr>
          <p:nvPr/>
        </p:nvCxnSpPr>
        <p:spPr>
          <a:xfrm>
            <a:off x="7369200" y="3557520"/>
            <a:ext cx="480240" cy="37224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2" name=""/>
          <p:cNvSpPr/>
          <p:nvPr/>
        </p:nvSpPr>
        <p:spPr>
          <a:xfrm rot="5400000">
            <a:off x="4304880" y="1847520"/>
            <a:ext cx="304560" cy="8610840"/>
          </a:xfrm>
          <a:custGeom>
            <a:avLst/>
            <a:gdLst>
              <a:gd name="textAreaLeft" fmla="*/ 0 w 304560"/>
              <a:gd name="textAreaRight" fmla="*/ 109800 w 304560"/>
              <a:gd name="textAreaTop" fmla="*/ 224280 h 8610840"/>
              <a:gd name="textAreaBottom" fmla="*/ 8386560 h 861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762560" y="6415200"/>
            <a:ext cx="53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 di PROGRAMMAZIONE &amp; CONT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73200" y="4324320"/>
            <a:ext cx="3394080" cy="3808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3800" y="5442120"/>
            <a:ext cx="360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a di GESTIONE DEL PERS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"/>
          <p:cNvCxnSpPr>
            <a:stCxn id="575" idx="0"/>
            <a:endCxn id="574" idx="1"/>
          </p:cNvCxnSpPr>
          <p:nvPr/>
        </p:nvCxnSpPr>
        <p:spPr>
          <a:xfrm flipH="1" flipV="1" rot="5400000">
            <a:off x="1702080" y="4690080"/>
            <a:ext cx="928080" cy="576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7" name=""/>
          <p:cNvSpPr/>
          <p:nvPr/>
        </p:nvSpPr>
        <p:spPr>
          <a:xfrm>
            <a:off x="685800" y="222120"/>
            <a:ext cx="77724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SISTEMA ASSISTENZ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BEC50-F40C-4421-8425-1C9C2658769F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cro aree da valut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3200400" y="685800"/>
            <a:ext cx="2514600" cy="2514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FFICA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risulta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562720" y="2590920"/>
            <a:ext cx="2514600" cy="2514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ALI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191120"/>
            <a:ext cx="2514600" cy="2514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66680" y="2590920"/>
            <a:ext cx="2514600" cy="2514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38560" y="2743200"/>
            <a:ext cx="2666880" cy="2209680"/>
          </a:xfrm>
          <a:custGeom>
            <a:avLst/>
            <a:gdLst>
              <a:gd name="textAreaLeft" fmla="*/ 869760 w 2666880"/>
              <a:gd name="textAreaRight" fmla="*/ 1797120 w 2666880"/>
              <a:gd name="textAreaTop" fmla="*/ 720720 h 2209680"/>
              <a:gd name="textAreaBottom" fmla="*/ 1488960 h 2209680"/>
            </a:gdLst>
            <a:ahLst/>
            <a:rect l="textAreaLeft" t="textAreaTop" r="textAreaRight" b="textAreaBottom"/>
            <a:pathLst>
              <a:path w="21600" h="21600">
                <a:moveTo>
                  <a:pt x="7045" y="7045"/>
                </a:moveTo>
                <a:lnTo>
                  <a:pt x="9400" y="7045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7045"/>
                </a:lnTo>
                <a:lnTo>
                  <a:pt x="14555" y="7045"/>
                </a:lnTo>
                <a:lnTo>
                  <a:pt x="14555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4555" y="12200"/>
                </a:lnTo>
                <a:lnTo>
                  <a:pt x="14555" y="14555"/>
                </a:lnTo>
                <a:lnTo>
                  <a:pt x="12200" y="14555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4555"/>
                </a:lnTo>
                <a:lnTo>
                  <a:pt x="7045" y="14555"/>
                </a:lnTo>
                <a:lnTo>
                  <a:pt x="7045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7045" y="9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F6125-6876-4B91-ABC8-9B29B8F401B3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36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ali problemi in ambito organizzativo nel Dipartimento delle Dipenden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2076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carsa/assente integrazione tra U.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lta conflittualità tra Pubblico e Privato S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rte burocratizzazione e gerarchizz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ssi non definiti e poco formalizz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carsa/assenza sistemi di valutazione dei risultati e dei c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quinamenti” ideologici nelle attività preventive ed assistenzi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stema poco orientato alla risposta verso nuove forme di abuso e dipende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38AF5-3C9C-489C-8D83-13AA3C32F70D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ggetti di valutazio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ultati finali (outco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ultati intermedi (outpu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i utilizz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i di erog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i compar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ddisfazione del 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4757760" y="358128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EMPORANE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43400" y="2209680"/>
            <a:ext cx="380880" cy="3276720"/>
          </a:xfrm>
          <a:custGeom>
            <a:avLst/>
            <a:gdLst>
              <a:gd name="textAreaLeft" fmla="*/ 0 w 380880"/>
              <a:gd name="textAreaRight" fmla="*/ 137520 w 38088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122CC-0A87-4E82-A0B2-22DCDF89B16E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eri per la modalità della VALUTAZIO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stante (day by da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para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vas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Quantita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Qualitativa (il sistema dei criteri exante e l’aderenz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real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4FB8A-D4A4-4D57-BF28-CA4A3328EF75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863280" y="2930400"/>
            <a:ext cx="735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Valutazione dell’outco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D6DA-248C-4F87-BF29-0E834E701236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5092560" y="1092240"/>
            <a:ext cx="3594240" cy="912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MACROINDICATORE DI 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099040" y="2098800"/>
            <a:ext cx="409680" cy="1003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578560" y="2098800"/>
            <a:ext cx="3108240" cy="1003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USO DI SOSTANZE PSICOAT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099040" y="3102120"/>
            <a:ext cx="409680" cy="1001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578560" y="3102120"/>
            <a:ext cx="3108240" cy="1001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FORMANCE PSICOSOC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099040" y="4103640"/>
            <a:ext cx="409680" cy="10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578560" y="4103640"/>
            <a:ext cx="3108240" cy="1004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QUALITÀ DI V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99040" y="5108400"/>
            <a:ext cx="409680" cy="1136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78560" y="5108400"/>
            <a:ext cx="3108240" cy="1136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INCIDENZA DI PATOLOGIE E SITUAZIONI 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CORRELATE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8040" y="1095480"/>
            <a:ext cx="3594240" cy="912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OBIETTIVI GENE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14520" y="2101680"/>
            <a:ext cx="409320" cy="1003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93680" y="2101680"/>
            <a:ext cx="3108600" cy="1003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RIDURRE O SOSPENDERE L’USO DI SOSTA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4520" y="3105000"/>
            <a:ext cx="409320" cy="1001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093680" y="3105000"/>
            <a:ext cx="3108600" cy="1001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PORTARE LA PERFORMANCE GLOBALE DEL PAZ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L Più VICINO ALLA N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4106880"/>
            <a:ext cx="409320" cy="10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93680" y="4106880"/>
            <a:ext cx="3108600" cy="1004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FAR RAGGIUNGERE UNA QUALITA’ DI VI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L Più VICINO ALLA N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4520" y="5111640"/>
            <a:ext cx="409320" cy="1136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093680" y="5111640"/>
            <a:ext cx="3108600" cy="1136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EVITARE LE PATOLOGIE CORRELAT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LE ATTIVITA’ CRIMINALI E LA PROSTIT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227480" y="2351160"/>
            <a:ext cx="838080" cy="461880"/>
          </a:xfrm>
          <a:prstGeom prst="rightArrow">
            <a:avLst>
              <a:gd name="adj1" fmla="val 50000"/>
              <a:gd name="adj2" fmla="val 453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227480" y="3336840"/>
            <a:ext cx="838080" cy="461880"/>
          </a:xfrm>
          <a:prstGeom prst="rightArrow">
            <a:avLst>
              <a:gd name="adj1" fmla="val 50000"/>
              <a:gd name="adj2" fmla="val 453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227480" y="4327560"/>
            <a:ext cx="838080" cy="461880"/>
          </a:xfrm>
          <a:prstGeom prst="rightArrow">
            <a:avLst>
              <a:gd name="adj1" fmla="val 50000"/>
              <a:gd name="adj2" fmla="val 453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227480" y="5322960"/>
            <a:ext cx="838080" cy="461880"/>
          </a:xfrm>
          <a:prstGeom prst="rightArrow">
            <a:avLst>
              <a:gd name="adj1" fmla="val 50000"/>
              <a:gd name="adj2" fmla="val 453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" y="243000"/>
            <a:ext cx="87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IETTIVI ED INDICATORI DI OUT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181480" y="6200640"/>
            <a:ext cx="3581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malattie diffusive,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l’overdose, le attività criminose e la prostituz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3D931-878E-45DA-BBCB-2A29F1CE2CA7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utazione dell’outco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579600" y="1941480"/>
          <a:ext cx="29145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1941480"/>
                    <a:ext cx="29145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5594400" y="1949400"/>
          <a:ext cx="2914560" cy="28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94400" y="1949400"/>
                    <a:ext cx="29145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"/>
          <p:cNvSpPr/>
          <p:nvPr/>
        </p:nvSpPr>
        <p:spPr>
          <a:xfrm>
            <a:off x="1391760" y="2500200"/>
            <a:ext cx="5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141280" y="2500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136600" y="34732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34240" y="347328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97200" y="2538360"/>
            <a:ext cx="5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146720" y="2538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142040" y="351144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39320" y="351144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72240" y="479736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369840" y="479736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5400000">
            <a:off x="4571640" y="2057040"/>
            <a:ext cx="304920" cy="6705720"/>
          </a:xfrm>
          <a:custGeom>
            <a:avLst/>
            <a:gdLst>
              <a:gd name="textAreaLeft" fmla="*/ 0 w 304920"/>
              <a:gd name="textAreaRight" fmla="*/ 110160 w 30492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90720" y="113040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diazione della gravità clinica multidimens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(sco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19920" y="113040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diazione della gravità clinica multidimensionale (sco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62800" y="63500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01360" y="548640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/>
          <p:nvPr/>
        </p:nvCxnSpPr>
        <p:spPr>
          <a:xfrm>
            <a:off x="3494160" y="3351240"/>
            <a:ext cx="2100960" cy="86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E155-8BA7-40A8-968C-8630814C0529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2122560" y="3835440"/>
            <a:ext cx="0" cy="85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40000" y="3835440"/>
            <a:ext cx="4700520" cy="792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488960" y="18874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2640" y="18874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699080" y="18874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27120" y="777960"/>
            <a:ext cx="1386000" cy="388800"/>
          </a:xfrm>
          <a:custGeom>
            <a:avLst/>
            <a:gdLst>
              <a:gd name="textAreaLeft" fmla="*/ 0 w 1386000"/>
              <a:gd name="textAreaRight" fmla="*/ 1386360 w 138600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25440" y="3576600"/>
            <a:ext cx="1579680" cy="517680"/>
          </a:xfrm>
          <a:custGeom>
            <a:avLst/>
            <a:gdLst>
              <a:gd name="textAreaLeft" fmla="*/ 0 w 1579680"/>
              <a:gd name="textAreaRight" fmla="*/ 1580040 w 157968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73" y="0"/>
                </a:lnTo>
                <a:lnTo>
                  <a:pt x="21600" y="10800"/>
                </a:lnTo>
                <a:lnTo>
                  <a:pt x="1777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420d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283440" y="247680"/>
            <a:ext cx="2182680" cy="6394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451560" y="515880"/>
            <a:ext cx="1871640" cy="5716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51560" y="1571760"/>
            <a:ext cx="1871640" cy="7696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prestazioni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roga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424560" y="5535720"/>
            <a:ext cx="1925640" cy="7696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UT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risultati ottenut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42960" y="619200"/>
            <a:ext cx="1155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O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911320" y="979560"/>
            <a:ext cx="3359160" cy="11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20880" y="2146320"/>
            <a:ext cx="105084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133640" y="2287440"/>
            <a:ext cx="105084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46040" y="2428920"/>
            <a:ext cx="105264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60600" y="2570040"/>
            <a:ext cx="105228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68600" y="2146320"/>
            <a:ext cx="105264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782800" y="2287440"/>
            <a:ext cx="105264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97360" y="2428920"/>
            <a:ext cx="105084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209760" y="2570040"/>
            <a:ext cx="105264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83200" y="2128680"/>
            <a:ext cx="1050840" cy="2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95960" y="2268360"/>
            <a:ext cx="105228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611600" y="2411280"/>
            <a:ext cx="105084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824360" y="2552760"/>
            <a:ext cx="105084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319880" y="1111320"/>
            <a:ext cx="1800" cy="453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09960" y="2836800"/>
            <a:ext cx="0" cy="92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83160" y="2836800"/>
            <a:ext cx="0" cy="92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315040" y="2836800"/>
            <a:ext cx="0" cy="92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1488960" y="1887480"/>
            <a:ext cx="477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57360" y="4694400"/>
            <a:ext cx="1103400" cy="541080"/>
          </a:xfrm>
          <a:prstGeom prst="downArrowCallout">
            <a:avLst>
              <a:gd name="adj1" fmla="val 50986"/>
              <a:gd name="adj2" fmla="val 50981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42960" y="4716360"/>
            <a:ext cx="10033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alu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30560" y="4694400"/>
            <a:ext cx="1104840" cy="541080"/>
          </a:xfrm>
          <a:prstGeom prst="downArrowCallout">
            <a:avLst>
              <a:gd name="adj1" fmla="val 51052"/>
              <a:gd name="adj2" fmla="val 51048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9760" y="4716360"/>
            <a:ext cx="1005120" cy="3002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alu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773600" y="4694400"/>
            <a:ext cx="1101600" cy="541080"/>
          </a:xfrm>
          <a:prstGeom prst="downArrowCallout">
            <a:avLst>
              <a:gd name="adj1" fmla="val 50903"/>
              <a:gd name="adj2" fmla="val 50898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53160" y="4716360"/>
            <a:ext cx="1002960" cy="3002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rz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alu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109960" y="3835440"/>
            <a:ext cx="0" cy="853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83160" y="3835440"/>
            <a:ext cx="0" cy="85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15040" y="3835440"/>
            <a:ext cx="0" cy="85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92280" y="5643720"/>
            <a:ext cx="741600" cy="347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83200" y="5635800"/>
            <a:ext cx="741240" cy="347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04920" y="5227560"/>
            <a:ext cx="0" cy="56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104920" y="5786280"/>
            <a:ext cx="387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24160" y="5786280"/>
            <a:ext cx="95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83160" y="5227560"/>
            <a:ext cx="0" cy="5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24440" y="5778360"/>
            <a:ext cx="13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15040" y="5222880"/>
            <a:ext cx="0" cy="56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17840" y="6262560"/>
            <a:ext cx="4554360" cy="44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u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rado di salute aggiunta e patologia evit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60560" y="5975280"/>
            <a:ext cx="0" cy="32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59400" y="5975280"/>
            <a:ext cx="0" cy="32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967040" y="3732120"/>
            <a:ext cx="276120" cy="200160"/>
          </a:xfrm>
          <a:prstGeom prst="noSmoking">
            <a:avLst>
              <a:gd name="adj" fmla="val 19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57520" y="3732120"/>
            <a:ext cx="277920" cy="200160"/>
          </a:xfrm>
          <a:prstGeom prst="noSmoking">
            <a:avLst>
              <a:gd name="adj" fmla="val 19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172120" y="3732120"/>
            <a:ext cx="276120" cy="200160"/>
          </a:xfrm>
          <a:prstGeom prst="noSmoking">
            <a:avLst>
              <a:gd name="adj" fmla="val 19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560600" y="3090960"/>
            <a:ext cx="4314600" cy="446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ogazione e registrazione delle prestazio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PROCESSI ASSISTENZIAL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9960" y="4137120"/>
            <a:ext cx="4314960" cy="453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utazione clinica periodica standar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 B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PROCESSI DIAGNOSTIC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321680" y="2384280"/>
            <a:ext cx="0" cy="3135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21240" y="1801800"/>
            <a:ext cx="0" cy="8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5884560" y="324972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5884560" y="434988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35720" y="2955960"/>
            <a:ext cx="1871640" cy="16603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CES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207040" y="4356000"/>
            <a:ext cx="3504960" cy="2436840"/>
            <a:chOff x="5207040" y="4356000"/>
            <a:chExt cx="3504960" cy="2436840"/>
          </a:xfrm>
        </p:grpSpPr>
        <p:sp>
          <p:nvSpPr>
            <p:cNvPr id="697" name=""/>
            <p:cNvSpPr/>
            <p:nvPr/>
          </p:nvSpPr>
          <p:spPr>
            <a:xfrm>
              <a:off x="5892840" y="5041800"/>
              <a:ext cx="2819160" cy="17510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207040" y="4356000"/>
              <a:ext cx="990360" cy="1067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338040" y="3576600"/>
            <a:ext cx="1579680" cy="517680"/>
          </a:xfrm>
          <a:custGeom>
            <a:avLst/>
            <a:gdLst>
              <a:gd name="textAreaLeft" fmla="*/ 0 w 1579680"/>
              <a:gd name="textAreaRight" fmla="*/ 1580040 w 157968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73" y="0"/>
                </a:lnTo>
                <a:lnTo>
                  <a:pt x="21600" y="10800"/>
                </a:lnTo>
                <a:lnTo>
                  <a:pt x="1777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420d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52360" y="3605040"/>
            <a:ext cx="1590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979640" y="3732120"/>
            <a:ext cx="276120" cy="200160"/>
          </a:xfrm>
          <a:prstGeom prst="noSmoking">
            <a:avLst>
              <a:gd name="adj" fmla="val 19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A04A-0BFE-44A3-AF77-6C75EF15E9CD}" type="slidenum">
              <a:t>45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304920" y="1366920"/>
            <a:ext cx="8312040" cy="71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Europei p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Sistema Informativo Tossicodipenden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tenziamento delle dotazioni informatiche dei Sert e implement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 un sistema di monitoraggio dell’utenza dei servizi basato sull’utilizz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 standard europe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ndo nazionale per la lotta alla dro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OGETTO DI COORDINAMENTO NA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o della Sal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o del Welf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ordinamento delle Regioni sulle Tossicodipendenz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collaborazione con C.N.R. e O.E.D.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it-I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1571760"/>
            <a:ext cx="876312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182520"/>
            <a:ext cx="63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Progetto </a:t>
            </a:r>
            <a:r>
              <a:rPr b="1" lang="en-US" sz="72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SESI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7486560" y="271440"/>
            <a:ext cx="889200" cy="89388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380880" y="4751280"/>
            <a:ext cx="8229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0880" y="1295280"/>
            <a:ext cx="830592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836F4-D173-4F1E-817F-F35C8F71906B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52280" y="10076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rogetto </a:t>
            </a:r>
            <a:r>
              <a:rPr b="1" lang="en-US" sz="54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SESIT</a:t>
            </a:r>
            <a:br>
              <a:rPr sz="72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tocolli concordati a livello naziona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17400" y="326376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alità di raccolta dati epidemiologici secondo STD Europei-OED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ella Unica delle Prestazio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ella Movimento Cli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pologie dei trattam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ma per la Valutazione dei risultati (principi ed indicatori di success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904080" y="565200"/>
            <a:ext cx="66204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782E0-FF7D-4918-BCF2-313799CF1321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roduzione ai sistemi assistenziali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ientati al TQM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l Dipartimen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lle Dipendenz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37160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. Serpell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533520" y="3733920"/>
            <a:ext cx="7848360" cy="1556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GRAZIE PER L’ATTENZI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3E295-6A85-4D9F-BD34-F947D12843E4}" type="slidenum">
              <a:t>48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2819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l concetto di sist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11990-D27E-4283-BBE4-5BC30EB7FD09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90600"/>
            <a:ext cx="9144000" cy="556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l concetto di “sistema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219320"/>
            <a:ext cx="7391520" cy="480060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4800600"/>
              <a:gd name="textAreaBottom" fmla="*/ 4800960 h 4800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8449938"/>
                <a:lnTo>
                  <a:pt x="17374" y="19368"/>
                </a:lnTo>
                <a:arcTo wR="10800" hR="10800" stAng="3150062" swAng="18449938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99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16002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213372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5720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olontari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16320" y="3413160"/>
            <a:ext cx="361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Tahoma"/>
              </a:rPr>
              <a:t>Diparti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4290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tre U.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ciosanita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403848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ociazioni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oper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11430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un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68CE9-ECC1-4A8E-8D66-396A0B402ADC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eri di base per il “sistema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42236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istem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insieme unitario di U.O. correlate e coordinate nelle finalità e nelle modalità operative, con processi espliciti e regole condiv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liente/person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ha un problema che deve trovare risposte unitarie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liente = “colui che scegli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rti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interdipendenz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ra U.O.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a Pari Dignit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ine dei “pianeti isolati”, dell’autarchia, dell’autoreferenzia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facile accesso e la multiofferta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l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ipartimento “permeabil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71661-9587-45E8-A6B9-3494FFD0A016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522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sistema delle dipendenz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 interventi in diversi ambienti di erog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7960" y="293040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venti s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ri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293040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n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11760" y="293040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mbulator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on ass. med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enza ass. med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1879200" y="334944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7" idx="3"/>
            <a:endCxn id="68" idx="1"/>
          </p:cNvCxnSpPr>
          <p:nvPr/>
        </p:nvCxnSpPr>
        <p:spPr>
          <a:xfrm>
            <a:off x="3581280" y="3349440"/>
            <a:ext cx="331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5613480" y="293040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miresidenzi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8" idx="3"/>
            <a:endCxn id="71" idx="1"/>
          </p:cNvCxnSpPr>
          <p:nvPr/>
        </p:nvCxnSpPr>
        <p:spPr>
          <a:xfrm>
            <a:off x="5283000" y="334944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7315200" y="293040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idenzi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1" idx="3"/>
            <a:endCxn id="73" idx="1"/>
          </p:cNvCxnSpPr>
          <p:nvPr/>
        </p:nvCxnSpPr>
        <p:spPr>
          <a:xfrm>
            <a:off x="6984720" y="334944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1025640" y="2511360"/>
            <a:ext cx="32040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17640" y="2511360"/>
            <a:ext cx="3207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54640" y="2511360"/>
            <a:ext cx="32040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30800" y="2511360"/>
            <a:ext cx="3207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07320" y="2511360"/>
            <a:ext cx="3207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31840" y="15876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7920" y="1600200"/>
            <a:ext cx="38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venti in Ambiente struttura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mbulatorio, residenza protet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9320" y="1587600"/>
            <a:ext cx="17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venti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biente n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uttu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3987720"/>
            <a:ext cx="152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tà Mobili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ratori di s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vent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70160" y="3987720"/>
            <a:ext cx="1127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coglienz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condizion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 urg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60920" y="3987720"/>
            <a:ext cx="1584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e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mbulatori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Privato Soc. Acc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on o senz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omministrazi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di meta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46600" y="3987720"/>
            <a:ext cx="123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biente 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ttività su 12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560" y="5943600"/>
            <a:ext cx="8077320" cy="457200"/>
          </a:xfrm>
          <a:prstGeom prst="rightArrow">
            <a:avLst>
              <a:gd name="adj1" fmla="val 55556"/>
              <a:gd name="adj2" fmla="val 164973"/>
            </a:avLst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68360" y="599436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inuità assistenz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562720"/>
            <a:ext cx="144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even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atto preco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4760" y="5668920"/>
            <a:ext cx="65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rapia e prevenzione secondaria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Riabilitazion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Reinser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64520" y="5181480"/>
            <a:ext cx="123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bienti 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ttività su 24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430524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ità d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etossific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ap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07320" y="3886200"/>
            <a:ext cx="3207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156204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ci d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c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7320" y="1143000"/>
            <a:ext cx="3207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1E615-EB32-4952-B7B9-08009149AD26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7600" y="2362320"/>
            <a:ext cx="850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gettazione e realizzazione di 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partimento delle Dipenden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4267080"/>
            <a:ext cx="228600" cy="2286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C994F-6BDE-4ED1-8780-4B0015F41D8B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7:32:38Z</dcterms:created>
  <dc:creator>Giovanni</dc:creator>
  <dc:description/>
  <dc:language>en-US</dc:language>
  <cp:lastModifiedBy>gioser</cp:lastModifiedBy>
  <dcterms:modified xsi:type="dcterms:W3CDTF">2004-10-21T10:25:40Z</dcterms:modified>
  <cp:revision>95</cp:revision>
  <dc:subject/>
  <dc:title>Introduzione  ai sistemi azzistenziali orientati al TQM</dc:title>
</cp:coreProperties>
</file>