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emcdda.eu.in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40040" y="0"/>
            <a:ext cx="7203960" cy="6861240"/>
          </a:xfrm>
          <a:custGeom>
            <a:avLst/>
            <a:gdLst/>
            <a:ahLst/>
            <a:rect l="l" t="t" r="r" b="b"/>
            <a:pathLst>
              <a:path w="4538" h="4322">
                <a:moveTo>
                  <a:pt x="4538" y="0"/>
                </a:moveTo>
                <a:cubicBezTo>
                  <a:pt x="3902" y="0"/>
                  <a:pt x="2544" y="2"/>
                  <a:pt x="1632" y="2"/>
                </a:cubicBezTo>
                <a:cubicBezTo>
                  <a:pt x="1092" y="974"/>
                  <a:pt x="420" y="2582"/>
                  <a:pt x="0" y="4322"/>
                </a:cubicBezTo>
                <a:cubicBezTo>
                  <a:pt x="1284" y="4322"/>
                  <a:pt x="3938" y="4322"/>
                  <a:pt x="4538" y="4322"/>
                </a:cubicBezTo>
                <a:cubicBezTo>
                  <a:pt x="4538" y="3398"/>
                  <a:pt x="4538" y="1116"/>
                  <a:pt x="4538" y="0"/>
                </a:cubicBezTo>
                <a:close/>
              </a:path>
            </a:pathLst>
          </a:custGeom>
          <a:solidFill>
            <a:srgbClr val="516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375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logosmall" descr=""/>
          <p:cNvPicPr/>
          <p:nvPr/>
        </p:nvPicPr>
        <p:blipFill>
          <a:blip r:embed="rId2"/>
          <a:stretch/>
        </p:blipFill>
        <p:spPr>
          <a:xfrm>
            <a:off x="8348760" y="6261120"/>
            <a:ext cx="457200" cy="455760"/>
          </a:xfrm>
          <a:prstGeom prst="rect">
            <a:avLst/>
          </a:prstGeom>
          <a:ln w="0">
            <a:noFill/>
          </a:ln>
        </p:spPr>
      </p:pic>
      <p:pic>
        <p:nvPicPr>
          <p:cNvPr id="5" name="webaddres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6400800"/>
            <a:ext cx="1322280" cy="12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81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Gregor Burkhart - </a:t>
            </a:r>
            <a:fld id="{83CF4E70-51C8-4E52-BC93-8E01BCF2B5D2}" type="slidenum">
              <a:rPr b="0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2485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6a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047760"/>
            <a:ext cx="64785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_template_EN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259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399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Arial"/>
              </a:rPr>
              <a:t>La prevenzione generale e specifica </a:t>
            </a:r>
            <a:br>
              <a:rPr sz="4000"/>
            </a:br>
            <a:br>
              <a:rPr sz="4000"/>
            </a:b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Descrizione della situazione in Europ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19280" y="58658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egor Burkhart,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agliar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1</a:t>
            </a: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3 Novembr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8200" y="47498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Verdana"/>
              </a:rPr>
              <a:t>www.emcdda.eu.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188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574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574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occupa de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blem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egati alla drog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non il suo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sum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occupa dei gruppi che non vengono raggiunti dalla prevenzione universale (es. giovani consumatori) o che non rispondono ad es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sponde meglio alle specifiche esigenze dei gruppi a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centra le risorse dove é più necessario e si collega meglio agli altri interventi soci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É difficile identificare direttamente i giovani a rischio e spesso essi non si considerano a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pplica in modo più specifico i Modelli di Protezione e di Rischio, es.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Hawkins-Catalano !!! – Cave: principalmente retrospettivo !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fattori a rischio per l’uso di droghe non sono necessariamente gli stessi per l’ab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trebbe essere più dispendiosa per ogni singola persona coinvolta (più intensiva, necessità di più tempo, più istituzioni coinvo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II.) Prevenzione specifica, perché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86800" y="4267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Modello di sviluppo sociale (Catalano-Hawkins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886200" cy="5257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dicato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oesione f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mil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i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ezione dei problemi familiari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/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genitoriali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ezione del supporto sociale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omportamento sano e integrazione so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pacita’ di adattamento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ade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guata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socializ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ione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bilità nel confrontarsi agli alt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bilità soci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Motiva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ione e frequenza scola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camento ai genitori e alla famig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camento alle istituzioni convenzio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8380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ato su comunità ad alto risch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ochi legami alle istituzioni convenzional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(fami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glia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 sc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uola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gruppo dei par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se competenze accademiche e psicosocial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so rinforzo dei comportamenti positiv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a parte degli insegnanti e dei genitor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grazione all’interno di gruppi deviati e uso di droghe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No sesso-specifico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equenza é contestata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(Flay &amp; Petraiti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400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llimento scola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ovani crimin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ruppi et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ovani che speriment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e2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ce2a2"/>
                </a:solidFill>
                <a:latin typeface="Arial"/>
              </a:rPr>
              <a:t>Frequentatori di rave-party </a:t>
            </a:r>
            <a:br>
              <a:rPr sz="3200"/>
            </a:br>
            <a:r>
              <a:rPr b="0" lang="it-IT" sz="3200" spc="-1" strike="noStrike">
                <a:solidFill>
                  <a:srgbClr val="fce2a2"/>
                </a:solidFill>
                <a:latin typeface="Arial"/>
              </a:rPr>
              <a:t>(ravers – Botell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3276720"/>
            <a:ext cx="3352680" cy="3581280"/>
          </a:xfrm>
          <a:prstGeom prst="wedgeRoundRectCallout">
            <a:avLst>
              <a:gd name="adj1" fmla="val -55162"/>
              <a:gd name="adj2" fmla="val -22472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00"/>
                </a:solidFill>
                <a:latin typeface="Verdana"/>
              </a:rPr>
              <a:t>Spesso esclusi dai centri e dagli impieghi regolari per giovan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Attivitá in 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O: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umerosi Comuni hanno creato servizi che forniscono consigli, supporto e servizi di riferimento per ragazzi con problemi legati alla drog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114800" y="2819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Prevenzione selettiva – i gruppi più colpiti in Europ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2209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e01496_" descr=""/>
          <p:cNvPicPr/>
          <p:nvPr/>
        </p:nvPicPr>
        <p:blipFill>
          <a:blip r:embed="rId2"/>
          <a:stretch/>
        </p:blipFill>
        <p:spPr>
          <a:xfrm>
            <a:off x="6885000" y="838080"/>
            <a:ext cx="225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1 – Abbandono scolastico precoce ed emarginazion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talia, Portogallo, Spagna e Norvegia: attivazione di curricula alternativi e programmi di addestramento profession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: Programma per ragazzi finalizzato ad una seconda possibilità educativa e di apprendimento, come alternativa al principale programma educativo. Basati sulle comunità locali più disagi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K – valutazione di un progetto : corsi di educazione sulle droghe; esercizi di abilità nell’affrontare la vita; e attività alternative. Articolo 15 su http://www.drugs.gov.uk/ReportsandPublications/DPASPub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19671_" descr=""/>
          <p:cNvPicPr/>
          <p:nvPr/>
        </p:nvPicPr>
        <p:blipFill>
          <a:blip r:embed="rId1"/>
          <a:stretch/>
        </p:blipFill>
        <p:spPr>
          <a:xfrm>
            <a:off x="5937120" y="1295280"/>
            <a:ext cx="3206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2 - Prevenzione dell’abbandono scolastico precoce </a:t>
            </a:r>
            <a:r>
              <a:rPr b="0" i="1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nelle scuol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ia e Austria: Programmi Step by Step – per aiutare gli insegnanti ad identificare gli studenti a rischio. In Norvegia: un relativo manu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ancia:  Punti di riferimento – durante la pausa di ricreazione, finalizzati alla prevenzione del comportamento a rischio nelle scuole con suggerimenti specif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 e Italia: controllo della frequenza, contatti con le famigl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e01605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sempio sul rischio 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dell’abbandono scolastico 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- EDDR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Y (St. Aengus Stay-In-School Youth Project) – IRL,  etá : 10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e ai partecipanti di continuare l’educazione istituzionale. Attività per promuovere una cooperazione attiva tra casa, scuola e istituzioni comunita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viluppo di abilità sociali e personali: gruppo di sostegno per i compiti a casa, lezioni di computer, arte, cucina, primo soccorso, presa di coscienza del fenomeno droga e una serie attività all’aper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partecipanti al progetto durante gli ultimi due anni frequentano ancora l’educazione di base. Le attività proposte sono state accolte favorevolmente (tasso di frequenza oltre il 90%). E’ stata sviluppata una rete tra  il progetto e l’organizzazi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Giovani criminali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nlandia e Lussemburgo: Applicazione di progetti di legge finalizzati all’intervento precoce sui consumatori di sostanze stupefac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ia FRED – programma strutturato per interventi precoci sui consumatori di sostante stupefac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no Unito Giovani criminali: Youth Offending Teams (YOTs) – lavora per evitare un secondo cri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cia: Incontri Locali di Prevenzione del Cri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alia: progetto specifico nazionale: prevenzione interventi e sostegno psico-sociale. Es.  Attività sportive, corsi professionali con  tirocini e inserimento nel mondo del lav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bs00285_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tni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 se stesso non e’ un fattore a rischio riguardo l’abuso e i problemi legati alle sostanze stupefa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so livello culturale e/o socio-economico, esclusione sociale, alterate capacità di comunicazione, differenti norme e abilita‘ sociali, bassi livelli di coinvolgimento sociale per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cun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uppi et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fattori di vulnerabilità hanno differente peso secondo l’etnia (es. SSE per gli Afro-america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versi per ogni stato membro: Rimpatriati Russi in Germania, Marocchini in Spagna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che risposte: in Germania, Grecia, Regno Unito e Spag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600" y="5029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scar Wil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371600"/>
            <a:ext cx="6705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de-DE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„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All bad art is the result of good intentions</a:t>
            </a:r>
            <a:r>
              <a:rPr b="0" i="1" lang="de-DE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DDRA – Etnia – Spagna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argare il circolo di relazioni interpersonali tra i ragazzi immigrati e i giovani, praticando attività sportive all’aperto, fuori dal loro ambiente natur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tegrazione, cambiamento dello stile di vita e accettazione delle reg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t programma, il 100% degli adolescenti partecipanti  sono integrati nel gruppo di giovani e stabiliscono contatti con altri adolescenti appartenenti ad un ambiente differente dal 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ima, il 60% degli adolescenti fumava tabacco e il 20% hashish. Dopo aver iniziato a praticare l’attività fisica regolarmente, questo consumo si é ridotto in ogni caso. Non hanno smesso di fumare ma il 40% dei partecipanti ha ridotto per metà l’uso di tabac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DDRA – Wagon – consulenza per giovani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ovani adulti con problemi di abuso di alcool, farmaci and Cannabis stabilitisi nella stazione ferroviaria di Mödling, 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stituzione di un luogo di incontro a bassa soglia con lo scopo di poter essere utilizzato dai giovani, locato in un punto cruciale di passaggio e di attesa per i mezzi di trasporto pubbl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media circa 50 utenti al gior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personale, le proposte e lo spazio a disposizione sono state sfruttati ad un livello mass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cussioni-eventi, comunicazione più chiara delle regole nel luogo di incontro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l’atmosfera tra gli utenti (litigi tra Turchi e altri gruppi) é miglior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Prevenzione specifica – principali contesti a rischio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mpo libero altern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miglie a ris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rtieri a risch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j0130189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429000" cy="2550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48320" y="167652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Less" w="21600" h="27780">
                <a:moveTo>
                  <a:pt x="5273" y="7075"/>
                </a:moveTo>
                <a:lnTo>
                  <a:pt x="12271" y="7075"/>
                </a:lnTo>
                <a:lnTo>
                  <a:pt x="16327" y="10574"/>
                </a:lnTo>
                <a:lnTo>
                  <a:pt x="16327" y="20705"/>
                </a:lnTo>
                <a:lnTo>
                  <a:pt x="5273" y="20705"/>
                </a:lnTo>
                <a:close/>
              </a:path>
              <a:path fill="darken" w="21600" h="27780">
                <a:moveTo>
                  <a:pt x="12271" y="7075"/>
                </a:moveTo>
                <a:lnTo>
                  <a:pt x="16327" y="10574"/>
                </a:lnTo>
                <a:lnTo>
                  <a:pt x="12271" y="1057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30481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Tempo libero alternativo per giovani a rischio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ria: Lavoro mobile nella strada acquista maggiore copertura geogra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 and IRL: Bar per giovani come sicuri luoghi di incontro dove i giovani possono interagire con il gruppo e con gli adulti. Lavoro di supporto professionale per giovani adulti seguito da volontar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: Informazione, sostegno psicosociale, e coinvolgimento in attività creative come alternative all’uso di sostanze stupefacenti, la maggior parte attuate dai centri di trat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, SE and DK: “I corvi della notte” – pattuglie stradali di adulti durante i fine settimana e la notte per ridurre la probabilità di atti violenti e danno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gna: molti esempi valutati, approccio chi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07732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934920"/>
          <a:ext cx="9144000" cy="59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4920"/>
                    <a:ext cx="914400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Family-based prevention, how specific?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7724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9895"/>
                </a:moveTo>
                <a:lnTo>
                  <a:pt x="7301" y="9895"/>
                </a:lnTo>
                <a:lnTo>
                  <a:pt x="7301" y="15230"/>
                </a:lnTo>
                <a:cubicBezTo>
                  <a:pt x="7301" y="16153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3"/>
                  <a:pt x="12636" y="15230"/>
                </a:cubicBezTo>
                <a:lnTo>
                  <a:pt x="12636" y="9895"/>
                </a:lnTo>
                <a:lnTo>
                  <a:pt x="10800" y="9895"/>
                </a:lnTo>
                <a:lnTo>
                  <a:pt x="14308" y="6388"/>
                </a:lnTo>
                <a:lnTo>
                  <a:pt x="17981" y="9895"/>
                </a:lnTo>
                <a:lnTo>
                  <a:pt x="16144" y="9895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Attività per quartieri o zone a rischio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esi Bassi – Programma basato sui pari riguardante ragazzi tra i 16 e i 20 anni  e i loro contatti chiave (giovani lavoratori, polizia, abitanti locali ec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 – Sviluppo di centri ricreativi e sportivi in aree svantagg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- Positive Futures: Sviluppo di centri ricreativi e sportivi in 100 aree svantaggiate. Riduzione delle attività criminali e dell' abbandono scolastico + miglioramento della coscienza comu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a: Irlanda e Regno Unito sono gli unici due Stati Membri che registrano le zone problematiche in modo da poter indirizzarvi programmi speci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Da considerare...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chi studi, ma ancora meno gli interventi corrispond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re Valutazioni (3-4 per Paese), sopratutto di processo. In questa area però la valutazione potrebbe fornire risultati più visibi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maggior parte sono indicatori di inclusione sociale, criminalità, relazioni, performance scolastica, altre variabili interven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li esempi d’interventi sono possibilmente deviati dalla politica soci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mancanza di una visione di prevenzione di droga nelle politiche social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essere a rischio e’ un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strut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focalizzare gli interventi verso i principali bisogni, ma non per predire il consumo di droghe ne per etichettare alcuni gruppi socia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rettezza politica qualche volta è un ostacolo  specialmente riguardo l’etnia e i quartieri a rischio =&gt;&gt; paura dell’ “etichettamento“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sere a rischio” non equivale ad “avere bisogno di un trattamento per tossicodipendent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cora tante lacune nella applicazione della prevenzione selettiva basata sull’evidenza tra gli stati membr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10800" y="2019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392">
                <a:moveTo>
                  <a:pt x="11905" y="19677"/>
                </a:moveTo>
                <a:lnTo>
                  <a:pt x="11905" y="17719"/>
                </a:lnTo>
                <a:cubicBezTo>
                  <a:pt x="11905" y="16892"/>
                  <a:pt x="12236" y="16196"/>
                  <a:pt x="12837" y="16196"/>
                </a:cubicBezTo>
                <a:cubicBezTo>
                  <a:pt x="13968" y="16196"/>
                  <a:pt x="14865" y="14829"/>
                  <a:pt x="14865" y="13245"/>
                </a:cubicBezTo>
                <a:cubicBezTo>
                  <a:pt x="14865" y="10930"/>
                  <a:pt x="13011" y="9189"/>
                  <a:pt x="10800" y="9189"/>
                </a:cubicBezTo>
                <a:cubicBezTo>
                  <a:pt x="8589" y="9189"/>
                  <a:pt x="6918" y="10930"/>
                  <a:pt x="6918" y="13245"/>
                </a:cubicBezTo>
                <a:lnTo>
                  <a:pt x="8772" y="13245"/>
                </a:lnTo>
                <a:cubicBezTo>
                  <a:pt x="8772" y="12105"/>
                  <a:pt x="9695" y="11217"/>
                  <a:pt x="10800" y="11217"/>
                </a:cubicBezTo>
                <a:cubicBezTo>
                  <a:pt x="11905" y="11217"/>
                  <a:pt x="12837" y="12105"/>
                  <a:pt x="12837" y="13245"/>
                </a:cubicBezTo>
                <a:cubicBezTo>
                  <a:pt x="12837" y="13985"/>
                  <a:pt x="12367" y="14716"/>
                  <a:pt x="11905" y="14716"/>
                </a:cubicBezTo>
                <a:cubicBezTo>
                  <a:pt x="10800" y="14716"/>
                  <a:pt x="9695" y="16196"/>
                  <a:pt x="9695" y="17719"/>
                </a:cubicBezTo>
                <a:lnTo>
                  <a:pt x="9695" y="1967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1600200"/>
            <a:ext cx="8381880" cy="4572000"/>
          </a:xfrm>
          <a:prstGeom prst="rtTriangle">
            <a:avLst/>
          </a:prstGeom>
          <a:gradFill rotWithShape="0">
            <a:gsLst>
              <a:gs pos="0">
                <a:srgbClr val="846825"/>
              </a:gs>
              <a:gs pos="100000">
                <a:srgbClr val="fac5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Dimensione della popolazione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univers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27672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selet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80060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indic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47920" y="99072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14800" y="1447920"/>
            <a:ext cx="1143000" cy="12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905120"/>
            <a:ext cx="7086600" cy="3657600"/>
          </a:xfrm>
          <a:custGeom>
            <a:avLst/>
            <a:gdLst/>
            <a:ahLst/>
            <a:rect l="l" t="t" r="r" b="b"/>
            <a:pathLst>
              <a:path w="4512" h="2640">
                <a:moveTo>
                  <a:pt x="0" y="2640"/>
                </a:moveTo>
                <a:cubicBezTo>
                  <a:pt x="680" y="2500"/>
                  <a:pt x="1360" y="2360"/>
                  <a:pt x="2112" y="1920"/>
                </a:cubicBezTo>
                <a:cubicBezTo>
                  <a:pt x="2864" y="1480"/>
                  <a:pt x="4048" y="376"/>
                  <a:pt x="451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81680" y="2057400"/>
            <a:ext cx="1905120" cy="217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1295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c546"/>
                </a:solidFill>
                <a:latin typeface="Times New Roman"/>
              </a:rPr>
              <a:t>Risch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 rot="16196400">
            <a:off x="-1915200" y="3439080"/>
            <a:ext cx="457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ccio della Salute Pubblica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Contesto sinottico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0360" y="10666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êt à 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640" y="41911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u mis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cc00"/>
                </a:solidFill>
                <a:latin typeface="Arial"/>
              </a:rPr>
              <a:t>Tipologie di prevenzione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nerale (solitamente nella scuola e nelle comunità locali) riguarda l’intera popolazione, non valutando particolari risch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ifica – per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gruppi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ischio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pproccio legato ai fattori di rischio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sicosociali: disagio, stress, abuso di sostanze stupefacenti nell’ambito famili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mografici: sesso, etnia, status socio-econo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mbientali: disagio, attività illecite, disoccupazione, valori nell’ambito della comunità lo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iologici: Depressione, reazioni anomale alle sostanze stupefac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038480"/>
            <a:ext cx="4191120" cy="2102760"/>
          </a:xfrm>
          <a:prstGeom prst="rect">
            <a:avLst/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00"/>
                </a:solidFill>
                <a:latin typeface="Arial"/>
              </a:rPr>
              <a:t>Non si discute ogg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Prevenzione indicata– per soggetti individuali a risch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Prevenzione sesso-specif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Senza te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Trattamento per giov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48240" y="54000"/>
            <a:ext cx="78120" cy="55440"/>
          </a:xfrm>
          <a:custGeom>
            <a:avLst/>
            <a:gdLst/>
            <a:ahLst/>
            <a:rect l="l" t="t" r="r" b="b"/>
            <a:pathLst>
              <a:path w="90" h="62">
                <a:moveTo>
                  <a:pt x="40" y="17"/>
                </a:moveTo>
                <a:lnTo>
                  <a:pt x="58" y="27"/>
                </a:lnTo>
                <a:lnTo>
                  <a:pt x="90" y="0"/>
                </a:lnTo>
                <a:lnTo>
                  <a:pt x="73" y="55"/>
                </a:lnTo>
                <a:lnTo>
                  <a:pt x="40" y="62"/>
                </a:lnTo>
                <a:lnTo>
                  <a:pt x="0" y="22"/>
                </a:lnTo>
                <a:lnTo>
                  <a:pt x="40" y="1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0880" y="0"/>
            <a:ext cx="38160" cy="36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3" y="0"/>
                </a:moveTo>
                <a:lnTo>
                  <a:pt x="40" y="15"/>
                </a:lnTo>
                <a:lnTo>
                  <a:pt x="45" y="40"/>
                </a:lnTo>
                <a:lnTo>
                  <a:pt x="0" y="40"/>
                </a:lnTo>
                <a:lnTo>
                  <a:pt x="23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5153040" y="0"/>
              <a:ext cx="1658880" cy="1930320"/>
            </a:xfrm>
            <a:custGeom>
              <a:avLst/>
              <a:gdLst/>
              <a:ahLst/>
              <a:rect l="l" t="t" r="r" b="b"/>
              <a:pathLst>
                <a:path w="1915" h="2103">
                  <a:moveTo>
                    <a:pt x="515" y="1980"/>
                  </a:moveTo>
                  <a:lnTo>
                    <a:pt x="520" y="1975"/>
                  </a:lnTo>
                  <a:lnTo>
                    <a:pt x="540" y="1970"/>
                  </a:lnTo>
                  <a:lnTo>
                    <a:pt x="555" y="1948"/>
                  </a:lnTo>
                  <a:lnTo>
                    <a:pt x="563" y="1920"/>
                  </a:lnTo>
                  <a:lnTo>
                    <a:pt x="570" y="1905"/>
                  </a:lnTo>
                  <a:lnTo>
                    <a:pt x="563" y="1865"/>
                  </a:lnTo>
                  <a:lnTo>
                    <a:pt x="570" y="1835"/>
                  </a:lnTo>
                  <a:lnTo>
                    <a:pt x="590" y="1823"/>
                  </a:lnTo>
                  <a:lnTo>
                    <a:pt x="640" y="1803"/>
                  </a:lnTo>
                  <a:lnTo>
                    <a:pt x="648" y="1780"/>
                  </a:lnTo>
                  <a:lnTo>
                    <a:pt x="640" y="1708"/>
                  </a:lnTo>
                  <a:lnTo>
                    <a:pt x="633" y="1695"/>
                  </a:lnTo>
                  <a:lnTo>
                    <a:pt x="633" y="1655"/>
                  </a:lnTo>
                  <a:lnTo>
                    <a:pt x="618" y="1638"/>
                  </a:lnTo>
                  <a:lnTo>
                    <a:pt x="625" y="1605"/>
                  </a:lnTo>
                  <a:lnTo>
                    <a:pt x="640" y="1605"/>
                  </a:lnTo>
                  <a:lnTo>
                    <a:pt x="675" y="1583"/>
                  </a:lnTo>
                  <a:lnTo>
                    <a:pt x="648" y="1520"/>
                  </a:lnTo>
                  <a:lnTo>
                    <a:pt x="633" y="1498"/>
                  </a:lnTo>
                  <a:lnTo>
                    <a:pt x="633" y="1493"/>
                  </a:lnTo>
                  <a:lnTo>
                    <a:pt x="633" y="1438"/>
                  </a:lnTo>
                  <a:lnTo>
                    <a:pt x="655" y="1395"/>
                  </a:lnTo>
                  <a:lnTo>
                    <a:pt x="660" y="1353"/>
                  </a:lnTo>
                  <a:lnTo>
                    <a:pt x="668" y="1303"/>
                  </a:lnTo>
                  <a:lnTo>
                    <a:pt x="660" y="1263"/>
                  </a:lnTo>
                  <a:lnTo>
                    <a:pt x="675" y="1233"/>
                  </a:lnTo>
                  <a:lnTo>
                    <a:pt x="683" y="1213"/>
                  </a:lnTo>
                  <a:lnTo>
                    <a:pt x="725" y="1185"/>
                  </a:lnTo>
                  <a:lnTo>
                    <a:pt x="765" y="1170"/>
                  </a:lnTo>
                  <a:lnTo>
                    <a:pt x="803" y="1185"/>
                  </a:lnTo>
                  <a:lnTo>
                    <a:pt x="815" y="1193"/>
                  </a:lnTo>
                  <a:lnTo>
                    <a:pt x="835" y="1163"/>
                  </a:lnTo>
                  <a:lnTo>
                    <a:pt x="835" y="1130"/>
                  </a:lnTo>
                  <a:lnTo>
                    <a:pt x="815" y="1065"/>
                  </a:lnTo>
                  <a:lnTo>
                    <a:pt x="808" y="1038"/>
                  </a:lnTo>
                  <a:lnTo>
                    <a:pt x="815" y="1023"/>
                  </a:lnTo>
                  <a:lnTo>
                    <a:pt x="828" y="1023"/>
                  </a:lnTo>
                  <a:lnTo>
                    <a:pt x="845" y="1003"/>
                  </a:lnTo>
                  <a:lnTo>
                    <a:pt x="853" y="960"/>
                  </a:lnTo>
                  <a:lnTo>
                    <a:pt x="858" y="903"/>
                  </a:lnTo>
                  <a:lnTo>
                    <a:pt x="865" y="848"/>
                  </a:lnTo>
                  <a:lnTo>
                    <a:pt x="885" y="825"/>
                  </a:lnTo>
                  <a:lnTo>
                    <a:pt x="928" y="800"/>
                  </a:lnTo>
                  <a:lnTo>
                    <a:pt x="955" y="785"/>
                  </a:lnTo>
                  <a:lnTo>
                    <a:pt x="963" y="743"/>
                  </a:lnTo>
                  <a:lnTo>
                    <a:pt x="978" y="715"/>
                  </a:lnTo>
                  <a:lnTo>
                    <a:pt x="1013" y="685"/>
                  </a:lnTo>
                  <a:lnTo>
                    <a:pt x="1020" y="665"/>
                  </a:lnTo>
                  <a:lnTo>
                    <a:pt x="1013" y="645"/>
                  </a:lnTo>
                  <a:lnTo>
                    <a:pt x="1013" y="615"/>
                  </a:lnTo>
                  <a:lnTo>
                    <a:pt x="1040" y="595"/>
                  </a:lnTo>
                  <a:lnTo>
                    <a:pt x="1075" y="533"/>
                  </a:lnTo>
                  <a:lnTo>
                    <a:pt x="1103" y="538"/>
                  </a:lnTo>
                  <a:lnTo>
                    <a:pt x="1143" y="505"/>
                  </a:lnTo>
                  <a:lnTo>
                    <a:pt x="1138" y="475"/>
                  </a:lnTo>
                  <a:lnTo>
                    <a:pt x="1165" y="448"/>
                  </a:lnTo>
                  <a:lnTo>
                    <a:pt x="1180" y="455"/>
                  </a:lnTo>
                  <a:lnTo>
                    <a:pt x="1208" y="448"/>
                  </a:lnTo>
                  <a:lnTo>
                    <a:pt x="1250" y="455"/>
                  </a:lnTo>
                  <a:lnTo>
                    <a:pt x="1305" y="405"/>
                  </a:lnTo>
                  <a:lnTo>
                    <a:pt x="1298" y="378"/>
                  </a:lnTo>
                  <a:lnTo>
                    <a:pt x="1305" y="363"/>
                  </a:lnTo>
                  <a:lnTo>
                    <a:pt x="1290" y="355"/>
                  </a:lnTo>
                  <a:lnTo>
                    <a:pt x="1320" y="330"/>
                  </a:lnTo>
                  <a:lnTo>
                    <a:pt x="1360" y="325"/>
                  </a:lnTo>
                  <a:lnTo>
                    <a:pt x="1390" y="363"/>
                  </a:lnTo>
                  <a:lnTo>
                    <a:pt x="1438" y="418"/>
                  </a:lnTo>
                  <a:lnTo>
                    <a:pt x="1460" y="418"/>
                  </a:lnTo>
                  <a:lnTo>
                    <a:pt x="1488" y="398"/>
                  </a:lnTo>
                  <a:lnTo>
                    <a:pt x="1508" y="393"/>
                  </a:lnTo>
                  <a:lnTo>
                    <a:pt x="1523" y="398"/>
                  </a:lnTo>
                  <a:lnTo>
                    <a:pt x="1545" y="418"/>
                  </a:lnTo>
                  <a:lnTo>
                    <a:pt x="1570" y="425"/>
                  </a:lnTo>
                  <a:lnTo>
                    <a:pt x="1578" y="418"/>
                  </a:lnTo>
                  <a:lnTo>
                    <a:pt x="1593" y="393"/>
                  </a:lnTo>
                  <a:lnTo>
                    <a:pt x="1600" y="378"/>
                  </a:lnTo>
                  <a:lnTo>
                    <a:pt x="1628" y="330"/>
                  </a:lnTo>
                  <a:lnTo>
                    <a:pt x="1635" y="325"/>
                  </a:lnTo>
                  <a:lnTo>
                    <a:pt x="1628" y="253"/>
                  </a:lnTo>
                  <a:lnTo>
                    <a:pt x="1663" y="218"/>
                  </a:lnTo>
                  <a:lnTo>
                    <a:pt x="1678" y="225"/>
                  </a:lnTo>
                  <a:lnTo>
                    <a:pt x="1718" y="183"/>
                  </a:lnTo>
                  <a:lnTo>
                    <a:pt x="1755" y="225"/>
                  </a:lnTo>
                  <a:lnTo>
                    <a:pt x="1768" y="238"/>
                  </a:lnTo>
                  <a:lnTo>
                    <a:pt x="1788" y="230"/>
                  </a:lnTo>
                  <a:lnTo>
                    <a:pt x="1803" y="253"/>
                  </a:lnTo>
                  <a:lnTo>
                    <a:pt x="1803" y="268"/>
                  </a:lnTo>
                  <a:lnTo>
                    <a:pt x="1818" y="280"/>
                  </a:lnTo>
                  <a:lnTo>
                    <a:pt x="1818" y="300"/>
                  </a:lnTo>
                  <a:lnTo>
                    <a:pt x="1838" y="275"/>
                  </a:lnTo>
                  <a:lnTo>
                    <a:pt x="1875" y="248"/>
                  </a:lnTo>
                  <a:lnTo>
                    <a:pt x="1895" y="203"/>
                  </a:lnTo>
                  <a:lnTo>
                    <a:pt x="1880" y="198"/>
                  </a:lnTo>
                  <a:lnTo>
                    <a:pt x="1858" y="218"/>
                  </a:lnTo>
                  <a:lnTo>
                    <a:pt x="1853" y="183"/>
                  </a:lnTo>
                  <a:lnTo>
                    <a:pt x="1838" y="175"/>
                  </a:lnTo>
                  <a:lnTo>
                    <a:pt x="1833" y="155"/>
                  </a:lnTo>
                  <a:lnTo>
                    <a:pt x="1888" y="113"/>
                  </a:lnTo>
                  <a:lnTo>
                    <a:pt x="1908" y="120"/>
                  </a:lnTo>
                  <a:lnTo>
                    <a:pt x="1915" y="90"/>
                  </a:lnTo>
                  <a:lnTo>
                    <a:pt x="1903" y="83"/>
                  </a:lnTo>
                  <a:lnTo>
                    <a:pt x="1865" y="70"/>
                  </a:lnTo>
                  <a:lnTo>
                    <a:pt x="1845" y="63"/>
                  </a:lnTo>
                  <a:lnTo>
                    <a:pt x="1818" y="35"/>
                  </a:lnTo>
                  <a:lnTo>
                    <a:pt x="1788" y="28"/>
                  </a:lnTo>
                  <a:lnTo>
                    <a:pt x="1760" y="58"/>
                  </a:lnTo>
                  <a:lnTo>
                    <a:pt x="1748" y="78"/>
                  </a:lnTo>
                  <a:lnTo>
                    <a:pt x="1718" y="58"/>
                  </a:lnTo>
                  <a:lnTo>
                    <a:pt x="1733" y="43"/>
                  </a:lnTo>
                  <a:lnTo>
                    <a:pt x="1740" y="8"/>
                  </a:lnTo>
                  <a:lnTo>
                    <a:pt x="1733" y="0"/>
                  </a:lnTo>
                  <a:lnTo>
                    <a:pt x="1698" y="0"/>
                  </a:lnTo>
                  <a:lnTo>
                    <a:pt x="1690" y="13"/>
                  </a:lnTo>
                  <a:lnTo>
                    <a:pt x="1685" y="35"/>
                  </a:lnTo>
                  <a:lnTo>
                    <a:pt x="1690" y="58"/>
                  </a:lnTo>
                  <a:lnTo>
                    <a:pt x="1663" y="83"/>
                  </a:lnTo>
                  <a:lnTo>
                    <a:pt x="1640" y="43"/>
                  </a:lnTo>
                  <a:lnTo>
                    <a:pt x="1620" y="50"/>
                  </a:lnTo>
                  <a:lnTo>
                    <a:pt x="1615" y="83"/>
                  </a:lnTo>
                  <a:lnTo>
                    <a:pt x="1600" y="133"/>
                  </a:lnTo>
                  <a:lnTo>
                    <a:pt x="1565" y="168"/>
                  </a:lnTo>
                  <a:lnTo>
                    <a:pt x="1545" y="128"/>
                  </a:lnTo>
                  <a:lnTo>
                    <a:pt x="1578" y="98"/>
                  </a:lnTo>
                  <a:lnTo>
                    <a:pt x="1585" y="58"/>
                  </a:lnTo>
                  <a:lnTo>
                    <a:pt x="1565" y="58"/>
                  </a:lnTo>
                  <a:lnTo>
                    <a:pt x="1530" y="58"/>
                  </a:lnTo>
                  <a:lnTo>
                    <a:pt x="1500" y="98"/>
                  </a:lnTo>
                  <a:lnTo>
                    <a:pt x="1468" y="155"/>
                  </a:lnTo>
                  <a:lnTo>
                    <a:pt x="1480" y="183"/>
                  </a:lnTo>
                  <a:lnTo>
                    <a:pt x="1460" y="198"/>
                  </a:lnTo>
                  <a:lnTo>
                    <a:pt x="1430" y="175"/>
                  </a:lnTo>
                  <a:lnTo>
                    <a:pt x="1403" y="190"/>
                  </a:lnTo>
                  <a:lnTo>
                    <a:pt x="1410" y="218"/>
                  </a:lnTo>
                  <a:lnTo>
                    <a:pt x="1375" y="218"/>
                  </a:lnTo>
                  <a:lnTo>
                    <a:pt x="1353" y="225"/>
                  </a:lnTo>
                  <a:lnTo>
                    <a:pt x="1328" y="260"/>
                  </a:lnTo>
                  <a:lnTo>
                    <a:pt x="1290" y="253"/>
                  </a:lnTo>
                  <a:lnTo>
                    <a:pt x="1290" y="275"/>
                  </a:lnTo>
                  <a:lnTo>
                    <a:pt x="1263" y="253"/>
                  </a:lnTo>
                  <a:lnTo>
                    <a:pt x="1228" y="268"/>
                  </a:lnTo>
                  <a:lnTo>
                    <a:pt x="1220" y="295"/>
                  </a:lnTo>
                  <a:lnTo>
                    <a:pt x="1193" y="300"/>
                  </a:lnTo>
                  <a:lnTo>
                    <a:pt x="1173" y="275"/>
                  </a:lnTo>
                  <a:lnTo>
                    <a:pt x="1130" y="280"/>
                  </a:lnTo>
                  <a:lnTo>
                    <a:pt x="1088" y="295"/>
                  </a:lnTo>
                  <a:lnTo>
                    <a:pt x="1088" y="338"/>
                  </a:lnTo>
                  <a:lnTo>
                    <a:pt x="1115" y="345"/>
                  </a:lnTo>
                  <a:lnTo>
                    <a:pt x="1115" y="355"/>
                  </a:lnTo>
                  <a:lnTo>
                    <a:pt x="1115" y="385"/>
                  </a:lnTo>
                  <a:lnTo>
                    <a:pt x="1093" y="378"/>
                  </a:lnTo>
                  <a:lnTo>
                    <a:pt x="1068" y="393"/>
                  </a:lnTo>
                  <a:lnTo>
                    <a:pt x="1075" y="418"/>
                  </a:lnTo>
                  <a:lnTo>
                    <a:pt x="1103" y="443"/>
                  </a:lnTo>
                  <a:lnTo>
                    <a:pt x="1103" y="475"/>
                  </a:lnTo>
                  <a:lnTo>
                    <a:pt x="1075" y="463"/>
                  </a:lnTo>
                  <a:lnTo>
                    <a:pt x="1055" y="468"/>
                  </a:lnTo>
                  <a:lnTo>
                    <a:pt x="1055" y="498"/>
                  </a:lnTo>
                  <a:lnTo>
                    <a:pt x="1020" y="498"/>
                  </a:lnTo>
                  <a:lnTo>
                    <a:pt x="993" y="498"/>
                  </a:lnTo>
                  <a:lnTo>
                    <a:pt x="985" y="518"/>
                  </a:lnTo>
                  <a:lnTo>
                    <a:pt x="978" y="533"/>
                  </a:lnTo>
                  <a:lnTo>
                    <a:pt x="955" y="538"/>
                  </a:lnTo>
                  <a:lnTo>
                    <a:pt x="948" y="553"/>
                  </a:lnTo>
                  <a:lnTo>
                    <a:pt x="955" y="575"/>
                  </a:lnTo>
                  <a:lnTo>
                    <a:pt x="915" y="588"/>
                  </a:lnTo>
                  <a:lnTo>
                    <a:pt x="943" y="615"/>
                  </a:lnTo>
                  <a:lnTo>
                    <a:pt x="948" y="630"/>
                  </a:lnTo>
                  <a:lnTo>
                    <a:pt x="923" y="653"/>
                  </a:lnTo>
                  <a:lnTo>
                    <a:pt x="873" y="685"/>
                  </a:lnTo>
                  <a:lnTo>
                    <a:pt x="835" y="715"/>
                  </a:lnTo>
                  <a:lnTo>
                    <a:pt x="815" y="755"/>
                  </a:lnTo>
                  <a:lnTo>
                    <a:pt x="780" y="785"/>
                  </a:lnTo>
                  <a:lnTo>
                    <a:pt x="780" y="805"/>
                  </a:lnTo>
                  <a:lnTo>
                    <a:pt x="788" y="825"/>
                  </a:lnTo>
                  <a:lnTo>
                    <a:pt x="758" y="848"/>
                  </a:lnTo>
                  <a:lnTo>
                    <a:pt x="765" y="875"/>
                  </a:lnTo>
                  <a:lnTo>
                    <a:pt x="738" y="925"/>
                  </a:lnTo>
                  <a:lnTo>
                    <a:pt x="718" y="933"/>
                  </a:lnTo>
                  <a:lnTo>
                    <a:pt x="718" y="968"/>
                  </a:lnTo>
                  <a:lnTo>
                    <a:pt x="733" y="990"/>
                  </a:lnTo>
                  <a:lnTo>
                    <a:pt x="710" y="1010"/>
                  </a:lnTo>
                  <a:lnTo>
                    <a:pt x="695" y="995"/>
                  </a:lnTo>
                  <a:lnTo>
                    <a:pt x="668" y="1010"/>
                  </a:lnTo>
                  <a:lnTo>
                    <a:pt x="675" y="1053"/>
                  </a:lnTo>
                  <a:lnTo>
                    <a:pt x="648" y="1065"/>
                  </a:lnTo>
                  <a:lnTo>
                    <a:pt x="605" y="1073"/>
                  </a:lnTo>
                  <a:lnTo>
                    <a:pt x="578" y="1108"/>
                  </a:lnTo>
                  <a:lnTo>
                    <a:pt x="570" y="1143"/>
                  </a:lnTo>
                  <a:lnTo>
                    <a:pt x="540" y="1170"/>
                  </a:lnTo>
                  <a:lnTo>
                    <a:pt x="540" y="1193"/>
                  </a:lnTo>
                  <a:lnTo>
                    <a:pt x="578" y="1163"/>
                  </a:lnTo>
                  <a:lnTo>
                    <a:pt x="618" y="1135"/>
                  </a:lnTo>
                  <a:lnTo>
                    <a:pt x="633" y="1143"/>
                  </a:lnTo>
                  <a:lnTo>
                    <a:pt x="618" y="1185"/>
                  </a:lnTo>
                  <a:lnTo>
                    <a:pt x="585" y="1208"/>
                  </a:lnTo>
                  <a:lnTo>
                    <a:pt x="548" y="1200"/>
                  </a:lnTo>
                  <a:lnTo>
                    <a:pt x="555" y="1228"/>
                  </a:lnTo>
                  <a:lnTo>
                    <a:pt x="508" y="1248"/>
                  </a:lnTo>
                  <a:lnTo>
                    <a:pt x="500" y="1208"/>
                  </a:lnTo>
                  <a:lnTo>
                    <a:pt x="478" y="1193"/>
                  </a:lnTo>
                  <a:lnTo>
                    <a:pt x="450" y="1233"/>
                  </a:lnTo>
                  <a:lnTo>
                    <a:pt x="423" y="1233"/>
                  </a:lnTo>
                  <a:lnTo>
                    <a:pt x="393" y="1240"/>
                  </a:lnTo>
                  <a:lnTo>
                    <a:pt x="388" y="1278"/>
                  </a:lnTo>
                  <a:lnTo>
                    <a:pt x="373" y="1283"/>
                  </a:lnTo>
                  <a:lnTo>
                    <a:pt x="373" y="1303"/>
                  </a:lnTo>
                  <a:lnTo>
                    <a:pt x="355" y="1295"/>
                  </a:lnTo>
                  <a:lnTo>
                    <a:pt x="330" y="1278"/>
                  </a:lnTo>
                  <a:lnTo>
                    <a:pt x="293" y="1283"/>
                  </a:lnTo>
                  <a:lnTo>
                    <a:pt x="293" y="1303"/>
                  </a:lnTo>
                  <a:lnTo>
                    <a:pt x="298" y="1323"/>
                  </a:lnTo>
                  <a:lnTo>
                    <a:pt x="283" y="1328"/>
                  </a:lnTo>
                  <a:lnTo>
                    <a:pt x="248" y="1310"/>
                  </a:lnTo>
                  <a:lnTo>
                    <a:pt x="215" y="1335"/>
                  </a:lnTo>
                  <a:lnTo>
                    <a:pt x="223" y="1358"/>
                  </a:lnTo>
                  <a:lnTo>
                    <a:pt x="220" y="1373"/>
                  </a:lnTo>
                  <a:lnTo>
                    <a:pt x="188" y="1358"/>
                  </a:lnTo>
                  <a:lnTo>
                    <a:pt x="178" y="1375"/>
                  </a:lnTo>
                  <a:lnTo>
                    <a:pt x="165" y="1388"/>
                  </a:lnTo>
                  <a:lnTo>
                    <a:pt x="128" y="1380"/>
                  </a:lnTo>
                  <a:lnTo>
                    <a:pt x="108" y="1385"/>
                  </a:lnTo>
                  <a:lnTo>
                    <a:pt x="103" y="1413"/>
                  </a:lnTo>
                  <a:lnTo>
                    <a:pt x="88" y="1420"/>
                  </a:lnTo>
                  <a:lnTo>
                    <a:pt x="68" y="1453"/>
                  </a:lnTo>
                  <a:lnTo>
                    <a:pt x="73" y="1493"/>
                  </a:lnTo>
                  <a:lnTo>
                    <a:pt x="63" y="1548"/>
                  </a:lnTo>
                  <a:lnTo>
                    <a:pt x="55" y="1605"/>
                  </a:lnTo>
                  <a:lnTo>
                    <a:pt x="48" y="1658"/>
                  </a:lnTo>
                  <a:lnTo>
                    <a:pt x="40" y="1685"/>
                  </a:lnTo>
                  <a:lnTo>
                    <a:pt x="58" y="1708"/>
                  </a:lnTo>
                  <a:lnTo>
                    <a:pt x="88" y="1688"/>
                  </a:lnTo>
                  <a:lnTo>
                    <a:pt x="110" y="1700"/>
                  </a:lnTo>
                  <a:lnTo>
                    <a:pt x="110" y="1720"/>
                  </a:lnTo>
                  <a:lnTo>
                    <a:pt x="80" y="1738"/>
                  </a:lnTo>
                  <a:lnTo>
                    <a:pt x="75" y="1773"/>
                  </a:lnTo>
                  <a:lnTo>
                    <a:pt x="68" y="1790"/>
                  </a:lnTo>
                  <a:lnTo>
                    <a:pt x="38" y="1788"/>
                  </a:lnTo>
                  <a:lnTo>
                    <a:pt x="25" y="1828"/>
                  </a:lnTo>
                  <a:lnTo>
                    <a:pt x="40" y="1840"/>
                  </a:lnTo>
                  <a:lnTo>
                    <a:pt x="68" y="1833"/>
                  </a:lnTo>
                  <a:lnTo>
                    <a:pt x="83" y="1850"/>
                  </a:lnTo>
                  <a:lnTo>
                    <a:pt x="85" y="1860"/>
                  </a:lnTo>
                  <a:lnTo>
                    <a:pt x="63" y="1875"/>
                  </a:lnTo>
                  <a:lnTo>
                    <a:pt x="63" y="1900"/>
                  </a:lnTo>
                  <a:lnTo>
                    <a:pt x="38" y="1905"/>
                  </a:lnTo>
                  <a:lnTo>
                    <a:pt x="18" y="1893"/>
                  </a:lnTo>
                  <a:lnTo>
                    <a:pt x="23" y="1928"/>
                  </a:lnTo>
                  <a:lnTo>
                    <a:pt x="18" y="1950"/>
                  </a:lnTo>
                  <a:lnTo>
                    <a:pt x="0" y="1950"/>
                  </a:lnTo>
                  <a:lnTo>
                    <a:pt x="43" y="1995"/>
                  </a:lnTo>
                  <a:lnTo>
                    <a:pt x="63" y="2020"/>
                  </a:lnTo>
                  <a:lnTo>
                    <a:pt x="75" y="2053"/>
                  </a:lnTo>
                  <a:lnTo>
                    <a:pt x="118" y="2078"/>
                  </a:lnTo>
                  <a:lnTo>
                    <a:pt x="163" y="2103"/>
                  </a:lnTo>
                  <a:lnTo>
                    <a:pt x="205" y="2103"/>
                  </a:lnTo>
                  <a:lnTo>
                    <a:pt x="268" y="2060"/>
                  </a:lnTo>
                  <a:lnTo>
                    <a:pt x="330" y="2015"/>
                  </a:lnTo>
                  <a:lnTo>
                    <a:pt x="388" y="1938"/>
                  </a:lnTo>
                  <a:lnTo>
                    <a:pt x="398" y="1930"/>
                  </a:lnTo>
                  <a:lnTo>
                    <a:pt x="413" y="1955"/>
                  </a:lnTo>
                  <a:lnTo>
                    <a:pt x="440" y="1938"/>
                  </a:lnTo>
                  <a:lnTo>
                    <a:pt x="450" y="1910"/>
                  </a:lnTo>
                  <a:lnTo>
                    <a:pt x="453" y="1875"/>
                  </a:lnTo>
                  <a:lnTo>
                    <a:pt x="483" y="1833"/>
                  </a:lnTo>
                  <a:lnTo>
                    <a:pt x="470" y="1880"/>
                  </a:lnTo>
                  <a:lnTo>
                    <a:pt x="485" y="1888"/>
                  </a:lnTo>
                  <a:lnTo>
                    <a:pt x="478" y="1910"/>
                  </a:lnTo>
                  <a:lnTo>
                    <a:pt x="485" y="1948"/>
                  </a:lnTo>
                  <a:lnTo>
                    <a:pt x="500" y="1980"/>
                  </a:lnTo>
                  <a:lnTo>
                    <a:pt x="515" y="1970"/>
                  </a:lnTo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35000"/>
              <a:ext cx="9144000" cy="6723000"/>
              <a:chOff x="0" y="135000"/>
              <a:chExt cx="9144000" cy="672300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1981080"/>
                <a:ext cx="259056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unita’ fiamminga e tedesca: programm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munita’ francese: servizi locali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700360" y="135000"/>
                <a:ext cx="4343400" cy="5446800"/>
                <a:chOff x="2700360" y="135000"/>
                <a:chExt cx="4343400" cy="5446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985000" y="338040"/>
                  <a:ext cx="50760" cy="684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58" y="12"/>
                      </a:moveTo>
                      <a:lnTo>
                        <a:pt x="53" y="27"/>
                      </a:lnTo>
                      <a:lnTo>
                        <a:pt x="58" y="62"/>
                      </a:lnTo>
                      <a:lnTo>
                        <a:pt x="18" y="75"/>
                      </a:lnTo>
                      <a:lnTo>
                        <a:pt x="0" y="57"/>
                      </a:lnTo>
                      <a:lnTo>
                        <a:pt x="0" y="27"/>
                      </a:lnTo>
                      <a:lnTo>
                        <a:pt x="13" y="0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07240" y="384120"/>
                  <a:ext cx="45720" cy="36720"/>
                </a:xfrm>
                <a:custGeom>
                  <a:avLst/>
                  <a:gdLst/>
                  <a:ahLst/>
                  <a:rect l="l" t="t" r="r" b="b"/>
                  <a:pathLst>
                    <a:path w="53" h="40">
                      <a:moveTo>
                        <a:pt x="45" y="0"/>
                      </a:moveTo>
                      <a:lnTo>
                        <a:pt x="53" y="30"/>
                      </a:lnTo>
                      <a:lnTo>
                        <a:pt x="13" y="40"/>
                      </a:lnTo>
                      <a:lnTo>
                        <a:pt x="0" y="1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923080" y="30780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0" y="33"/>
                      </a:moveTo>
                      <a:lnTo>
                        <a:pt x="45" y="50"/>
                      </a:lnTo>
                      <a:lnTo>
                        <a:pt x="62" y="13"/>
                      </a:lnTo>
                      <a:lnTo>
                        <a:pt x="35" y="0"/>
                      </a:lnTo>
                      <a:lnTo>
                        <a:pt x="17" y="13"/>
                      </a:lnTo>
                      <a:lnTo>
                        <a:pt x="0" y="2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85000" y="26820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35" y="0"/>
                      </a:lnTo>
                      <a:lnTo>
                        <a:pt x="48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46760" y="3999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3" y="0"/>
                      </a:moveTo>
                      <a:lnTo>
                        <a:pt x="40" y="35"/>
                      </a:lnTo>
                      <a:lnTo>
                        <a:pt x="0" y="4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156360" y="184320"/>
                  <a:ext cx="54000" cy="4572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30" y="0"/>
                      </a:moveTo>
                      <a:lnTo>
                        <a:pt x="0" y="23"/>
                      </a:lnTo>
                      <a:lnTo>
                        <a:pt x="40" y="50"/>
                      </a:lnTo>
                      <a:lnTo>
                        <a:pt x="62" y="2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05680" y="139680"/>
                  <a:ext cx="55440" cy="4932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0" y="17"/>
                      </a:moveTo>
                      <a:lnTo>
                        <a:pt x="28" y="52"/>
                      </a:lnTo>
                      <a:lnTo>
                        <a:pt x="63" y="30"/>
                      </a:lnTo>
                      <a:lnTo>
                        <a:pt x="3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89640" y="1066680"/>
                  <a:ext cx="57240" cy="38160"/>
                </a:xfrm>
                <a:custGeom>
                  <a:avLst/>
                  <a:gdLst/>
                  <a:ahLst/>
                  <a:rect l="l" t="t" r="r" b="b"/>
                  <a:pathLst>
                    <a:path w="67" h="40">
                      <a:moveTo>
                        <a:pt x="67" y="22"/>
                      </a:moveTo>
                      <a:lnTo>
                        <a:pt x="17" y="0"/>
                      </a:lnTo>
                      <a:lnTo>
                        <a:pt x="0" y="17"/>
                      </a:lnTo>
                      <a:lnTo>
                        <a:pt x="5" y="40"/>
                      </a:lnTo>
                      <a:lnTo>
                        <a:pt x="67" y="2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54480" y="3476520"/>
                  <a:ext cx="790560" cy="368280"/>
                </a:xfrm>
                <a:custGeom>
                  <a:avLst/>
                  <a:gdLst/>
                  <a:ahLst/>
                  <a:rect l="l" t="t" r="r" b="b"/>
                  <a:pathLst>
                    <a:path w="855" h="390">
                      <a:moveTo>
                        <a:pt x="0" y="140"/>
                      </a:moveTo>
                      <a:lnTo>
                        <a:pt x="35" y="137"/>
                      </a:lnTo>
                      <a:lnTo>
                        <a:pt x="50" y="132"/>
                      </a:lnTo>
                      <a:lnTo>
                        <a:pt x="67" y="155"/>
                      </a:lnTo>
                      <a:lnTo>
                        <a:pt x="90" y="147"/>
                      </a:lnTo>
                      <a:lnTo>
                        <a:pt x="120" y="152"/>
                      </a:lnTo>
                      <a:lnTo>
                        <a:pt x="137" y="165"/>
                      </a:lnTo>
                      <a:lnTo>
                        <a:pt x="167" y="147"/>
                      </a:lnTo>
                      <a:lnTo>
                        <a:pt x="207" y="150"/>
                      </a:lnTo>
                      <a:lnTo>
                        <a:pt x="222" y="167"/>
                      </a:lnTo>
                      <a:lnTo>
                        <a:pt x="247" y="172"/>
                      </a:lnTo>
                      <a:lnTo>
                        <a:pt x="262" y="160"/>
                      </a:lnTo>
                      <a:lnTo>
                        <a:pt x="305" y="152"/>
                      </a:lnTo>
                      <a:lnTo>
                        <a:pt x="325" y="152"/>
                      </a:lnTo>
                      <a:lnTo>
                        <a:pt x="357" y="165"/>
                      </a:lnTo>
                      <a:lnTo>
                        <a:pt x="395" y="190"/>
                      </a:lnTo>
                      <a:lnTo>
                        <a:pt x="425" y="177"/>
                      </a:lnTo>
                      <a:lnTo>
                        <a:pt x="430" y="152"/>
                      </a:lnTo>
                      <a:lnTo>
                        <a:pt x="410" y="120"/>
                      </a:lnTo>
                      <a:lnTo>
                        <a:pt x="402" y="75"/>
                      </a:lnTo>
                      <a:lnTo>
                        <a:pt x="497" y="10"/>
                      </a:lnTo>
                      <a:lnTo>
                        <a:pt x="520" y="10"/>
                      </a:lnTo>
                      <a:lnTo>
                        <a:pt x="522" y="32"/>
                      </a:lnTo>
                      <a:lnTo>
                        <a:pt x="550" y="37"/>
                      </a:lnTo>
                      <a:lnTo>
                        <a:pt x="612" y="30"/>
                      </a:lnTo>
                      <a:lnTo>
                        <a:pt x="637" y="2"/>
                      </a:lnTo>
                      <a:lnTo>
                        <a:pt x="712" y="0"/>
                      </a:lnTo>
                      <a:lnTo>
                        <a:pt x="730" y="32"/>
                      </a:lnTo>
                      <a:lnTo>
                        <a:pt x="760" y="32"/>
                      </a:lnTo>
                      <a:lnTo>
                        <a:pt x="787" y="15"/>
                      </a:lnTo>
                      <a:lnTo>
                        <a:pt x="835" y="45"/>
                      </a:lnTo>
                      <a:lnTo>
                        <a:pt x="835" y="97"/>
                      </a:lnTo>
                      <a:lnTo>
                        <a:pt x="855" y="120"/>
                      </a:lnTo>
                      <a:lnTo>
                        <a:pt x="850" y="155"/>
                      </a:lnTo>
                      <a:lnTo>
                        <a:pt x="835" y="190"/>
                      </a:lnTo>
                      <a:lnTo>
                        <a:pt x="810" y="190"/>
                      </a:lnTo>
                      <a:lnTo>
                        <a:pt x="800" y="200"/>
                      </a:lnTo>
                      <a:lnTo>
                        <a:pt x="815" y="227"/>
                      </a:lnTo>
                      <a:lnTo>
                        <a:pt x="815" y="255"/>
                      </a:lnTo>
                      <a:lnTo>
                        <a:pt x="800" y="280"/>
                      </a:lnTo>
                      <a:lnTo>
                        <a:pt x="760" y="300"/>
                      </a:lnTo>
                      <a:lnTo>
                        <a:pt x="757" y="325"/>
                      </a:lnTo>
                      <a:lnTo>
                        <a:pt x="757" y="350"/>
                      </a:lnTo>
                      <a:lnTo>
                        <a:pt x="720" y="357"/>
                      </a:lnTo>
                      <a:lnTo>
                        <a:pt x="655" y="355"/>
                      </a:lnTo>
                      <a:lnTo>
                        <a:pt x="625" y="362"/>
                      </a:lnTo>
                      <a:lnTo>
                        <a:pt x="570" y="362"/>
                      </a:lnTo>
                      <a:lnTo>
                        <a:pt x="547" y="390"/>
                      </a:lnTo>
                      <a:lnTo>
                        <a:pt x="460" y="362"/>
                      </a:lnTo>
                      <a:lnTo>
                        <a:pt x="417" y="362"/>
                      </a:lnTo>
                      <a:lnTo>
                        <a:pt x="307" y="340"/>
                      </a:lnTo>
                      <a:lnTo>
                        <a:pt x="292" y="312"/>
                      </a:lnTo>
                      <a:lnTo>
                        <a:pt x="292" y="285"/>
                      </a:lnTo>
                      <a:lnTo>
                        <a:pt x="285" y="267"/>
                      </a:lnTo>
                      <a:lnTo>
                        <a:pt x="270" y="260"/>
                      </a:lnTo>
                      <a:lnTo>
                        <a:pt x="202" y="262"/>
                      </a:lnTo>
                      <a:lnTo>
                        <a:pt x="107" y="272"/>
                      </a:lnTo>
                      <a:lnTo>
                        <a:pt x="97" y="250"/>
                      </a:lnTo>
                      <a:lnTo>
                        <a:pt x="82" y="242"/>
                      </a:lnTo>
                      <a:lnTo>
                        <a:pt x="52" y="232"/>
                      </a:lnTo>
                      <a:lnTo>
                        <a:pt x="25" y="225"/>
                      </a:lnTo>
                      <a:lnTo>
                        <a:pt x="25" y="200"/>
                      </a:lnTo>
                      <a:lnTo>
                        <a:pt x="25" y="160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811760" y="3137040"/>
                  <a:ext cx="101520" cy="126720"/>
                </a:xfrm>
                <a:custGeom>
                  <a:avLst/>
                  <a:gdLst/>
                  <a:ahLst/>
                  <a:rect l="l" t="t" r="r" b="b"/>
                  <a:pathLst>
                    <a:path w="110" h="135">
                      <a:moveTo>
                        <a:pt x="77" y="135"/>
                      </a:moveTo>
                      <a:lnTo>
                        <a:pt x="85" y="90"/>
                      </a:lnTo>
                      <a:lnTo>
                        <a:pt x="110" y="75"/>
                      </a:lnTo>
                      <a:lnTo>
                        <a:pt x="110" y="52"/>
                      </a:lnTo>
                      <a:lnTo>
                        <a:pt x="95" y="37"/>
                      </a:lnTo>
                      <a:lnTo>
                        <a:pt x="82" y="17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2" y="7"/>
                      </a:lnTo>
                      <a:lnTo>
                        <a:pt x="32" y="35"/>
                      </a:lnTo>
                      <a:lnTo>
                        <a:pt x="17" y="60"/>
                      </a:lnTo>
                      <a:lnTo>
                        <a:pt x="0" y="67"/>
                      </a:lnTo>
                      <a:lnTo>
                        <a:pt x="7" y="90"/>
                      </a:lnTo>
                      <a:lnTo>
                        <a:pt x="30" y="95"/>
                      </a:lnTo>
                      <a:lnTo>
                        <a:pt x="55" y="100"/>
                      </a:lnTo>
                      <a:lnTo>
                        <a:pt x="67" y="112"/>
                      </a:lnTo>
                      <a:lnTo>
                        <a:pt x="77" y="13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00360" y="3929040"/>
                  <a:ext cx="536400" cy="779400"/>
                </a:xfrm>
                <a:custGeom>
                  <a:avLst/>
                  <a:gdLst/>
                  <a:ahLst/>
                  <a:rect l="l" t="t" r="r" b="b"/>
                  <a:pathLst>
                    <a:path w="580" h="827">
                      <a:moveTo>
                        <a:pt x="293" y="7"/>
                      </a:moveTo>
                      <a:lnTo>
                        <a:pt x="335" y="0"/>
                      </a:lnTo>
                      <a:lnTo>
                        <a:pt x="363" y="32"/>
                      </a:lnTo>
                      <a:lnTo>
                        <a:pt x="368" y="70"/>
                      </a:lnTo>
                      <a:lnTo>
                        <a:pt x="378" y="80"/>
                      </a:lnTo>
                      <a:lnTo>
                        <a:pt x="400" y="72"/>
                      </a:lnTo>
                      <a:lnTo>
                        <a:pt x="465" y="100"/>
                      </a:lnTo>
                      <a:lnTo>
                        <a:pt x="485" y="87"/>
                      </a:lnTo>
                      <a:lnTo>
                        <a:pt x="510" y="85"/>
                      </a:lnTo>
                      <a:lnTo>
                        <a:pt x="528" y="107"/>
                      </a:lnTo>
                      <a:lnTo>
                        <a:pt x="543" y="145"/>
                      </a:lnTo>
                      <a:lnTo>
                        <a:pt x="565" y="170"/>
                      </a:lnTo>
                      <a:lnTo>
                        <a:pt x="580" y="182"/>
                      </a:lnTo>
                      <a:lnTo>
                        <a:pt x="573" y="195"/>
                      </a:lnTo>
                      <a:lnTo>
                        <a:pt x="525" y="210"/>
                      </a:lnTo>
                      <a:lnTo>
                        <a:pt x="470" y="240"/>
                      </a:lnTo>
                      <a:lnTo>
                        <a:pt x="473" y="290"/>
                      </a:lnTo>
                      <a:lnTo>
                        <a:pt x="440" y="317"/>
                      </a:lnTo>
                      <a:lnTo>
                        <a:pt x="413" y="340"/>
                      </a:lnTo>
                      <a:lnTo>
                        <a:pt x="410" y="390"/>
                      </a:lnTo>
                      <a:lnTo>
                        <a:pt x="410" y="422"/>
                      </a:lnTo>
                      <a:lnTo>
                        <a:pt x="388" y="445"/>
                      </a:lnTo>
                      <a:lnTo>
                        <a:pt x="370" y="422"/>
                      </a:lnTo>
                      <a:lnTo>
                        <a:pt x="340" y="430"/>
                      </a:lnTo>
                      <a:lnTo>
                        <a:pt x="338" y="447"/>
                      </a:lnTo>
                      <a:lnTo>
                        <a:pt x="333" y="487"/>
                      </a:lnTo>
                      <a:lnTo>
                        <a:pt x="343" y="502"/>
                      </a:lnTo>
                      <a:lnTo>
                        <a:pt x="338" y="545"/>
                      </a:lnTo>
                      <a:lnTo>
                        <a:pt x="318" y="562"/>
                      </a:lnTo>
                      <a:lnTo>
                        <a:pt x="293" y="595"/>
                      </a:lnTo>
                      <a:lnTo>
                        <a:pt x="283" y="622"/>
                      </a:lnTo>
                      <a:lnTo>
                        <a:pt x="288" y="672"/>
                      </a:lnTo>
                      <a:lnTo>
                        <a:pt x="308" y="700"/>
                      </a:lnTo>
                      <a:lnTo>
                        <a:pt x="295" y="717"/>
                      </a:lnTo>
                      <a:lnTo>
                        <a:pt x="240" y="735"/>
                      </a:lnTo>
                      <a:lnTo>
                        <a:pt x="220" y="755"/>
                      </a:lnTo>
                      <a:lnTo>
                        <a:pt x="218" y="777"/>
                      </a:lnTo>
                      <a:lnTo>
                        <a:pt x="218" y="820"/>
                      </a:lnTo>
                      <a:lnTo>
                        <a:pt x="155" y="820"/>
                      </a:lnTo>
                      <a:lnTo>
                        <a:pt x="113" y="827"/>
                      </a:lnTo>
                      <a:lnTo>
                        <a:pt x="63" y="770"/>
                      </a:lnTo>
                      <a:lnTo>
                        <a:pt x="35" y="770"/>
                      </a:lnTo>
                      <a:lnTo>
                        <a:pt x="13" y="770"/>
                      </a:lnTo>
                      <a:lnTo>
                        <a:pt x="0" y="750"/>
                      </a:lnTo>
                      <a:lnTo>
                        <a:pt x="13" y="727"/>
                      </a:lnTo>
                      <a:lnTo>
                        <a:pt x="43" y="687"/>
                      </a:lnTo>
                      <a:lnTo>
                        <a:pt x="58" y="645"/>
                      </a:lnTo>
                      <a:lnTo>
                        <a:pt x="90" y="595"/>
                      </a:lnTo>
                      <a:lnTo>
                        <a:pt x="98" y="567"/>
                      </a:lnTo>
                      <a:lnTo>
                        <a:pt x="83" y="547"/>
                      </a:lnTo>
                      <a:lnTo>
                        <a:pt x="63" y="527"/>
                      </a:lnTo>
                      <a:lnTo>
                        <a:pt x="58" y="515"/>
                      </a:lnTo>
                      <a:lnTo>
                        <a:pt x="83" y="507"/>
                      </a:lnTo>
                      <a:lnTo>
                        <a:pt x="98" y="477"/>
                      </a:lnTo>
                      <a:lnTo>
                        <a:pt x="70" y="470"/>
                      </a:lnTo>
                      <a:lnTo>
                        <a:pt x="43" y="485"/>
                      </a:lnTo>
                      <a:lnTo>
                        <a:pt x="43" y="450"/>
                      </a:lnTo>
                      <a:lnTo>
                        <a:pt x="58" y="430"/>
                      </a:lnTo>
                      <a:lnTo>
                        <a:pt x="70" y="407"/>
                      </a:lnTo>
                      <a:lnTo>
                        <a:pt x="78" y="380"/>
                      </a:lnTo>
                      <a:lnTo>
                        <a:pt x="83" y="360"/>
                      </a:lnTo>
                      <a:lnTo>
                        <a:pt x="98" y="352"/>
                      </a:lnTo>
                      <a:lnTo>
                        <a:pt x="120" y="367"/>
                      </a:lnTo>
                      <a:lnTo>
                        <a:pt x="155" y="317"/>
                      </a:lnTo>
                      <a:lnTo>
                        <a:pt x="175" y="282"/>
                      </a:lnTo>
                      <a:lnTo>
                        <a:pt x="230" y="220"/>
                      </a:lnTo>
                      <a:lnTo>
                        <a:pt x="230" y="192"/>
                      </a:lnTo>
                      <a:lnTo>
                        <a:pt x="260" y="150"/>
                      </a:lnTo>
                      <a:lnTo>
                        <a:pt x="268" y="100"/>
                      </a:lnTo>
                      <a:lnTo>
                        <a:pt x="280" y="72"/>
                      </a:lnTo>
                      <a:lnTo>
                        <a:pt x="293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901960" y="3686040"/>
                  <a:ext cx="1471680" cy="1281240"/>
                  <a:chOff x="2901960" y="3686040"/>
                  <a:chExt cx="1471680" cy="12812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901960" y="3686040"/>
                    <a:ext cx="1418760" cy="12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360">
                        <a:moveTo>
                          <a:pt x="77" y="265"/>
                        </a:moveTo>
                        <a:lnTo>
                          <a:pt x="70" y="245"/>
                        </a:lnTo>
                        <a:lnTo>
                          <a:pt x="77" y="218"/>
                        </a:lnTo>
                        <a:lnTo>
                          <a:pt x="120" y="148"/>
                        </a:lnTo>
                        <a:lnTo>
                          <a:pt x="97" y="133"/>
                        </a:lnTo>
                        <a:lnTo>
                          <a:pt x="107" y="110"/>
                        </a:lnTo>
                        <a:lnTo>
                          <a:pt x="82" y="105"/>
                        </a:lnTo>
                        <a:lnTo>
                          <a:pt x="82" y="78"/>
                        </a:lnTo>
                        <a:lnTo>
                          <a:pt x="97" y="55"/>
                        </a:lnTo>
                        <a:lnTo>
                          <a:pt x="170" y="35"/>
                        </a:lnTo>
                        <a:lnTo>
                          <a:pt x="225" y="40"/>
                        </a:lnTo>
                        <a:lnTo>
                          <a:pt x="230" y="20"/>
                        </a:lnTo>
                        <a:lnTo>
                          <a:pt x="272" y="0"/>
                        </a:lnTo>
                        <a:lnTo>
                          <a:pt x="295" y="8"/>
                        </a:lnTo>
                        <a:lnTo>
                          <a:pt x="342" y="70"/>
                        </a:lnTo>
                        <a:lnTo>
                          <a:pt x="420" y="105"/>
                        </a:lnTo>
                        <a:lnTo>
                          <a:pt x="490" y="105"/>
                        </a:lnTo>
                        <a:lnTo>
                          <a:pt x="510" y="110"/>
                        </a:lnTo>
                        <a:lnTo>
                          <a:pt x="700" y="218"/>
                        </a:lnTo>
                        <a:lnTo>
                          <a:pt x="755" y="225"/>
                        </a:lnTo>
                        <a:lnTo>
                          <a:pt x="797" y="265"/>
                        </a:lnTo>
                        <a:lnTo>
                          <a:pt x="860" y="250"/>
                        </a:lnTo>
                        <a:lnTo>
                          <a:pt x="895" y="273"/>
                        </a:lnTo>
                        <a:lnTo>
                          <a:pt x="932" y="308"/>
                        </a:lnTo>
                        <a:lnTo>
                          <a:pt x="972" y="308"/>
                        </a:lnTo>
                        <a:lnTo>
                          <a:pt x="1002" y="315"/>
                        </a:lnTo>
                        <a:lnTo>
                          <a:pt x="1015" y="328"/>
                        </a:lnTo>
                        <a:lnTo>
                          <a:pt x="1002" y="350"/>
                        </a:lnTo>
                        <a:lnTo>
                          <a:pt x="1002" y="378"/>
                        </a:lnTo>
                        <a:lnTo>
                          <a:pt x="1112" y="455"/>
                        </a:lnTo>
                        <a:lnTo>
                          <a:pt x="1175" y="505"/>
                        </a:lnTo>
                        <a:lnTo>
                          <a:pt x="1205" y="498"/>
                        </a:lnTo>
                        <a:lnTo>
                          <a:pt x="1237" y="490"/>
                        </a:lnTo>
                        <a:lnTo>
                          <a:pt x="1345" y="540"/>
                        </a:lnTo>
                        <a:lnTo>
                          <a:pt x="1357" y="575"/>
                        </a:lnTo>
                        <a:lnTo>
                          <a:pt x="1372" y="588"/>
                        </a:lnTo>
                        <a:lnTo>
                          <a:pt x="1407" y="595"/>
                        </a:lnTo>
                        <a:lnTo>
                          <a:pt x="1427" y="610"/>
                        </a:lnTo>
                        <a:lnTo>
                          <a:pt x="1457" y="610"/>
                        </a:lnTo>
                        <a:lnTo>
                          <a:pt x="1485" y="610"/>
                        </a:lnTo>
                        <a:lnTo>
                          <a:pt x="1512" y="618"/>
                        </a:lnTo>
                        <a:lnTo>
                          <a:pt x="1520" y="610"/>
                        </a:lnTo>
                        <a:lnTo>
                          <a:pt x="1535" y="638"/>
                        </a:lnTo>
                        <a:lnTo>
                          <a:pt x="1535" y="673"/>
                        </a:lnTo>
                        <a:lnTo>
                          <a:pt x="1512" y="695"/>
                        </a:lnTo>
                        <a:lnTo>
                          <a:pt x="1402" y="778"/>
                        </a:lnTo>
                        <a:lnTo>
                          <a:pt x="1352" y="778"/>
                        </a:lnTo>
                        <a:lnTo>
                          <a:pt x="1212" y="813"/>
                        </a:lnTo>
                        <a:lnTo>
                          <a:pt x="1162" y="820"/>
                        </a:lnTo>
                        <a:lnTo>
                          <a:pt x="1162" y="860"/>
                        </a:lnTo>
                        <a:lnTo>
                          <a:pt x="1135" y="860"/>
                        </a:lnTo>
                        <a:lnTo>
                          <a:pt x="1105" y="883"/>
                        </a:lnTo>
                        <a:lnTo>
                          <a:pt x="1077" y="918"/>
                        </a:lnTo>
                        <a:lnTo>
                          <a:pt x="1050" y="945"/>
                        </a:lnTo>
                        <a:lnTo>
                          <a:pt x="1015" y="953"/>
                        </a:lnTo>
                        <a:lnTo>
                          <a:pt x="987" y="988"/>
                        </a:lnTo>
                        <a:lnTo>
                          <a:pt x="987" y="1038"/>
                        </a:lnTo>
                        <a:lnTo>
                          <a:pt x="1007" y="1063"/>
                        </a:lnTo>
                        <a:lnTo>
                          <a:pt x="1015" y="1085"/>
                        </a:lnTo>
                        <a:lnTo>
                          <a:pt x="1015" y="1120"/>
                        </a:lnTo>
                        <a:lnTo>
                          <a:pt x="1007" y="1135"/>
                        </a:lnTo>
                        <a:lnTo>
                          <a:pt x="980" y="1143"/>
                        </a:lnTo>
                        <a:lnTo>
                          <a:pt x="937" y="1178"/>
                        </a:lnTo>
                        <a:lnTo>
                          <a:pt x="882" y="1228"/>
                        </a:lnTo>
                        <a:lnTo>
                          <a:pt x="860" y="1248"/>
                        </a:lnTo>
                        <a:lnTo>
                          <a:pt x="847" y="1260"/>
                        </a:lnTo>
                        <a:lnTo>
                          <a:pt x="847" y="1283"/>
                        </a:lnTo>
                        <a:lnTo>
                          <a:pt x="785" y="1283"/>
                        </a:lnTo>
                        <a:lnTo>
                          <a:pt x="747" y="1290"/>
                        </a:lnTo>
                        <a:lnTo>
                          <a:pt x="720" y="1298"/>
                        </a:lnTo>
                        <a:lnTo>
                          <a:pt x="707" y="1310"/>
                        </a:lnTo>
                        <a:lnTo>
                          <a:pt x="685" y="1338"/>
                        </a:lnTo>
                        <a:lnTo>
                          <a:pt x="650" y="1353"/>
                        </a:lnTo>
                        <a:lnTo>
                          <a:pt x="630" y="1353"/>
                        </a:lnTo>
                        <a:lnTo>
                          <a:pt x="587" y="1345"/>
                        </a:lnTo>
                        <a:lnTo>
                          <a:pt x="517" y="1338"/>
                        </a:lnTo>
                        <a:lnTo>
                          <a:pt x="392" y="1290"/>
                        </a:lnTo>
                        <a:lnTo>
                          <a:pt x="342" y="1283"/>
                        </a:lnTo>
                        <a:lnTo>
                          <a:pt x="295" y="1298"/>
                        </a:lnTo>
                        <a:lnTo>
                          <a:pt x="260" y="1318"/>
                        </a:lnTo>
                        <a:lnTo>
                          <a:pt x="217" y="1323"/>
                        </a:lnTo>
                        <a:lnTo>
                          <a:pt x="182" y="1345"/>
                        </a:lnTo>
                        <a:lnTo>
                          <a:pt x="160" y="1360"/>
                        </a:lnTo>
                        <a:lnTo>
                          <a:pt x="82" y="1275"/>
                        </a:lnTo>
                        <a:lnTo>
                          <a:pt x="82" y="1158"/>
                        </a:lnTo>
                        <a:lnTo>
                          <a:pt x="50" y="1113"/>
                        </a:lnTo>
                        <a:lnTo>
                          <a:pt x="7" y="1080"/>
                        </a:lnTo>
                        <a:lnTo>
                          <a:pt x="0" y="1058"/>
                        </a:lnTo>
                        <a:lnTo>
                          <a:pt x="0" y="1015"/>
                        </a:lnTo>
                        <a:lnTo>
                          <a:pt x="20" y="993"/>
                        </a:lnTo>
                        <a:lnTo>
                          <a:pt x="77" y="973"/>
                        </a:lnTo>
                        <a:lnTo>
                          <a:pt x="90" y="960"/>
                        </a:lnTo>
                        <a:lnTo>
                          <a:pt x="70" y="930"/>
                        </a:lnTo>
                        <a:lnTo>
                          <a:pt x="62" y="883"/>
                        </a:lnTo>
                        <a:lnTo>
                          <a:pt x="82" y="840"/>
                        </a:lnTo>
                        <a:lnTo>
                          <a:pt x="127" y="798"/>
                        </a:lnTo>
                        <a:lnTo>
                          <a:pt x="127" y="765"/>
                        </a:lnTo>
                        <a:lnTo>
                          <a:pt x="112" y="735"/>
                        </a:lnTo>
                        <a:lnTo>
                          <a:pt x="127" y="688"/>
                        </a:lnTo>
                        <a:lnTo>
                          <a:pt x="132" y="680"/>
                        </a:lnTo>
                        <a:lnTo>
                          <a:pt x="152" y="680"/>
                        </a:lnTo>
                        <a:lnTo>
                          <a:pt x="170" y="703"/>
                        </a:lnTo>
                        <a:lnTo>
                          <a:pt x="190" y="673"/>
                        </a:lnTo>
                        <a:lnTo>
                          <a:pt x="197" y="595"/>
                        </a:lnTo>
                        <a:lnTo>
                          <a:pt x="252" y="548"/>
                        </a:lnTo>
                        <a:lnTo>
                          <a:pt x="252" y="518"/>
                        </a:lnTo>
                        <a:lnTo>
                          <a:pt x="252" y="498"/>
                        </a:lnTo>
                        <a:lnTo>
                          <a:pt x="310" y="463"/>
                        </a:lnTo>
                        <a:lnTo>
                          <a:pt x="350" y="455"/>
                        </a:lnTo>
                        <a:lnTo>
                          <a:pt x="365" y="440"/>
                        </a:lnTo>
                        <a:lnTo>
                          <a:pt x="330" y="408"/>
                        </a:lnTo>
                        <a:lnTo>
                          <a:pt x="302" y="350"/>
                        </a:lnTo>
                        <a:lnTo>
                          <a:pt x="287" y="338"/>
                        </a:lnTo>
                        <a:lnTo>
                          <a:pt x="247" y="358"/>
                        </a:lnTo>
                        <a:lnTo>
                          <a:pt x="217" y="345"/>
                        </a:lnTo>
                        <a:lnTo>
                          <a:pt x="177" y="328"/>
                        </a:lnTo>
                        <a:lnTo>
                          <a:pt x="160" y="338"/>
                        </a:lnTo>
                        <a:lnTo>
                          <a:pt x="147" y="320"/>
                        </a:lnTo>
                        <a:lnTo>
                          <a:pt x="147" y="295"/>
                        </a:lnTo>
                        <a:lnTo>
                          <a:pt x="127" y="265"/>
                        </a:lnTo>
                        <a:lnTo>
                          <a:pt x="112" y="258"/>
                        </a:lnTo>
                        <a:lnTo>
                          <a:pt x="77" y="26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80520" y="474876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2">
                        <a:moveTo>
                          <a:pt x="60" y="0"/>
                        </a:moveTo>
                        <a:lnTo>
                          <a:pt x="33" y="0"/>
                        </a:lnTo>
                        <a:lnTo>
                          <a:pt x="0" y="30"/>
                        </a:lnTo>
                        <a:lnTo>
                          <a:pt x="15" y="42"/>
                        </a:lnTo>
                        <a:lnTo>
                          <a:pt x="45" y="42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140360" y="4649760"/>
                    <a:ext cx="121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5">
                        <a:moveTo>
                          <a:pt x="97" y="0"/>
                        </a:moveTo>
                        <a:lnTo>
                          <a:pt x="85" y="12"/>
                        </a:lnTo>
                        <a:lnTo>
                          <a:pt x="27" y="20"/>
                        </a:lnTo>
                        <a:lnTo>
                          <a:pt x="0" y="57"/>
                        </a:lnTo>
                        <a:lnTo>
                          <a:pt x="40" y="85"/>
                        </a:lnTo>
                        <a:lnTo>
                          <a:pt x="62" y="105"/>
                        </a:lnTo>
                        <a:lnTo>
                          <a:pt x="105" y="97"/>
                        </a:lnTo>
                        <a:lnTo>
                          <a:pt x="132" y="85"/>
                        </a:lnTo>
                        <a:lnTo>
                          <a:pt x="125" y="57"/>
                        </a:lnTo>
                        <a:lnTo>
                          <a:pt x="105" y="3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334760" y="4656240"/>
                    <a:ext cx="38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22" y="33"/>
                        </a:lnTo>
                        <a:lnTo>
                          <a:pt x="42" y="55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00600" y="3733920"/>
                  <a:ext cx="1292400" cy="1655640"/>
                  <a:chOff x="4800600" y="3733920"/>
                  <a:chExt cx="1292400" cy="165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47040" y="4611600"/>
                    <a:ext cx="2066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65">
                        <a:moveTo>
                          <a:pt x="133" y="0"/>
                        </a:moveTo>
                        <a:lnTo>
                          <a:pt x="98" y="20"/>
                        </a:lnTo>
                        <a:lnTo>
                          <a:pt x="70" y="42"/>
                        </a:lnTo>
                        <a:lnTo>
                          <a:pt x="40" y="50"/>
                        </a:lnTo>
                        <a:lnTo>
                          <a:pt x="0" y="42"/>
                        </a:lnTo>
                        <a:lnTo>
                          <a:pt x="8" y="85"/>
                        </a:lnTo>
                        <a:lnTo>
                          <a:pt x="28" y="112"/>
                        </a:lnTo>
                        <a:lnTo>
                          <a:pt x="20" y="185"/>
                        </a:lnTo>
                        <a:lnTo>
                          <a:pt x="20" y="217"/>
                        </a:lnTo>
                        <a:lnTo>
                          <a:pt x="28" y="247"/>
                        </a:lnTo>
                        <a:lnTo>
                          <a:pt x="8" y="302"/>
                        </a:lnTo>
                        <a:lnTo>
                          <a:pt x="13" y="345"/>
                        </a:lnTo>
                        <a:lnTo>
                          <a:pt x="40" y="365"/>
                        </a:lnTo>
                        <a:lnTo>
                          <a:pt x="83" y="337"/>
                        </a:lnTo>
                        <a:lnTo>
                          <a:pt x="98" y="330"/>
                        </a:lnTo>
                        <a:lnTo>
                          <a:pt x="140" y="337"/>
                        </a:lnTo>
                        <a:lnTo>
                          <a:pt x="168" y="310"/>
                        </a:lnTo>
                        <a:lnTo>
                          <a:pt x="168" y="280"/>
                        </a:lnTo>
                        <a:lnTo>
                          <a:pt x="203" y="225"/>
                        </a:lnTo>
                        <a:lnTo>
                          <a:pt x="215" y="190"/>
                        </a:lnTo>
                        <a:lnTo>
                          <a:pt x="203" y="155"/>
                        </a:lnTo>
                        <a:lnTo>
                          <a:pt x="223" y="112"/>
                        </a:lnTo>
                        <a:lnTo>
                          <a:pt x="210" y="50"/>
                        </a:lnTo>
                        <a:lnTo>
                          <a:pt x="203" y="1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327640" y="5147640"/>
                    <a:ext cx="3801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7">
                        <a:moveTo>
                          <a:pt x="390" y="0"/>
                        </a:moveTo>
                        <a:lnTo>
                          <a:pt x="410" y="22"/>
                        </a:lnTo>
                        <a:lnTo>
                          <a:pt x="397" y="42"/>
                        </a:lnTo>
                        <a:lnTo>
                          <a:pt x="382" y="75"/>
                        </a:lnTo>
                        <a:lnTo>
                          <a:pt x="360" y="97"/>
                        </a:lnTo>
                        <a:lnTo>
                          <a:pt x="367" y="162"/>
                        </a:lnTo>
                        <a:lnTo>
                          <a:pt x="382" y="210"/>
                        </a:lnTo>
                        <a:lnTo>
                          <a:pt x="345" y="230"/>
                        </a:lnTo>
                        <a:lnTo>
                          <a:pt x="340" y="250"/>
                        </a:lnTo>
                        <a:lnTo>
                          <a:pt x="310" y="257"/>
                        </a:lnTo>
                        <a:lnTo>
                          <a:pt x="270" y="217"/>
                        </a:lnTo>
                        <a:lnTo>
                          <a:pt x="240" y="217"/>
                        </a:lnTo>
                        <a:lnTo>
                          <a:pt x="217" y="182"/>
                        </a:lnTo>
                        <a:lnTo>
                          <a:pt x="177" y="162"/>
                        </a:lnTo>
                        <a:lnTo>
                          <a:pt x="147" y="155"/>
                        </a:lnTo>
                        <a:lnTo>
                          <a:pt x="120" y="140"/>
                        </a:lnTo>
                        <a:lnTo>
                          <a:pt x="92" y="117"/>
                        </a:lnTo>
                        <a:lnTo>
                          <a:pt x="42" y="85"/>
                        </a:lnTo>
                        <a:lnTo>
                          <a:pt x="22" y="75"/>
                        </a:lnTo>
                        <a:lnTo>
                          <a:pt x="0" y="55"/>
                        </a:lnTo>
                        <a:lnTo>
                          <a:pt x="0" y="30"/>
                        </a:lnTo>
                        <a:lnTo>
                          <a:pt x="7" y="7"/>
                        </a:lnTo>
                        <a:lnTo>
                          <a:pt x="50" y="12"/>
                        </a:lnTo>
                        <a:lnTo>
                          <a:pt x="115" y="12"/>
                        </a:lnTo>
                        <a:lnTo>
                          <a:pt x="127" y="35"/>
                        </a:lnTo>
                        <a:lnTo>
                          <a:pt x="197" y="35"/>
                        </a:lnTo>
                        <a:lnTo>
                          <a:pt x="247" y="35"/>
                        </a:lnTo>
                        <a:lnTo>
                          <a:pt x="310" y="22"/>
                        </a:lnTo>
                        <a:lnTo>
                          <a:pt x="39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800600" y="3733920"/>
                    <a:ext cx="1292400" cy="147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3" h="1573">
                        <a:moveTo>
                          <a:pt x="1010" y="1553"/>
                        </a:moveTo>
                        <a:lnTo>
                          <a:pt x="1030" y="1573"/>
                        </a:lnTo>
                        <a:lnTo>
                          <a:pt x="1065" y="1553"/>
                        </a:lnTo>
                        <a:lnTo>
                          <a:pt x="1108" y="1495"/>
                        </a:lnTo>
                        <a:lnTo>
                          <a:pt x="1128" y="1413"/>
                        </a:lnTo>
                        <a:lnTo>
                          <a:pt x="1150" y="1405"/>
                        </a:lnTo>
                        <a:lnTo>
                          <a:pt x="1165" y="1418"/>
                        </a:lnTo>
                        <a:lnTo>
                          <a:pt x="1193" y="1390"/>
                        </a:lnTo>
                        <a:lnTo>
                          <a:pt x="1185" y="1355"/>
                        </a:lnTo>
                        <a:lnTo>
                          <a:pt x="1198" y="1328"/>
                        </a:lnTo>
                        <a:lnTo>
                          <a:pt x="1193" y="1313"/>
                        </a:lnTo>
                        <a:lnTo>
                          <a:pt x="1158" y="1285"/>
                        </a:lnTo>
                        <a:lnTo>
                          <a:pt x="1145" y="1285"/>
                        </a:lnTo>
                        <a:lnTo>
                          <a:pt x="1150" y="1270"/>
                        </a:lnTo>
                        <a:lnTo>
                          <a:pt x="1123" y="1278"/>
                        </a:lnTo>
                        <a:lnTo>
                          <a:pt x="1108" y="1265"/>
                        </a:lnTo>
                        <a:lnTo>
                          <a:pt x="1108" y="1250"/>
                        </a:lnTo>
                        <a:lnTo>
                          <a:pt x="1150" y="1223"/>
                        </a:lnTo>
                        <a:lnTo>
                          <a:pt x="1170" y="1195"/>
                        </a:lnTo>
                        <a:lnTo>
                          <a:pt x="1170" y="1150"/>
                        </a:lnTo>
                        <a:lnTo>
                          <a:pt x="1193" y="1145"/>
                        </a:lnTo>
                        <a:lnTo>
                          <a:pt x="1263" y="1180"/>
                        </a:lnTo>
                        <a:lnTo>
                          <a:pt x="1290" y="1188"/>
                        </a:lnTo>
                        <a:lnTo>
                          <a:pt x="1325" y="1235"/>
                        </a:lnTo>
                        <a:lnTo>
                          <a:pt x="1340" y="1265"/>
                        </a:lnTo>
                        <a:lnTo>
                          <a:pt x="1360" y="1265"/>
                        </a:lnTo>
                        <a:lnTo>
                          <a:pt x="1383" y="1235"/>
                        </a:lnTo>
                        <a:lnTo>
                          <a:pt x="1393" y="1208"/>
                        </a:lnTo>
                        <a:lnTo>
                          <a:pt x="1368" y="1158"/>
                        </a:lnTo>
                        <a:lnTo>
                          <a:pt x="1340" y="1130"/>
                        </a:lnTo>
                        <a:lnTo>
                          <a:pt x="1313" y="1130"/>
                        </a:lnTo>
                        <a:lnTo>
                          <a:pt x="1313" y="1125"/>
                        </a:lnTo>
                        <a:lnTo>
                          <a:pt x="1298" y="1125"/>
                        </a:lnTo>
                        <a:lnTo>
                          <a:pt x="1228" y="1053"/>
                        </a:lnTo>
                        <a:lnTo>
                          <a:pt x="1193" y="1060"/>
                        </a:lnTo>
                        <a:lnTo>
                          <a:pt x="1150" y="1005"/>
                        </a:lnTo>
                        <a:lnTo>
                          <a:pt x="1123" y="998"/>
                        </a:lnTo>
                        <a:lnTo>
                          <a:pt x="1080" y="955"/>
                        </a:lnTo>
                        <a:lnTo>
                          <a:pt x="1058" y="940"/>
                        </a:lnTo>
                        <a:lnTo>
                          <a:pt x="1073" y="928"/>
                        </a:lnTo>
                        <a:lnTo>
                          <a:pt x="1095" y="920"/>
                        </a:lnTo>
                        <a:lnTo>
                          <a:pt x="1065" y="898"/>
                        </a:lnTo>
                        <a:lnTo>
                          <a:pt x="1030" y="913"/>
                        </a:lnTo>
                        <a:lnTo>
                          <a:pt x="1003" y="898"/>
                        </a:lnTo>
                        <a:lnTo>
                          <a:pt x="925" y="835"/>
                        </a:lnTo>
                        <a:lnTo>
                          <a:pt x="918" y="808"/>
                        </a:lnTo>
                        <a:lnTo>
                          <a:pt x="890" y="800"/>
                        </a:lnTo>
                        <a:lnTo>
                          <a:pt x="863" y="780"/>
                        </a:lnTo>
                        <a:lnTo>
                          <a:pt x="793" y="625"/>
                        </a:lnTo>
                        <a:lnTo>
                          <a:pt x="770" y="605"/>
                        </a:lnTo>
                        <a:lnTo>
                          <a:pt x="715" y="555"/>
                        </a:lnTo>
                        <a:lnTo>
                          <a:pt x="653" y="458"/>
                        </a:lnTo>
                        <a:lnTo>
                          <a:pt x="653" y="400"/>
                        </a:lnTo>
                        <a:lnTo>
                          <a:pt x="688" y="380"/>
                        </a:lnTo>
                        <a:lnTo>
                          <a:pt x="688" y="350"/>
                        </a:lnTo>
                        <a:lnTo>
                          <a:pt x="660" y="325"/>
                        </a:lnTo>
                        <a:lnTo>
                          <a:pt x="645" y="310"/>
                        </a:lnTo>
                        <a:lnTo>
                          <a:pt x="653" y="288"/>
                        </a:lnTo>
                        <a:lnTo>
                          <a:pt x="680" y="275"/>
                        </a:lnTo>
                        <a:lnTo>
                          <a:pt x="765" y="255"/>
                        </a:lnTo>
                        <a:lnTo>
                          <a:pt x="800" y="233"/>
                        </a:lnTo>
                        <a:lnTo>
                          <a:pt x="828" y="205"/>
                        </a:lnTo>
                        <a:lnTo>
                          <a:pt x="820" y="133"/>
                        </a:lnTo>
                        <a:lnTo>
                          <a:pt x="828" y="108"/>
                        </a:lnTo>
                        <a:lnTo>
                          <a:pt x="785" y="100"/>
                        </a:lnTo>
                        <a:lnTo>
                          <a:pt x="695" y="78"/>
                        </a:lnTo>
                        <a:lnTo>
                          <a:pt x="680" y="58"/>
                        </a:lnTo>
                        <a:lnTo>
                          <a:pt x="675" y="50"/>
                        </a:lnTo>
                        <a:lnTo>
                          <a:pt x="675" y="30"/>
                        </a:lnTo>
                        <a:lnTo>
                          <a:pt x="668" y="8"/>
                        </a:lnTo>
                        <a:lnTo>
                          <a:pt x="618" y="0"/>
                        </a:lnTo>
                        <a:lnTo>
                          <a:pt x="498" y="8"/>
                        </a:lnTo>
                        <a:lnTo>
                          <a:pt x="485" y="38"/>
                        </a:lnTo>
                        <a:lnTo>
                          <a:pt x="443" y="43"/>
                        </a:lnTo>
                        <a:lnTo>
                          <a:pt x="415" y="100"/>
                        </a:lnTo>
                        <a:lnTo>
                          <a:pt x="415" y="120"/>
                        </a:lnTo>
                        <a:lnTo>
                          <a:pt x="388" y="100"/>
                        </a:lnTo>
                        <a:lnTo>
                          <a:pt x="343" y="93"/>
                        </a:lnTo>
                        <a:lnTo>
                          <a:pt x="318" y="108"/>
                        </a:lnTo>
                        <a:lnTo>
                          <a:pt x="295" y="148"/>
                        </a:lnTo>
                        <a:lnTo>
                          <a:pt x="253" y="120"/>
                        </a:lnTo>
                        <a:lnTo>
                          <a:pt x="260" y="78"/>
                        </a:lnTo>
                        <a:lnTo>
                          <a:pt x="248" y="50"/>
                        </a:lnTo>
                        <a:lnTo>
                          <a:pt x="218" y="58"/>
                        </a:lnTo>
                        <a:lnTo>
                          <a:pt x="210" y="93"/>
                        </a:lnTo>
                        <a:lnTo>
                          <a:pt x="190" y="113"/>
                        </a:lnTo>
                        <a:lnTo>
                          <a:pt x="168" y="113"/>
                        </a:lnTo>
                        <a:lnTo>
                          <a:pt x="70" y="100"/>
                        </a:lnTo>
                        <a:lnTo>
                          <a:pt x="35" y="128"/>
                        </a:lnTo>
                        <a:lnTo>
                          <a:pt x="43" y="163"/>
                        </a:lnTo>
                        <a:lnTo>
                          <a:pt x="50" y="190"/>
                        </a:lnTo>
                        <a:lnTo>
                          <a:pt x="0" y="233"/>
                        </a:lnTo>
                        <a:lnTo>
                          <a:pt x="13" y="260"/>
                        </a:lnTo>
                        <a:lnTo>
                          <a:pt x="28" y="275"/>
                        </a:lnTo>
                        <a:lnTo>
                          <a:pt x="0" y="310"/>
                        </a:lnTo>
                        <a:lnTo>
                          <a:pt x="0" y="360"/>
                        </a:lnTo>
                        <a:lnTo>
                          <a:pt x="13" y="380"/>
                        </a:lnTo>
                        <a:lnTo>
                          <a:pt x="43" y="380"/>
                        </a:lnTo>
                        <a:lnTo>
                          <a:pt x="58" y="395"/>
                        </a:lnTo>
                        <a:lnTo>
                          <a:pt x="70" y="430"/>
                        </a:lnTo>
                        <a:lnTo>
                          <a:pt x="70" y="465"/>
                        </a:lnTo>
                        <a:lnTo>
                          <a:pt x="98" y="473"/>
                        </a:lnTo>
                        <a:lnTo>
                          <a:pt x="120" y="465"/>
                        </a:lnTo>
                        <a:lnTo>
                          <a:pt x="198" y="388"/>
                        </a:lnTo>
                        <a:lnTo>
                          <a:pt x="230" y="400"/>
                        </a:lnTo>
                        <a:lnTo>
                          <a:pt x="300" y="438"/>
                        </a:lnTo>
                        <a:lnTo>
                          <a:pt x="350" y="473"/>
                        </a:lnTo>
                        <a:lnTo>
                          <a:pt x="358" y="515"/>
                        </a:lnTo>
                        <a:lnTo>
                          <a:pt x="388" y="543"/>
                        </a:lnTo>
                        <a:lnTo>
                          <a:pt x="400" y="593"/>
                        </a:lnTo>
                        <a:lnTo>
                          <a:pt x="415" y="668"/>
                        </a:lnTo>
                        <a:lnTo>
                          <a:pt x="435" y="703"/>
                        </a:lnTo>
                        <a:lnTo>
                          <a:pt x="463" y="733"/>
                        </a:lnTo>
                        <a:lnTo>
                          <a:pt x="513" y="753"/>
                        </a:lnTo>
                        <a:lnTo>
                          <a:pt x="555" y="820"/>
                        </a:lnTo>
                        <a:lnTo>
                          <a:pt x="598" y="878"/>
                        </a:lnTo>
                        <a:lnTo>
                          <a:pt x="638" y="905"/>
                        </a:lnTo>
                        <a:lnTo>
                          <a:pt x="715" y="998"/>
                        </a:lnTo>
                        <a:lnTo>
                          <a:pt x="770" y="998"/>
                        </a:lnTo>
                        <a:lnTo>
                          <a:pt x="835" y="1053"/>
                        </a:lnTo>
                        <a:lnTo>
                          <a:pt x="835" y="1110"/>
                        </a:lnTo>
                        <a:lnTo>
                          <a:pt x="855" y="1125"/>
                        </a:lnTo>
                        <a:lnTo>
                          <a:pt x="898" y="1095"/>
                        </a:lnTo>
                        <a:lnTo>
                          <a:pt x="905" y="1125"/>
                        </a:lnTo>
                        <a:lnTo>
                          <a:pt x="905" y="1158"/>
                        </a:lnTo>
                        <a:lnTo>
                          <a:pt x="948" y="1195"/>
                        </a:lnTo>
                        <a:lnTo>
                          <a:pt x="960" y="1215"/>
                        </a:lnTo>
                        <a:lnTo>
                          <a:pt x="1018" y="1200"/>
                        </a:lnTo>
                        <a:lnTo>
                          <a:pt x="1025" y="1223"/>
                        </a:lnTo>
                        <a:lnTo>
                          <a:pt x="1018" y="1270"/>
                        </a:lnTo>
                        <a:lnTo>
                          <a:pt x="1045" y="1313"/>
                        </a:lnTo>
                        <a:lnTo>
                          <a:pt x="1053" y="1348"/>
                        </a:lnTo>
                        <a:lnTo>
                          <a:pt x="1065" y="1383"/>
                        </a:lnTo>
                        <a:lnTo>
                          <a:pt x="1058" y="1413"/>
                        </a:lnTo>
                        <a:lnTo>
                          <a:pt x="1030" y="1440"/>
                        </a:lnTo>
                        <a:lnTo>
                          <a:pt x="1025" y="1475"/>
                        </a:lnTo>
                        <a:lnTo>
                          <a:pt x="1003" y="1515"/>
                        </a:lnTo>
                        <a:lnTo>
                          <a:pt x="1010" y="155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4564080" y="2879640"/>
                  <a:ext cx="360360" cy="325440"/>
                </a:xfrm>
                <a:custGeom>
                  <a:avLst/>
                  <a:gdLst/>
                  <a:ahLst/>
                  <a:rect l="l" t="t" r="r" b="b"/>
                  <a:pathLst>
                    <a:path w="395" h="350">
                      <a:moveTo>
                        <a:pt x="0" y="63"/>
                      </a:moveTo>
                      <a:lnTo>
                        <a:pt x="10" y="50"/>
                      </a:lnTo>
                      <a:lnTo>
                        <a:pt x="5" y="33"/>
                      </a:lnTo>
                      <a:lnTo>
                        <a:pt x="65" y="0"/>
                      </a:lnTo>
                      <a:lnTo>
                        <a:pt x="73" y="10"/>
                      </a:lnTo>
                      <a:lnTo>
                        <a:pt x="115" y="3"/>
                      </a:lnTo>
                      <a:lnTo>
                        <a:pt x="150" y="5"/>
                      </a:lnTo>
                      <a:lnTo>
                        <a:pt x="135" y="23"/>
                      </a:lnTo>
                      <a:lnTo>
                        <a:pt x="143" y="45"/>
                      </a:lnTo>
                      <a:lnTo>
                        <a:pt x="173" y="55"/>
                      </a:lnTo>
                      <a:lnTo>
                        <a:pt x="198" y="53"/>
                      </a:lnTo>
                      <a:lnTo>
                        <a:pt x="220" y="35"/>
                      </a:lnTo>
                      <a:lnTo>
                        <a:pt x="260" y="33"/>
                      </a:lnTo>
                      <a:lnTo>
                        <a:pt x="270" y="48"/>
                      </a:lnTo>
                      <a:lnTo>
                        <a:pt x="293" y="60"/>
                      </a:lnTo>
                      <a:lnTo>
                        <a:pt x="325" y="63"/>
                      </a:lnTo>
                      <a:lnTo>
                        <a:pt x="320" y="88"/>
                      </a:lnTo>
                      <a:lnTo>
                        <a:pt x="323" y="143"/>
                      </a:lnTo>
                      <a:lnTo>
                        <a:pt x="328" y="175"/>
                      </a:lnTo>
                      <a:lnTo>
                        <a:pt x="363" y="170"/>
                      </a:lnTo>
                      <a:lnTo>
                        <a:pt x="375" y="193"/>
                      </a:lnTo>
                      <a:lnTo>
                        <a:pt x="378" y="213"/>
                      </a:lnTo>
                      <a:lnTo>
                        <a:pt x="395" y="238"/>
                      </a:lnTo>
                      <a:lnTo>
                        <a:pt x="373" y="258"/>
                      </a:lnTo>
                      <a:lnTo>
                        <a:pt x="353" y="273"/>
                      </a:lnTo>
                      <a:lnTo>
                        <a:pt x="330" y="273"/>
                      </a:lnTo>
                      <a:lnTo>
                        <a:pt x="303" y="280"/>
                      </a:lnTo>
                      <a:lnTo>
                        <a:pt x="303" y="308"/>
                      </a:lnTo>
                      <a:lnTo>
                        <a:pt x="290" y="328"/>
                      </a:lnTo>
                      <a:lnTo>
                        <a:pt x="263" y="350"/>
                      </a:lnTo>
                      <a:lnTo>
                        <a:pt x="215" y="315"/>
                      </a:lnTo>
                      <a:lnTo>
                        <a:pt x="203" y="283"/>
                      </a:lnTo>
                      <a:lnTo>
                        <a:pt x="160" y="273"/>
                      </a:lnTo>
                      <a:lnTo>
                        <a:pt x="145" y="230"/>
                      </a:lnTo>
                      <a:lnTo>
                        <a:pt x="115" y="205"/>
                      </a:lnTo>
                      <a:lnTo>
                        <a:pt x="103" y="175"/>
                      </a:lnTo>
                      <a:lnTo>
                        <a:pt x="80" y="145"/>
                      </a:lnTo>
                      <a:lnTo>
                        <a:pt x="63" y="115"/>
                      </a:lnTo>
                      <a:lnTo>
                        <a:pt x="30" y="9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691160" y="2638440"/>
                  <a:ext cx="371520" cy="404640"/>
                </a:xfrm>
                <a:custGeom>
                  <a:avLst/>
                  <a:gdLst/>
                  <a:ahLst/>
                  <a:rect l="l" t="t" r="r" b="b"/>
                  <a:pathLst>
                    <a:path w="402" h="430">
                      <a:moveTo>
                        <a:pt x="167" y="10"/>
                      </a:moveTo>
                      <a:lnTo>
                        <a:pt x="125" y="63"/>
                      </a:lnTo>
                      <a:lnTo>
                        <a:pt x="125" y="78"/>
                      </a:lnTo>
                      <a:lnTo>
                        <a:pt x="100" y="103"/>
                      </a:lnTo>
                      <a:lnTo>
                        <a:pt x="105" y="108"/>
                      </a:lnTo>
                      <a:lnTo>
                        <a:pt x="97" y="125"/>
                      </a:lnTo>
                      <a:lnTo>
                        <a:pt x="72" y="148"/>
                      </a:lnTo>
                      <a:lnTo>
                        <a:pt x="47" y="178"/>
                      </a:lnTo>
                      <a:lnTo>
                        <a:pt x="37" y="193"/>
                      </a:lnTo>
                      <a:lnTo>
                        <a:pt x="47" y="205"/>
                      </a:lnTo>
                      <a:lnTo>
                        <a:pt x="40" y="228"/>
                      </a:lnTo>
                      <a:lnTo>
                        <a:pt x="27" y="243"/>
                      </a:lnTo>
                      <a:lnTo>
                        <a:pt x="17" y="250"/>
                      </a:lnTo>
                      <a:lnTo>
                        <a:pt x="0" y="273"/>
                      </a:lnTo>
                      <a:lnTo>
                        <a:pt x="2" y="293"/>
                      </a:lnTo>
                      <a:lnTo>
                        <a:pt x="20" y="305"/>
                      </a:lnTo>
                      <a:lnTo>
                        <a:pt x="65" y="305"/>
                      </a:lnTo>
                      <a:lnTo>
                        <a:pt x="90" y="290"/>
                      </a:lnTo>
                      <a:lnTo>
                        <a:pt x="117" y="285"/>
                      </a:lnTo>
                      <a:lnTo>
                        <a:pt x="137" y="305"/>
                      </a:lnTo>
                      <a:lnTo>
                        <a:pt x="160" y="313"/>
                      </a:lnTo>
                      <a:lnTo>
                        <a:pt x="187" y="318"/>
                      </a:lnTo>
                      <a:lnTo>
                        <a:pt x="180" y="350"/>
                      </a:lnTo>
                      <a:lnTo>
                        <a:pt x="190" y="430"/>
                      </a:lnTo>
                      <a:lnTo>
                        <a:pt x="215" y="428"/>
                      </a:lnTo>
                      <a:lnTo>
                        <a:pt x="230" y="425"/>
                      </a:lnTo>
                      <a:lnTo>
                        <a:pt x="235" y="403"/>
                      </a:lnTo>
                      <a:lnTo>
                        <a:pt x="240" y="355"/>
                      </a:lnTo>
                      <a:lnTo>
                        <a:pt x="257" y="330"/>
                      </a:lnTo>
                      <a:lnTo>
                        <a:pt x="257" y="290"/>
                      </a:lnTo>
                      <a:lnTo>
                        <a:pt x="272" y="265"/>
                      </a:lnTo>
                      <a:lnTo>
                        <a:pt x="302" y="250"/>
                      </a:lnTo>
                      <a:lnTo>
                        <a:pt x="362" y="185"/>
                      </a:lnTo>
                      <a:lnTo>
                        <a:pt x="370" y="155"/>
                      </a:lnTo>
                      <a:lnTo>
                        <a:pt x="360" y="110"/>
                      </a:lnTo>
                      <a:lnTo>
                        <a:pt x="397" y="80"/>
                      </a:lnTo>
                      <a:lnTo>
                        <a:pt x="402" y="30"/>
                      </a:lnTo>
                      <a:lnTo>
                        <a:pt x="377" y="8"/>
                      </a:lnTo>
                      <a:lnTo>
                        <a:pt x="360" y="3"/>
                      </a:lnTo>
                      <a:lnTo>
                        <a:pt x="327" y="0"/>
                      </a:lnTo>
                      <a:lnTo>
                        <a:pt x="257" y="0"/>
                      </a:lnTo>
                      <a:lnTo>
                        <a:pt x="237" y="15"/>
                      </a:lnTo>
                      <a:lnTo>
                        <a:pt x="220" y="38"/>
                      </a:lnTo>
                      <a:lnTo>
                        <a:pt x="222" y="55"/>
                      </a:lnTo>
                      <a:lnTo>
                        <a:pt x="247" y="73"/>
                      </a:lnTo>
                      <a:lnTo>
                        <a:pt x="265" y="93"/>
                      </a:lnTo>
                      <a:lnTo>
                        <a:pt x="265" y="123"/>
                      </a:lnTo>
                      <a:lnTo>
                        <a:pt x="237" y="143"/>
                      </a:lnTo>
                      <a:lnTo>
                        <a:pt x="207" y="148"/>
                      </a:lnTo>
                      <a:lnTo>
                        <a:pt x="187" y="153"/>
                      </a:lnTo>
                      <a:lnTo>
                        <a:pt x="177" y="135"/>
                      </a:lnTo>
                      <a:lnTo>
                        <a:pt x="170" y="110"/>
                      </a:lnTo>
                      <a:lnTo>
                        <a:pt x="185" y="90"/>
                      </a:lnTo>
                      <a:lnTo>
                        <a:pt x="180" y="65"/>
                      </a:lnTo>
                      <a:lnTo>
                        <a:pt x="177" y="40"/>
                      </a:lnTo>
                      <a:lnTo>
                        <a:pt x="167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4600" y="2000160"/>
                  <a:ext cx="528840" cy="495360"/>
                </a:xfrm>
                <a:custGeom>
                  <a:avLst/>
                  <a:gdLst/>
                  <a:ahLst/>
                  <a:rect l="l" t="t" r="r" b="b"/>
                  <a:pathLst>
                    <a:path w="572" h="525">
                      <a:moveTo>
                        <a:pt x="212" y="197"/>
                      </a:moveTo>
                      <a:lnTo>
                        <a:pt x="205" y="217"/>
                      </a:lnTo>
                      <a:lnTo>
                        <a:pt x="212" y="247"/>
                      </a:lnTo>
                      <a:lnTo>
                        <a:pt x="200" y="262"/>
                      </a:lnTo>
                      <a:lnTo>
                        <a:pt x="182" y="252"/>
                      </a:lnTo>
                      <a:lnTo>
                        <a:pt x="162" y="255"/>
                      </a:lnTo>
                      <a:lnTo>
                        <a:pt x="162" y="277"/>
                      </a:lnTo>
                      <a:lnTo>
                        <a:pt x="120" y="317"/>
                      </a:lnTo>
                      <a:lnTo>
                        <a:pt x="95" y="325"/>
                      </a:lnTo>
                      <a:lnTo>
                        <a:pt x="62" y="362"/>
                      </a:lnTo>
                      <a:lnTo>
                        <a:pt x="42" y="372"/>
                      </a:lnTo>
                      <a:lnTo>
                        <a:pt x="25" y="370"/>
                      </a:lnTo>
                      <a:lnTo>
                        <a:pt x="17" y="375"/>
                      </a:lnTo>
                      <a:lnTo>
                        <a:pt x="12" y="382"/>
                      </a:lnTo>
                      <a:lnTo>
                        <a:pt x="20" y="395"/>
                      </a:lnTo>
                      <a:lnTo>
                        <a:pt x="20" y="420"/>
                      </a:lnTo>
                      <a:lnTo>
                        <a:pt x="0" y="44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32" y="465"/>
                      </a:lnTo>
                      <a:lnTo>
                        <a:pt x="42" y="447"/>
                      </a:lnTo>
                      <a:lnTo>
                        <a:pt x="57" y="462"/>
                      </a:lnTo>
                      <a:lnTo>
                        <a:pt x="37" y="475"/>
                      </a:lnTo>
                      <a:lnTo>
                        <a:pt x="45" y="497"/>
                      </a:lnTo>
                      <a:lnTo>
                        <a:pt x="57" y="500"/>
                      </a:lnTo>
                      <a:lnTo>
                        <a:pt x="102" y="507"/>
                      </a:lnTo>
                      <a:lnTo>
                        <a:pt x="110" y="512"/>
                      </a:lnTo>
                      <a:lnTo>
                        <a:pt x="152" y="525"/>
                      </a:lnTo>
                      <a:lnTo>
                        <a:pt x="167" y="517"/>
                      </a:lnTo>
                      <a:lnTo>
                        <a:pt x="205" y="497"/>
                      </a:lnTo>
                      <a:lnTo>
                        <a:pt x="257" y="507"/>
                      </a:lnTo>
                      <a:lnTo>
                        <a:pt x="352" y="507"/>
                      </a:lnTo>
                      <a:lnTo>
                        <a:pt x="405" y="497"/>
                      </a:lnTo>
                      <a:lnTo>
                        <a:pt x="430" y="457"/>
                      </a:lnTo>
                      <a:lnTo>
                        <a:pt x="462" y="442"/>
                      </a:lnTo>
                      <a:lnTo>
                        <a:pt x="472" y="420"/>
                      </a:lnTo>
                      <a:lnTo>
                        <a:pt x="482" y="387"/>
                      </a:lnTo>
                      <a:lnTo>
                        <a:pt x="507" y="370"/>
                      </a:lnTo>
                      <a:lnTo>
                        <a:pt x="527" y="317"/>
                      </a:lnTo>
                      <a:lnTo>
                        <a:pt x="525" y="255"/>
                      </a:lnTo>
                      <a:lnTo>
                        <a:pt x="572" y="227"/>
                      </a:lnTo>
                      <a:lnTo>
                        <a:pt x="545" y="202"/>
                      </a:lnTo>
                      <a:lnTo>
                        <a:pt x="535" y="160"/>
                      </a:lnTo>
                      <a:lnTo>
                        <a:pt x="517" y="145"/>
                      </a:lnTo>
                      <a:lnTo>
                        <a:pt x="495" y="145"/>
                      </a:lnTo>
                      <a:lnTo>
                        <a:pt x="475" y="132"/>
                      </a:lnTo>
                      <a:lnTo>
                        <a:pt x="437" y="87"/>
                      </a:lnTo>
                      <a:lnTo>
                        <a:pt x="455" y="77"/>
                      </a:lnTo>
                      <a:lnTo>
                        <a:pt x="520" y="17"/>
                      </a:lnTo>
                      <a:lnTo>
                        <a:pt x="512" y="0"/>
                      </a:lnTo>
                      <a:lnTo>
                        <a:pt x="492" y="5"/>
                      </a:lnTo>
                      <a:lnTo>
                        <a:pt x="422" y="7"/>
                      </a:lnTo>
                      <a:lnTo>
                        <a:pt x="397" y="25"/>
                      </a:lnTo>
                      <a:lnTo>
                        <a:pt x="380" y="35"/>
                      </a:lnTo>
                      <a:lnTo>
                        <a:pt x="355" y="32"/>
                      </a:lnTo>
                      <a:lnTo>
                        <a:pt x="340" y="42"/>
                      </a:lnTo>
                      <a:lnTo>
                        <a:pt x="352" y="60"/>
                      </a:lnTo>
                      <a:lnTo>
                        <a:pt x="387" y="82"/>
                      </a:lnTo>
                      <a:lnTo>
                        <a:pt x="362" y="87"/>
                      </a:lnTo>
                      <a:lnTo>
                        <a:pt x="300" y="95"/>
                      </a:lnTo>
                      <a:lnTo>
                        <a:pt x="257" y="77"/>
                      </a:lnTo>
                      <a:lnTo>
                        <a:pt x="215" y="60"/>
                      </a:lnTo>
                      <a:lnTo>
                        <a:pt x="200" y="70"/>
                      </a:lnTo>
                      <a:lnTo>
                        <a:pt x="190" y="102"/>
                      </a:lnTo>
                      <a:lnTo>
                        <a:pt x="192" y="120"/>
                      </a:lnTo>
                      <a:lnTo>
                        <a:pt x="187" y="127"/>
                      </a:lnTo>
                      <a:lnTo>
                        <a:pt x="162" y="137"/>
                      </a:lnTo>
                      <a:lnTo>
                        <a:pt x="165" y="170"/>
                      </a:lnTo>
                      <a:lnTo>
                        <a:pt x="162" y="177"/>
                      </a:lnTo>
                      <a:lnTo>
                        <a:pt x="137" y="210"/>
                      </a:lnTo>
                      <a:lnTo>
                        <a:pt x="160" y="242"/>
                      </a:lnTo>
                      <a:lnTo>
                        <a:pt x="167" y="240"/>
                      </a:lnTo>
                      <a:lnTo>
                        <a:pt x="212" y="19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214960" y="2035080"/>
                  <a:ext cx="611280" cy="486000"/>
                  <a:chOff x="5214960" y="2035080"/>
                  <a:chExt cx="611280" cy="486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214960" y="2134080"/>
                    <a:ext cx="252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0">
                        <a:moveTo>
                          <a:pt x="20" y="290"/>
                        </a:moveTo>
                        <a:lnTo>
                          <a:pt x="35" y="315"/>
                        </a:lnTo>
                        <a:lnTo>
                          <a:pt x="65" y="315"/>
                        </a:lnTo>
                        <a:lnTo>
                          <a:pt x="93" y="323"/>
                        </a:lnTo>
                        <a:lnTo>
                          <a:pt x="115" y="340"/>
                        </a:lnTo>
                        <a:lnTo>
                          <a:pt x="138" y="340"/>
                        </a:lnTo>
                        <a:lnTo>
                          <a:pt x="123" y="318"/>
                        </a:lnTo>
                        <a:lnTo>
                          <a:pt x="133" y="290"/>
                        </a:lnTo>
                        <a:lnTo>
                          <a:pt x="148" y="258"/>
                        </a:lnTo>
                        <a:lnTo>
                          <a:pt x="155" y="223"/>
                        </a:lnTo>
                        <a:lnTo>
                          <a:pt x="188" y="200"/>
                        </a:lnTo>
                        <a:lnTo>
                          <a:pt x="213" y="185"/>
                        </a:lnTo>
                        <a:lnTo>
                          <a:pt x="210" y="165"/>
                        </a:lnTo>
                        <a:lnTo>
                          <a:pt x="210" y="130"/>
                        </a:lnTo>
                        <a:lnTo>
                          <a:pt x="218" y="115"/>
                        </a:lnTo>
                        <a:lnTo>
                          <a:pt x="243" y="113"/>
                        </a:lnTo>
                        <a:lnTo>
                          <a:pt x="253" y="120"/>
                        </a:lnTo>
                        <a:lnTo>
                          <a:pt x="273" y="95"/>
                        </a:lnTo>
                        <a:lnTo>
                          <a:pt x="265" y="73"/>
                        </a:lnTo>
                        <a:lnTo>
                          <a:pt x="253" y="70"/>
                        </a:lnTo>
                        <a:lnTo>
                          <a:pt x="228" y="70"/>
                        </a:lnTo>
                        <a:lnTo>
                          <a:pt x="218" y="70"/>
                        </a:lnTo>
                        <a:lnTo>
                          <a:pt x="210" y="38"/>
                        </a:lnTo>
                        <a:lnTo>
                          <a:pt x="213" y="8"/>
                        </a:lnTo>
                        <a:lnTo>
                          <a:pt x="195" y="0"/>
                        </a:lnTo>
                        <a:lnTo>
                          <a:pt x="188" y="10"/>
                        </a:lnTo>
                        <a:lnTo>
                          <a:pt x="148" y="3"/>
                        </a:lnTo>
                        <a:lnTo>
                          <a:pt x="138" y="13"/>
                        </a:lnTo>
                        <a:lnTo>
                          <a:pt x="148" y="43"/>
                        </a:lnTo>
                        <a:lnTo>
                          <a:pt x="143" y="70"/>
                        </a:lnTo>
                        <a:lnTo>
                          <a:pt x="125" y="50"/>
                        </a:lnTo>
                        <a:lnTo>
                          <a:pt x="118" y="33"/>
                        </a:lnTo>
                        <a:lnTo>
                          <a:pt x="93" y="35"/>
                        </a:lnTo>
                        <a:lnTo>
                          <a:pt x="85" y="53"/>
                        </a:lnTo>
                        <a:lnTo>
                          <a:pt x="78" y="60"/>
                        </a:lnTo>
                        <a:lnTo>
                          <a:pt x="78" y="85"/>
                        </a:lnTo>
                        <a:lnTo>
                          <a:pt x="73" y="80"/>
                        </a:lnTo>
                        <a:lnTo>
                          <a:pt x="53" y="50"/>
                        </a:lnTo>
                        <a:lnTo>
                          <a:pt x="40" y="38"/>
                        </a:lnTo>
                        <a:lnTo>
                          <a:pt x="28" y="45"/>
                        </a:lnTo>
                        <a:lnTo>
                          <a:pt x="30" y="63"/>
                        </a:lnTo>
                        <a:lnTo>
                          <a:pt x="30" y="73"/>
                        </a:lnTo>
                        <a:lnTo>
                          <a:pt x="13" y="80"/>
                        </a:lnTo>
                        <a:lnTo>
                          <a:pt x="13" y="105"/>
                        </a:lnTo>
                        <a:lnTo>
                          <a:pt x="28" y="130"/>
                        </a:lnTo>
                        <a:lnTo>
                          <a:pt x="28" y="148"/>
                        </a:lnTo>
                        <a:lnTo>
                          <a:pt x="20" y="165"/>
                        </a:lnTo>
                        <a:lnTo>
                          <a:pt x="0" y="183"/>
                        </a:lnTo>
                        <a:lnTo>
                          <a:pt x="3" y="200"/>
                        </a:lnTo>
                        <a:lnTo>
                          <a:pt x="23" y="218"/>
                        </a:lnTo>
                        <a:lnTo>
                          <a:pt x="30" y="235"/>
                        </a:lnTo>
                        <a:lnTo>
                          <a:pt x="28" y="270"/>
                        </a:lnTo>
                        <a:lnTo>
                          <a:pt x="20" y="29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265720" y="2035080"/>
                    <a:ext cx="1926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30">
                        <a:moveTo>
                          <a:pt x="0" y="125"/>
                        </a:moveTo>
                        <a:lnTo>
                          <a:pt x="18" y="130"/>
                        </a:lnTo>
                        <a:lnTo>
                          <a:pt x="38" y="115"/>
                        </a:lnTo>
                        <a:lnTo>
                          <a:pt x="60" y="90"/>
                        </a:lnTo>
                        <a:lnTo>
                          <a:pt x="115" y="90"/>
                        </a:lnTo>
                        <a:lnTo>
                          <a:pt x="165" y="80"/>
                        </a:lnTo>
                        <a:lnTo>
                          <a:pt x="195" y="58"/>
                        </a:lnTo>
                        <a:lnTo>
                          <a:pt x="203" y="30"/>
                        </a:lnTo>
                        <a:lnTo>
                          <a:pt x="208" y="0"/>
                        </a:lnTo>
                        <a:lnTo>
                          <a:pt x="170" y="18"/>
                        </a:lnTo>
                        <a:lnTo>
                          <a:pt x="100" y="50"/>
                        </a:lnTo>
                        <a:lnTo>
                          <a:pt x="80" y="53"/>
                        </a:lnTo>
                        <a:lnTo>
                          <a:pt x="60" y="70"/>
                        </a:lnTo>
                        <a:lnTo>
                          <a:pt x="18" y="78"/>
                        </a:lnTo>
                        <a:lnTo>
                          <a:pt x="0" y="85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365800" y="2334960"/>
                    <a:ext cx="806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27" y="0"/>
                        </a:moveTo>
                        <a:lnTo>
                          <a:pt x="85" y="37"/>
                        </a:lnTo>
                        <a:lnTo>
                          <a:pt x="87" y="55"/>
                        </a:lnTo>
                        <a:lnTo>
                          <a:pt x="67" y="75"/>
                        </a:lnTo>
                        <a:lnTo>
                          <a:pt x="47" y="90"/>
                        </a:lnTo>
                        <a:lnTo>
                          <a:pt x="52" y="107"/>
                        </a:lnTo>
                        <a:lnTo>
                          <a:pt x="27" y="102"/>
                        </a:lnTo>
                        <a:lnTo>
                          <a:pt x="2" y="75"/>
                        </a:lnTo>
                        <a:lnTo>
                          <a:pt x="0" y="55"/>
                        </a:lnTo>
                        <a:lnTo>
                          <a:pt x="10" y="3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467680" y="2306880"/>
                    <a:ext cx="1220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57">
                        <a:moveTo>
                          <a:pt x="125" y="0"/>
                        </a:moveTo>
                        <a:lnTo>
                          <a:pt x="132" y="7"/>
                        </a:lnTo>
                        <a:lnTo>
                          <a:pt x="125" y="15"/>
                        </a:lnTo>
                        <a:lnTo>
                          <a:pt x="132" y="32"/>
                        </a:lnTo>
                        <a:lnTo>
                          <a:pt x="122" y="55"/>
                        </a:lnTo>
                        <a:lnTo>
                          <a:pt x="102" y="70"/>
                        </a:lnTo>
                        <a:lnTo>
                          <a:pt x="110" y="87"/>
                        </a:lnTo>
                        <a:lnTo>
                          <a:pt x="102" y="102"/>
                        </a:lnTo>
                        <a:lnTo>
                          <a:pt x="110" y="117"/>
                        </a:lnTo>
                        <a:lnTo>
                          <a:pt x="85" y="157"/>
                        </a:lnTo>
                        <a:lnTo>
                          <a:pt x="30" y="117"/>
                        </a:lnTo>
                        <a:lnTo>
                          <a:pt x="0" y="97"/>
                        </a:lnTo>
                        <a:lnTo>
                          <a:pt x="17" y="87"/>
                        </a:lnTo>
                        <a:lnTo>
                          <a:pt x="17" y="62"/>
                        </a:lnTo>
                        <a:lnTo>
                          <a:pt x="52" y="40"/>
                        </a:lnTo>
                        <a:lnTo>
                          <a:pt x="70" y="47"/>
                        </a:lnTo>
                        <a:lnTo>
                          <a:pt x="85" y="40"/>
                        </a:lnTo>
                        <a:lnTo>
                          <a:pt x="115" y="20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453640" y="2459880"/>
                    <a:ext cx="478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0"/>
                        </a:moveTo>
                        <a:lnTo>
                          <a:pt x="35" y="10"/>
                        </a:lnTo>
                        <a:lnTo>
                          <a:pt x="47" y="28"/>
                        </a:lnTo>
                        <a:lnTo>
                          <a:pt x="52" y="53"/>
                        </a:lnTo>
                        <a:lnTo>
                          <a:pt x="35" y="65"/>
                        </a:lnTo>
                        <a:lnTo>
                          <a:pt x="7" y="55"/>
                        </a:lnTo>
                        <a:lnTo>
                          <a:pt x="2" y="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789160" y="2443680"/>
                    <a:ext cx="370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3" y="0"/>
                        </a:moveTo>
                        <a:lnTo>
                          <a:pt x="0" y="10"/>
                        </a:lnTo>
                        <a:lnTo>
                          <a:pt x="0" y="37"/>
                        </a:lnTo>
                        <a:lnTo>
                          <a:pt x="28" y="55"/>
                        </a:lnTo>
                        <a:lnTo>
                          <a:pt x="40" y="3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4881600" y="2430360"/>
                  <a:ext cx="893880" cy="1220760"/>
                  <a:chOff x="4881600" y="2430360"/>
                  <a:chExt cx="893880" cy="1220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639760" y="2545200"/>
                    <a:ext cx="414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2" y="30"/>
                        </a:lnTo>
                        <a:lnTo>
                          <a:pt x="27" y="43"/>
                        </a:lnTo>
                        <a:lnTo>
                          <a:pt x="45" y="2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881600" y="2430360"/>
                    <a:ext cx="8938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7" h="1295">
                        <a:moveTo>
                          <a:pt x="400" y="0"/>
                        </a:moveTo>
                        <a:lnTo>
                          <a:pt x="377" y="12"/>
                        </a:lnTo>
                        <a:lnTo>
                          <a:pt x="377" y="27"/>
                        </a:lnTo>
                        <a:lnTo>
                          <a:pt x="382" y="42"/>
                        </a:lnTo>
                        <a:lnTo>
                          <a:pt x="385" y="62"/>
                        </a:lnTo>
                        <a:lnTo>
                          <a:pt x="390" y="90"/>
                        </a:lnTo>
                        <a:lnTo>
                          <a:pt x="377" y="102"/>
                        </a:lnTo>
                        <a:lnTo>
                          <a:pt x="377" y="120"/>
                        </a:lnTo>
                        <a:lnTo>
                          <a:pt x="382" y="135"/>
                        </a:lnTo>
                        <a:lnTo>
                          <a:pt x="410" y="160"/>
                        </a:lnTo>
                        <a:lnTo>
                          <a:pt x="427" y="165"/>
                        </a:lnTo>
                        <a:lnTo>
                          <a:pt x="435" y="202"/>
                        </a:lnTo>
                        <a:lnTo>
                          <a:pt x="395" y="192"/>
                        </a:lnTo>
                        <a:lnTo>
                          <a:pt x="375" y="172"/>
                        </a:lnTo>
                        <a:lnTo>
                          <a:pt x="357" y="182"/>
                        </a:lnTo>
                        <a:lnTo>
                          <a:pt x="325" y="222"/>
                        </a:lnTo>
                        <a:lnTo>
                          <a:pt x="312" y="235"/>
                        </a:lnTo>
                        <a:lnTo>
                          <a:pt x="297" y="230"/>
                        </a:lnTo>
                        <a:lnTo>
                          <a:pt x="295" y="215"/>
                        </a:lnTo>
                        <a:lnTo>
                          <a:pt x="285" y="200"/>
                        </a:lnTo>
                        <a:lnTo>
                          <a:pt x="255" y="190"/>
                        </a:lnTo>
                        <a:lnTo>
                          <a:pt x="212" y="190"/>
                        </a:lnTo>
                        <a:lnTo>
                          <a:pt x="200" y="207"/>
                        </a:lnTo>
                        <a:lnTo>
                          <a:pt x="177" y="230"/>
                        </a:lnTo>
                        <a:lnTo>
                          <a:pt x="197" y="247"/>
                        </a:lnTo>
                        <a:lnTo>
                          <a:pt x="197" y="280"/>
                        </a:lnTo>
                        <a:lnTo>
                          <a:pt x="192" y="297"/>
                        </a:lnTo>
                        <a:lnTo>
                          <a:pt x="185" y="312"/>
                        </a:lnTo>
                        <a:lnTo>
                          <a:pt x="160" y="330"/>
                        </a:lnTo>
                        <a:lnTo>
                          <a:pt x="152" y="332"/>
                        </a:lnTo>
                        <a:lnTo>
                          <a:pt x="157" y="357"/>
                        </a:lnTo>
                        <a:lnTo>
                          <a:pt x="167" y="375"/>
                        </a:lnTo>
                        <a:lnTo>
                          <a:pt x="160" y="395"/>
                        </a:lnTo>
                        <a:lnTo>
                          <a:pt x="142" y="420"/>
                        </a:lnTo>
                        <a:lnTo>
                          <a:pt x="122" y="445"/>
                        </a:lnTo>
                        <a:lnTo>
                          <a:pt x="107" y="462"/>
                        </a:lnTo>
                        <a:lnTo>
                          <a:pt x="82" y="480"/>
                        </a:lnTo>
                        <a:lnTo>
                          <a:pt x="65" y="487"/>
                        </a:lnTo>
                        <a:lnTo>
                          <a:pt x="52" y="515"/>
                        </a:lnTo>
                        <a:lnTo>
                          <a:pt x="50" y="557"/>
                        </a:lnTo>
                        <a:lnTo>
                          <a:pt x="35" y="582"/>
                        </a:lnTo>
                        <a:lnTo>
                          <a:pt x="35" y="617"/>
                        </a:lnTo>
                        <a:lnTo>
                          <a:pt x="20" y="635"/>
                        </a:lnTo>
                        <a:lnTo>
                          <a:pt x="17" y="645"/>
                        </a:lnTo>
                        <a:lnTo>
                          <a:pt x="27" y="662"/>
                        </a:lnTo>
                        <a:lnTo>
                          <a:pt x="35" y="692"/>
                        </a:lnTo>
                        <a:lnTo>
                          <a:pt x="52" y="715"/>
                        </a:lnTo>
                        <a:lnTo>
                          <a:pt x="2" y="757"/>
                        </a:lnTo>
                        <a:lnTo>
                          <a:pt x="12" y="782"/>
                        </a:lnTo>
                        <a:lnTo>
                          <a:pt x="32" y="800"/>
                        </a:lnTo>
                        <a:lnTo>
                          <a:pt x="35" y="802"/>
                        </a:lnTo>
                        <a:lnTo>
                          <a:pt x="35" y="820"/>
                        </a:lnTo>
                        <a:lnTo>
                          <a:pt x="10" y="837"/>
                        </a:lnTo>
                        <a:lnTo>
                          <a:pt x="0" y="862"/>
                        </a:lnTo>
                        <a:lnTo>
                          <a:pt x="10" y="895"/>
                        </a:lnTo>
                        <a:lnTo>
                          <a:pt x="25" y="915"/>
                        </a:lnTo>
                        <a:lnTo>
                          <a:pt x="52" y="925"/>
                        </a:lnTo>
                        <a:lnTo>
                          <a:pt x="87" y="932"/>
                        </a:lnTo>
                        <a:lnTo>
                          <a:pt x="122" y="935"/>
                        </a:lnTo>
                        <a:lnTo>
                          <a:pt x="150" y="940"/>
                        </a:lnTo>
                        <a:lnTo>
                          <a:pt x="172" y="955"/>
                        </a:lnTo>
                        <a:lnTo>
                          <a:pt x="192" y="972"/>
                        </a:lnTo>
                        <a:lnTo>
                          <a:pt x="167" y="985"/>
                        </a:lnTo>
                        <a:lnTo>
                          <a:pt x="147" y="1005"/>
                        </a:lnTo>
                        <a:lnTo>
                          <a:pt x="127" y="1025"/>
                        </a:lnTo>
                        <a:lnTo>
                          <a:pt x="122" y="1047"/>
                        </a:lnTo>
                        <a:lnTo>
                          <a:pt x="112" y="1097"/>
                        </a:lnTo>
                        <a:lnTo>
                          <a:pt x="95" y="1130"/>
                        </a:lnTo>
                        <a:lnTo>
                          <a:pt x="82" y="1152"/>
                        </a:lnTo>
                        <a:lnTo>
                          <a:pt x="112" y="1190"/>
                        </a:lnTo>
                        <a:lnTo>
                          <a:pt x="120" y="1200"/>
                        </a:lnTo>
                        <a:lnTo>
                          <a:pt x="135" y="1215"/>
                        </a:lnTo>
                        <a:lnTo>
                          <a:pt x="152" y="1212"/>
                        </a:lnTo>
                        <a:lnTo>
                          <a:pt x="175" y="1200"/>
                        </a:lnTo>
                        <a:lnTo>
                          <a:pt x="185" y="1190"/>
                        </a:lnTo>
                        <a:lnTo>
                          <a:pt x="190" y="1185"/>
                        </a:lnTo>
                        <a:lnTo>
                          <a:pt x="222" y="1190"/>
                        </a:lnTo>
                        <a:lnTo>
                          <a:pt x="235" y="1207"/>
                        </a:lnTo>
                        <a:lnTo>
                          <a:pt x="245" y="1230"/>
                        </a:lnTo>
                        <a:lnTo>
                          <a:pt x="260" y="1247"/>
                        </a:lnTo>
                        <a:lnTo>
                          <a:pt x="280" y="1250"/>
                        </a:lnTo>
                        <a:lnTo>
                          <a:pt x="322" y="1247"/>
                        </a:lnTo>
                        <a:lnTo>
                          <a:pt x="342" y="1242"/>
                        </a:lnTo>
                        <a:lnTo>
                          <a:pt x="370" y="1262"/>
                        </a:lnTo>
                        <a:lnTo>
                          <a:pt x="392" y="1255"/>
                        </a:lnTo>
                        <a:lnTo>
                          <a:pt x="412" y="1260"/>
                        </a:lnTo>
                        <a:lnTo>
                          <a:pt x="432" y="1275"/>
                        </a:lnTo>
                        <a:lnTo>
                          <a:pt x="465" y="1260"/>
                        </a:lnTo>
                        <a:lnTo>
                          <a:pt x="497" y="1260"/>
                        </a:lnTo>
                        <a:lnTo>
                          <a:pt x="522" y="1275"/>
                        </a:lnTo>
                        <a:lnTo>
                          <a:pt x="540" y="1282"/>
                        </a:lnTo>
                        <a:lnTo>
                          <a:pt x="560" y="1267"/>
                        </a:lnTo>
                        <a:lnTo>
                          <a:pt x="580" y="1267"/>
                        </a:lnTo>
                        <a:lnTo>
                          <a:pt x="617" y="1260"/>
                        </a:lnTo>
                        <a:lnTo>
                          <a:pt x="642" y="1275"/>
                        </a:lnTo>
                        <a:lnTo>
                          <a:pt x="645" y="1267"/>
                        </a:lnTo>
                        <a:lnTo>
                          <a:pt x="672" y="1285"/>
                        </a:lnTo>
                        <a:lnTo>
                          <a:pt x="695" y="1295"/>
                        </a:lnTo>
                        <a:lnTo>
                          <a:pt x="720" y="1285"/>
                        </a:lnTo>
                        <a:lnTo>
                          <a:pt x="725" y="1267"/>
                        </a:lnTo>
                        <a:lnTo>
                          <a:pt x="707" y="1242"/>
                        </a:lnTo>
                        <a:lnTo>
                          <a:pt x="705" y="1230"/>
                        </a:lnTo>
                        <a:lnTo>
                          <a:pt x="695" y="1187"/>
                        </a:lnTo>
                        <a:lnTo>
                          <a:pt x="790" y="1122"/>
                        </a:lnTo>
                        <a:lnTo>
                          <a:pt x="815" y="1122"/>
                        </a:lnTo>
                        <a:lnTo>
                          <a:pt x="820" y="1112"/>
                        </a:lnTo>
                        <a:lnTo>
                          <a:pt x="785" y="1100"/>
                        </a:lnTo>
                        <a:lnTo>
                          <a:pt x="760" y="1075"/>
                        </a:lnTo>
                        <a:lnTo>
                          <a:pt x="697" y="1020"/>
                        </a:lnTo>
                        <a:lnTo>
                          <a:pt x="690" y="975"/>
                        </a:lnTo>
                        <a:lnTo>
                          <a:pt x="655" y="967"/>
                        </a:lnTo>
                        <a:lnTo>
                          <a:pt x="650" y="925"/>
                        </a:lnTo>
                        <a:lnTo>
                          <a:pt x="642" y="890"/>
                        </a:lnTo>
                        <a:lnTo>
                          <a:pt x="627" y="872"/>
                        </a:lnTo>
                        <a:lnTo>
                          <a:pt x="637" y="855"/>
                        </a:lnTo>
                        <a:lnTo>
                          <a:pt x="645" y="847"/>
                        </a:lnTo>
                        <a:lnTo>
                          <a:pt x="665" y="850"/>
                        </a:lnTo>
                        <a:lnTo>
                          <a:pt x="722" y="832"/>
                        </a:lnTo>
                        <a:lnTo>
                          <a:pt x="847" y="770"/>
                        </a:lnTo>
                        <a:lnTo>
                          <a:pt x="875" y="757"/>
                        </a:lnTo>
                        <a:lnTo>
                          <a:pt x="900" y="740"/>
                        </a:lnTo>
                        <a:lnTo>
                          <a:pt x="922" y="762"/>
                        </a:lnTo>
                        <a:lnTo>
                          <a:pt x="950" y="752"/>
                        </a:lnTo>
                        <a:lnTo>
                          <a:pt x="957" y="722"/>
                        </a:lnTo>
                        <a:lnTo>
                          <a:pt x="955" y="707"/>
                        </a:lnTo>
                        <a:lnTo>
                          <a:pt x="967" y="687"/>
                        </a:lnTo>
                        <a:lnTo>
                          <a:pt x="952" y="665"/>
                        </a:lnTo>
                        <a:lnTo>
                          <a:pt x="935" y="625"/>
                        </a:lnTo>
                        <a:lnTo>
                          <a:pt x="947" y="567"/>
                        </a:lnTo>
                        <a:lnTo>
                          <a:pt x="927" y="540"/>
                        </a:lnTo>
                        <a:lnTo>
                          <a:pt x="920" y="512"/>
                        </a:lnTo>
                        <a:lnTo>
                          <a:pt x="930" y="485"/>
                        </a:lnTo>
                        <a:lnTo>
                          <a:pt x="922" y="462"/>
                        </a:lnTo>
                        <a:lnTo>
                          <a:pt x="885" y="417"/>
                        </a:lnTo>
                        <a:lnTo>
                          <a:pt x="905" y="392"/>
                        </a:lnTo>
                        <a:lnTo>
                          <a:pt x="905" y="347"/>
                        </a:lnTo>
                        <a:lnTo>
                          <a:pt x="907" y="292"/>
                        </a:lnTo>
                        <a:lnTo>
                          <a:pt x="865" y="245"/>
                        </a:lnTo>
                        <a:lnTo>
                          <a:pt x="845" y="217"/>
                        </a:lnTo>
                        <a:lnTo>
                          <a:pt x="820" y="192"/>
                        </a:lnTo>
                        <a:lnTo>
                          <a:pt x="782" y="160"/>
                        </a:lnTo>
                        <a:lnTo>
                          <a:pt x="757" y="145"/>
                        </a:lnTo>
                        <a:lnTo>
                          <a:pt x="740" y="140"/>
                        </a:lnTo>
                        <a:lnTo>
                          <a:pt x="715" y="157"/>
                        </a:lnTo>
                        <a:lnTo>
                          <a:pt x="697" y="167"/>
                        </a:lnTo>
                        <a:lnTo>
                          <a:pt x="642" y="210"/>
                        </a:lnTo>
                        <a:lnTo>
                          <a:pt x="602" y="200"/>
                        </a:lnTo>
                        <a:lnTo>
                          <a:pt x="585" y="200"/>
                        </a:lnTo>
                        <a:lnTo>
                          <a:pt x="585" y="185"/>
                        </a:lnTo>
                        <a:lnTo>
                          <a:pt x="592" y="165"/>
                        </a:lnTo>
                        <a:lnTo>
                          <a:pt x="602" y="147"/>
                        </a:lnTo>
                        <a:lnTo>
                          <a:pt x="550" y="115"/>
                        </a:lnTo>
                        <a:lnTo>
                          <a:pt x="535" y="112"/>
                        </a:lnTo>
                        <a:lnTo>
                          <a:pt x="510" y="90"/>
                        </a:lnTo>
                        <a:lnTo>
                          <a:pt x="502" y="52"/>
                        </a:lnTo>
                        <a:lnTo>
                          <a:pt x="490" y="27"/>
                        </a:lnTo>
                        <a:lnTo>
                          <a:pt x="472" y="32"/>
                        </a:lnTo>
                        <a:lnTo>
                          <a:pt x="452" y="7"/>
                        </a:lnTo>
                        <a:lnTo>
                          <a:pt x="425" y="2"/>
                        </a:lnTo>
                        <a:lnTo>
                          <a:pt x="400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29440" y="135000"/>
                  <a:ext cx="814320" cy="1612800"/>
                  <a:chOff x="6229440" y="135000"/>
                  <a:chExt cx="814320" cy="161280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229440" y="135000"/>
                    <a:ext cx="814320" cy="1612800"/>
                    <a:chOff x="6229440" y="135000"/>
                    <a:chExt cx="814320" cy="161280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229440" y="1651680"/>
                      <a:ext cx="489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7">
                          <a:moveTo>
                            <a:pt x="45" y="0"/>
                          </a:moveTo>
                          <a:lnTo>
                            <a:pt x="25" y="10"/>
                          </a:lnTo>
                          <a:lnTo>
                            <a:pt x="0" y="30"/>
                          </a:lnTo>
                          <a:lnTo>
                            <a:pt x="5" y="47"/>
                          </a:lnTo>
                          <a:lnTo>
                            <a:pt x="18" y="47"/>
                          </a:lnTo>
                          <a:lnTo>
                            <a:pt x="53" y="2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278400" y="135000"/>
                      <a:ext cx="765360" cy="161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7" h="1710">
                          <a:moveTo>
                            <a:pt x="232" y="1710"/>
                          </a:moveTo>
                          <a:lnTo>
                            <a:pt x="225" y="1653"/>
                          </a:lnTo>
                          <a:lnTo>
                            <a:pt x="197" y="1625"/>
                          </a:lnTo>
                          <a:lnTo>
                            <a:pt x="177" y="1613"/>
                          </a:lnTo>
                          <a:lnTo>
                            <a:pt x="140" y="1600"/>
                          </a:lnTo>
                          <a:lnTo>
                            <a:pt x="112" y="1600"/>
                          </a:lnTo>
                          <a:lnTo>
                            <a:pt x="100" y="1570"/>
                          </a:lnTo>
                          <a:lnTo>
                            <a:pt x="112" y="1465"/>
                          </a:lnTo>
                          <a:lnTo>
                            <a:pt x="107" y="1403"/>
                          </a:lnTo>
                          <a:lnTo>
                            <a:pt x="85" y="1373"/>
                          </a:lnTo>
                          <a:lnTo>
                            <a:pt x="70" y="1360"/>
                          </a:lnTo>
                          <a:lnTo>
                            <a:pt x="77" y="1303"/>
                          </a:lnTo>
                          <a:lnTo>
                            <a:pt x="70" y="1268"/>
                          </a:lnTo>
                          <a:lnTo>
                            <a:pt x="57" y="1240"/>
                          </a:lnTo>
                          <a:lnTo>
                            <a:pt x="77" y="1178"/>
                          </a:lnTo>
                          <a:lnTo>
                            <a:pt x="100" y="1178"/>
                          </a:lnTo>
                          <a:lnTo>
                            <a:pt x="112" y="1165"/>
                          </a:lnTo>
                          <a:lnTo>
                            <a:pt x="120" y="1123"/>
                          </a:lnTo>
                          <a:lnTo>
                            <a:pt x="162" y="1088"/>
                          </a:lnTo>
                          <a:lnTo>
                            <a:pt x="202" y="1053"/>
                          </a:lnTo>
                          <a:lnTo>
                            <a:pt x="210" y="1010"/>
                          </a:lnTo>
                          <a:lnTo>
                            <a:pt x="260" y="968"/>
                          </a:lnTo>
                          <a:lnTo>
                            <a:pt x="310" y="918"/>
                          </a:lnTo>
                          <a:lnTo>
                            <a:pt x="302" y="898"/>
                          </a:lnTo>
                          <a:lnTo>
                            <a:pt x="302" y="870"/>
                          </a:lnTo>
                          <a:lnTo>
                            <a:pt x="337" y="848"/>
                          </a:lnTo>
                          <a:lnTo>
                            <a:pt x="350" y="840"/>
                          </a:lnTo>
                          <a:lnTo>
                            <a:pt x="342" y="800"/>
                          </a:lnTo>
                          <a:lnTo>
                            <a:pt x="342" y="758"/>
                          </a:lnTo>
                          <a:lnTo>
                            <a:pt x="330" y="750"/>
                          </a:lnTo>
                          <a:lnTo>
                            <a:pt x="310" y="758"/>
                          </a:lnTo>
                          <a:lnTo>
                            <a:pt x="287" y="730"/>
                          </a:lnTo>
                          <a:lnTo>
                            <a:pt x="267" y="653"/>
                          </a:lnTo>
                          <a:lnTo>
                            <a:pt x="225" y="595"/>
                          </a:lnTo>
                          <a:lnTo>
                            <a:pt x="240" y="518"/>
                          </a:lnTo>
                          <a:lnTo>
                            <a:pt x="232" y="483"/>
                          </a:lnTo>
                          <a:lnTo>
                            <a:pt x="182" y="435"/>
                          </a:lnTo>
                          <a:lnTo>
                            <a:pt x="202" y="373"/>
                          </a:lnTo>
                          <a:lnTo>
                            <a:pt x="190" y="335"/>
                          </a:lnTo>
                          <a:lnTo>
                            <a:pt x="155" y="300"/>
                          </a:lnTo>
                          <a:lnTo>
                            <a:pt x="132" y="323"/>
                          </a:lnTo>
                          <a:lnTo>
                            <a:pt x="57" y="245"/>
                          </a:lnTo>
                          <a:lnTo>
                            <a:pt x="37" y="215"/>
                          </a:lnTo>
                          <a:lnTo>
                            <a:pt x="22" y="188"/>
                          </a:lnTo>
                          <a:lnTo>
                            <a:pt x="0" y="175"/>
                          </a:lnTo>
                          <a:lnTo>
                            <a:pt x="30" y="148"/>
                          </a:lnTo>
                          <a:lnTo>
                            <a:pt x="70" y="148"/>
                          </a:lnTo>
                          <a:lnTo>
                            <a:pt x="92" y="180"/>
                          </a:lnTo>
                          <a:lnTo>
                            <a:pt x="147" y="245"/>
                          </a:lnTo>
                          <a:lnTo>
                            <a:pt x="202" y="208"/>
                          </a:lnTo>
                          <a:lnTo>
                            <a:pt x="240" y="215"/>
                          </a:lnTo>
                          <a:lnTo>
                            <a:pt x="247" y="238"/>
                          </a:lnTo>
                          <a:lnTo>
                            <a:pt x="287" y="245"/>
                          </a:lnTo>
                          <a:lnTo>
                            <a:pt x="302" y="188"/>
                          </a:lnTo>
                          <a:lnTo>
                            <a:pt x="322" y="168"/>
                          </a:lnTo>
                          <a:lnTo>
                            <a:pt x="337" y="148"/>
                          </a:lnTo>
                          <a:lnTo>
                            <a:pt x="337" y="128"/>
                          </a:lnTo>
                          <a:lnTo>
                            <a:pt x="330" y="70"/>
                          </a:lnTo>
                          <a:lnTo>
                            <a:pt x="365" y="35"/>
                          </a:lnTo>
                          <a:lnTo>
                            <a:pt x="387" y="35"/>
                          </a:lnTo>
                          <a:lnTo>
                            <a:pt x="420" y="0"/>
                          </a:lnTo>
                          <a:lnTo>
                            <a:pt x="462" y="50"/>
                          </a:lnTo>
                          <a:lnTo>
                            <a:pt x="477" y="70"/>
                          </a:lnTo>
                          <a:lnTo>
                            <a:pt x="462" y="113"/>
                          </a:lnTo>
                          <a:lnTo>
                            <a:pt x="427" y="140"/>
                          </a:lnTo>
                          <a:lnTo>
                            <a:pt x="400" y="175"/>
                          </a:lnTo>
                          <a:lnTo>
                            <a:pt x="407" y="208"/>
                          </a:lnTo>
                          <a:lnTo>
                            <a:pt x="470" y="160"/>
                          </a:lnTo>
                          <a:lnTo>
                            <a:pt x="470" y="120"/>
                          </a:lnTo>
                          <a:lnTo>
                            <a:pt x="477" y="58"/>
                          </a:lnTo>
                          <a:lnTo>
                            <a:pt x="497" y="43"/>
                          </a:lnTo>
                          <a:lnTo>
                            <a:pt x="520" y="120"/>
                          </a:lnTo>
                          <a:lnTo>
                            <a:pt x="520" y="188"/>
                          </a:lnTo>
                          <a:lnTo>
                            <a:pt x="505" y="215"/>
                          </a:lnTo>
                          <a:lnTo>
                            <a:pt x="505" y="258"/>
                          </a:lnTo>
                          <a:lnTo>
                            <a:pt x="560" y="300"/>
                          </a:lnTo>
                          <a:lnTo>
                            <a:pt x="560" y="328"/>
                          </a:lnTo>
                          <a:lnTo>
                            <a:pt x="597" y="378"/>
                          </a:lnTo>
                          <a:lnTo>
                            <a:pt x="610" y="413"/>
                          </a:lnTo>
                          <a:lnTo>
                            <a:pt x="602" y="498"/>
                          </a:lnTo>
                          <a:lnTo>
                            <a:pt x="625" y="590"/>
                          </a:lnTo>
                          <a:lnTo>
                            <a:pt x="660" y="665"/>
                          </a:lnTo>
                          <a:lnTo>
                            <a:pt x="652" y="778"/>
                          </a:lnTo>
                          <a:lnTo>
                            <a:pt x="680" y="848"/>
                          </a:lnTo>
                          <a:lnTo>
                            <a:pt x="695" y="878"/>
                          </a:lnTo>
                          <a:lnTo>
                            <a:pt x="710" y="980"/>
                          </a:lnTo>
                          <a:lnTo>
                            <a:pt x="722" y="1025"/>
                          </a:lnTo>
                          <a:lnTo>
                            <a:pt x="792" y="1073"/>
                          </a:lnTo>
                          <a:lnTo>
                            <a:pt x="827" y="1115"/>
                          </a:lnTo>
                          <a:lnTo>
                            <a:pt x="827" y="1145"/>
                          </a:lnTo>
                          <a:lnTo>
                            <a:pt x="800" y="1275"/>
                          </a:lnTo>
                          <a:lnTo>
                            <a:pt x="787" y="1288"/>
                          </a:lnTo>
                          <a:lnTo>
                            <a:pt x="800" y="1318"/>
                          </a:lnTo>
                          <a:lnTo>
                            <a:pt x="765" y="1365"/>
                          </a:lnTo>
                          <a:lnTo>
                            <a:pt x="722" y="1388"/>
                          </a:lnTo>
                          <a:lnTo>
                            <a:pt x="722" y="1410"/>
                          </a:lnTo>
                          <a:lnTo>
                            <a:pt x="660" y="1493"/>
                          </a:lnTo>
                          <a:lnTo>
                            <a:pt x="617" y="1513"/>
                          </a:lnTo>
                          <a:lnTo>
                            <a:pt x="610" y="1563"/>
                          </a:lnTo>
                          <a:lnTo>
                            <a:pt x="567" y="1563"/>
                          </a:lnTo>
                          <a:lnTo>
                            <a:pt x="547" y="1578"/>
                          </a:lnTo>
                          <a:lnTo>
                            <a:pt x="505" y="1590"/>
                          </a:lnTo>
                          <a:lnTo>
                            <a:pt x="450" y="1583"/>
                          </a:lnTo>
                          <a:lnTo>
                            <a:pt x="407" y="1620"/>
                          </a:lnTo>
                          <a:lnTo>
                            <a:pt x="357" y="1648"/>
                          </a:lnTo>
                          <a:lnTo>
                            <a:pt x="310" y="1663"/>
                          </a:lnTo>
                          <a:lnTo>
                            <a:pt x="272" y="1690"/>
                          </a:lnTo>
                          <a:lnTo>
                            <a:pt x="232" y="171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500520" y="708480"/>
                    <a:ext cx="494640" cy="822240"/>
                    <a:chOff x="6500520" y="708480"/>
                    <a:chExt cx="494640" cy="8222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779880" y="708480"/>
                      <a:ext cx="367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2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20" y="42"/>
                          </a:lnTo>
                          <a:lnTo>
                            <a:pt x="40" y="32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833520" y="856440"/>
                      <a:ext cx="3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5">
                          <a:moveTo>
                            <a:pt x="40" y="0"/>
                          </a:moveTo>
                          <a:lnTo>
                            <a:pt x="0" y="18"/>
                          </a:lnTo>
                          <a:lnTo>
                            <a:pt x="0" y="85"/>
                          </a:lnTo>
                          <a:lnTo>
                            <a:pt x="20" y="53"/>
                          </a:lnTo>
                          <a:lnTo>
                            <a:pt x="30" y="18"/>
                          </a:lnTo>
                          <a:lnTo>
                            <a:pt x="12" y="1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879960" y="972360"/>
                      <a:ext cx="370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0">
                          <a:moveTo>
                            <a:pt x="7" y="0"/>
                          </a:moveTo>
                          <a:lnTo>
                            <a:pt x="0" y="15"/>
                          </a:lnTo>
                          <a:lnTo>
                            <a:pt x="12" y="50"/>
                          </a:lnTo>
                          <a:lnTo>
                            <a:pt x="32" y="40"/>
                          </a:lnTo>
                          <a:lnTo>
                            <a:pt x="40" y="2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96720" y="964800"/>
                      <a:ext cx="720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75">
                          <a:moveTo>
                            <a:pt x="78" y="33"/>
                          </a:moveTo>
                          <a:lnTo>
                            <a:pt x="60" y="33"/>
                          </a:lnTo>
                          <a:lnTo>
                            <a:pt x="38" y="0"/>
                          </a:lnTo>
                          <a:lnTo>
                            <a:pt x="23" y="23"/>
                          </a:lnTo>
                          <a:lnTo>
                            <a:pt x="3" y="15"/>
                          </a:lnTo>
                          <a:lnTo>
                            <a:pt x="0" y="33"/>
                          </a:lnTo>
                          <a:lnTo>
                            <a:pt x="10" y="48"/>
                          </a:lnTo>
                          <a:lnTo>
                            <a:pt x="10" y="63"/>
                          </a:lnTo>
                          <a:lnTo>
                            <a:pt x="23" y="75"/>
                          </a:lnTo>
                          <a:lnTo>
                            <a:pt x="38" y="63"/>
                          </a:lnTo>
                          <a:lnTo>
                            <a:pt x="65" y="70"/>
                          </a:lnTo>
                          <a:lnTo>
                            <a:pt x="78" y="3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861240" y="1139400"/>
                      <a:ext cx="1015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75">
                          <a:moveTo>
                            <a:pt x="15" y="0"/>
                          </a:moveTo>
                          <a:lnTo>
                            <a:pt x="0" y="8"/>
                          </a:lnTo>
                          <a:lnTo>
                            <a:pt x="40" y="45"/>
                          </a:lnTo>
                          <a:lnTo>
                            <a:pt x="55" y="45"/>
                          </a:lnTo>
                          <a:lnTo>
                            <a:pt x="97" y="75"/>
                          </a:lnTo>
                          <a:lnTo>
                            <a:pt x="110" y="63"/>
                          </a:lnTo>
                          <a:lnTo>
                            <a:pt x="100" y="30"/>
                          </a:lnTo>
                          <a:lnTo>
                            <a:pt x="97" y="13"/>
                          </a:lnTo>
                          <a:lnTo>
                            <a:pt x="65" y="13"/>
                          </a:lnTo>
                          <a:lnTo>
                            <a:pt x="40" y="0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48480" y="1181520"/>
                      <a:ext cx="6444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13">
                          <a:moveTo>
                            <a:pt x="62" y="0"/>
                          </a:moveTo>
                          <a:lnTo>
                            <a:pt x="70" y="20"/>
                          </a:lnTo>
                          <a:lnTo>
                            <a:pt x="35" y="75"/>
                          </a:lnTo>
                          <a:lnTo>
                            <a:pt x="37" y="90"/>
                          </a:lnTo>
                          <a:lnTo>
                            <a:pt x="17" y="113"/>
                          </a:lnTo>
                          <a:lnTo>
                            <a:pt x="0" y="95"/>
                          </a:lnTo>
                          <a:lnTo>
                            <a:pt x="7" y="80"/>
                          </a:lnTo>
                          <a:lnTo>
                            <a:pt x="12" y="45"/>
                          </a:lnTo>
                          <a:lnTo>
                            <a:pt x="27" y="25"/>
                          </a:lnTo>
                          <a:lnTo>
                            <a:pt x="7" y="8"/>
                          </a:lnTo>
                          <a:lnTo>
                            <a:pt x="20" y="0"/>
                          </a:lnTo>
                          <a:lnTo>
                            <a:pt x="42" y="1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80880" y="1247760"/>
                      <a:ext cx="554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5">
                          <a:moveTo>
                            <a:pt x="52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40" y="13"/>
                          </a:lnTo>
                          <a:lnTo>
                            <a:pt x="40" y="20"/>
                          </a:lnTo>
                          <a:lnTo>
                            <a:pt x="27" y="40"/>
                          </a:lnTo>
                          <a:lnTo>
                            <a:pt x="10" y="58"/>
                          </a:lnTo>
                          <a:lnTo>
                            <a:pt x="15" y="70"/>
                          </a:lnTo>
                          <a:lnTo>
                            <a:pt x="0" y="90"/>
                          </a:lnTo>
                          <a:lnTo>
                            <a:pt x="15" y="105"/>
                          </a:lnTo>
                          <a:lnTo>
                            <a:pt x="52" y="50"/>
                          </a:lnTo>
                          <a:lnTo>
                            <a:pt x="52" y="35"/>
                          </a:lnTo>
                          <a:lnTo>
                            <a:pt x="60" y="20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500520" y="1370160"/>
                      <a:ext cx="7848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48">
                          <a:moveTo>
                            <a:pt x="55" y="3"/>
                          </a:moveTo>
                          <a:lnTo>
                            <a:pt x="47" y="8"/>
                          </a:lnTo>
                          <a:lnTo>
                            <a:pt x="32" y="0"/>
                          </a:lnTo>
                          <a:lnTo>
                            <a:pt x="7" y="3"/>
                          </a:lnTo>
                          <a:lnTo>
                            <a:pt x="7" y="38"/>
                          </a:lnTo>
                          <a:lnTo>
                            <a:pt x="22" y="40"/>
                          </a:lnTo>
                          <a:lnTo>
                            <a:pt x="22" y="28"/>
                          </a:lnTo>
                          <a:lnTo>
                            <a:pt x="45" y="53"/>
                          </a:lnTo>
                          <a:lnTo>
                            <a:pt x="37" y="73"/>
                          </a:lnTo>
                          <a:lnTo>
                            <a:pt x="20" y="85"/>
                          </a:lnTo>
                          <a:lnTo>
                            <a:pt x="12" y="118"/>
                          </a:lnTo>
                          <a:lnTo>
                            <a:pt x="0" y="133"/>
                          </a:lnTo>
                          <a:lnTo>
                            <a:pt x="17" y="148"/>
                          </a:lnTo>
                          <a:lnTo>
                            <a:pt x="60" y="120"/>
                          </a:lnTo>
                          <a:lnTo>
                            <a:pt x="45" y="100"/>
                          </a:lnTo>
                          <a:lnTo>
                            <a:pt x="55" y="65"/>
                          </a:lnTo>
                          <a:lnTo>
                            <a:pt x="80" y="48"/>
                          </a:lnTo>
                          <a:lnTo>
                            <a:pt x="85" y="23"/>
                          </a:lnTo>
                          <a:lnTo>
                            <a:pt x="55" y="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546600" y="1445760"/>
                      <a:ext cx="47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0">
                          <a:moveTo>
                            <a:pt x="32" y="0"/>
                          </a:moveTo>
                          <a:lnTo>
                            <a:pt x="52" y="23"/>
                          </a:lnTo>
                          <a:lnTo>
                            <a:pt x="40" y="45"/>
                          </a:lnTo>
                          <a:lnTo>
                            <a:pt x="37" y="65"/>
                          </a:lnTo>
                          <a:lnTo>
                            <a:pt x="12" y="90"/>
                          </a:lnTo>
                          <a:lnTo>
                            <a:pt x="0" y="73"/>
                          </a:lnTo>
                          <a:lnTo>
                            <a:pt x="12" y="40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631560" y="1370160"/>
                      <a:ext cx="489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33">
                          <a:moveTo>
                            <a:pt x="23" y="0"/>
                          </a:moveTo>
                          <a:lnTo>
                            <a:pt x="48" y="23"/>
                          </a:lnTo>
                          <a:lnTo>
                            <a:pt x="45" y="40"/>
                          </a:lnTo>
                          <a:lnTo>
                            <a:pt x="35" y="55"/>
                          </a:lnTo>
                          <a:lnTo>
                            <a:pt x="48" y="90"/>
                          </a:lnTo>
                          <a:lnTo>
                            <a:pt x="53" y="108"/>
                          </a:lnTo>
                          <a:lnTo>
                            <a:pt x="38" y="128"/>
                          </a:lnTo>
                          <a:lnTo>
                            <a:pt x="15" y="133"/>
                          </a:lnTo>
                          <a:lnTo>
                            <a:pt x="0" y="103"/>
                          </a:lnTo>
                          <a:lnTo>
                            <a:pt x="10" y="78"/>
                          </a:lnTo>
                          <a:lnTo>
                            <a:pt x="23" y="55"/>
                          </a:lnTo>
                          <a:lnTo>
                            <a:pt x="23" y="28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728760" y="1175040"/>
                      <a:ext cx="26640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77">
                          <a:moveTo>
                            <a:pt x="83" y="5"/>
                          </a:moveTo>
                          <a:lnTo>
                            <a:pt x="53" y="35"/>
                          </a:lnTo>
                          <a:lnTo>
                            <a:pt x="38" y="12"/>
                          </a:lnTo>
                          <a:lnTo>
                            <a:pt x="35" y="0"/>
                          </a:lnTo>
                          <a:lnTo>
                            <a:pt x="10" y="5"/>
                          </a:lnTo>
                          <a:lnTo>
                            <a:pt x="0" y="27"/>
                          </a:lnTo>
                          <a:lnTo>
                            <a:pt x="20" y="57"/>
                          </a:lnTo>
                          <a:lnTo>
                            <a:pt x="25" y="95"/>
                          </a:lnTo>
                          <a:lnTo>
                            <a:pt x="53" y="140"/>
                          </a:lnTo>
                          <a:lnTo>
                            <a:pt x="78" y="160"/>
                          </a:lnTo>
                          <a:lnTo>
                            <a:pt x="73" y="175"/>
                          </a:lnTo>
                          <a:lnTo>
                            <a:pt x="78" y="187"/>
                          </a:lnTo>
                          <a:lnTo>
                            <a:pt x="78" y="205"/>
                          </a:lnTo>
                          <a:lnTo>
                            <a:pt x="113" y="205"/>
                          </a:lnTo>
                          <a:lnTo>
                            <a:pt x="140" y="240"/>
                          </a:lnTo>
                          <a:lnTo>
                            <a:pt x="135" y="247"/>
                          </a:lnTo>
                          <a:lnTo>
                            <a:pt x="128" y="270"/>
                          </a:lnTo>
                          <a:lnTo>
                            <a:pt x="108" y="270"/>
                          </a:lnTo>
                          <a:lnTo>
                            <a:pt x="83" y="265"/>
                          </a:lnTo>
                          <a:lnTo>
                            <a:pt x="65" y="277"/>
                          </a:lnTo>
                          <a:lnTo>
                            <a:pt x="73" y="307"/>
                          </a:lnTo>
                          <a:lnTo>
                            <a:pt x="90" y="345"/>
                          </a:lnTo>
                          <a:lnTo>
                            <a:pt x="135" y="377"/>
                          </a:lnTo>
                          <a:lnTo>
                            <a:pt x="175" y="347"/>
                          </a:lnTo>
                          <a:lnTo>
                            <a:pt x="173" y="320"/>
                          </a:lnTo>
                          <a:lnTo>
                            <a:pt x="168" y="300"/>
                          </a:lnTo>
                          <a:lnTo>
                            <a:pt x="173" y="275"/>
                          </a:lnTo>
                          <a:lnTo>
                            <a:pt x="190" y="277"/>
                          </a:lnTo>
                          <a:lnTo>
                            <a:pt x="205" y="257"/>
                          </a:lnTo>
                          <a:lnTo>
                            <a:pt x="225" y="255"/>
                          </a:lnTo>
                          <a:lnTo>
                            <a:pt x="245" y="225"/>
                          </a:lnTo>
                          <a:lnTo>
                            <a:pt x="218" y="200"/>
                          </a:lnTo>
                          <a:lnTo>
                            <a:pt x="198" y="220"/>
                          </a:lnTo>
                          <a:lnTo>
                            <a:pt x="190" y="225"/>
                          </a:lnTo>
                          <a:lnTo>
                            <a:pt x="168" y="200"/>
                          </a:lnTo>
                          <a:lnTo>
                            <a:pt x="183" y="182"/>
                          </a:lnTo>
                          <a:lnTo>
                            <a:pt x="198" y="200"/>
                          </a:lnTo>
                          <a:lnTo>
                            <a:pt x="213" y="175"/>
                          </a:lnTo>
                          <a:lnTo>
                            <a:pt x="238" y="175"/>
                          </a:lnTo>
                          <a:lnTo>
                            <a:pt x="250" y="205"/>
                          </a:lnTo>
                          <a:lnTo>
                            <a:pt x="270" y="212"/>
                          </a:lnTo>
                          <a:lnTo>
                            <a:pt x="288" y="192"/>
                          </a:lnTo>
                          <a:lnTo>
                            <a:pt x="245" y="147"/>
                          </a:lnTo>
                          <a:lnTo>
                            <a:pt x="253" y="130"/>
                          </a:lnTo>
                          <a:lnTo>
                            <a:pt x="238" y="127"/>
                          </a:lnTo>
                          <a:lnTo>
                            <a:pt x="253" y="95"/>
                          </a:lnTo>
                          <a:lnTo>
                            <a:pt x="230" y="97"/>
                          </a:lnTo>
                          <a:lnTo>
                            <a:pt x="185" y="115"/>
                          </a:lnTo>
                          <a:lnTo>
                            <a:pt x="185" y="152"/>
                          </a:lnTo>
                          <a:lnTo>
                            <a:pt x="168" y="145"/>
                          </a:lnTo>
                          <a:lnTo>
                            <a:pt x="153" y="157"/>
                          </a:lnTo>
                          <a:lnTo>
                            <a:pt x="115" y="152"/>
                          </a:lnTo>
                          <a:lnTo>
                            <a:pt x="108" y="127"/>
                          </a:lnTo>
                          <a:lnTo>
                            <a:pt x="98" y="97"/>
                          </a:lnTo>
                          <a:lnTo>
                            <a:pt x="123" y="120"/>
                          </a:lnTo>
                          <a:lnTo>
                            <a:pt x="153" y="105"/>
                          </a:lnTo>
                          <a:lnTo>
                            <a:pt x="155" y="97"/>
                          </a:lnTo>
                          <a:lnTo>
                            <a:pt x="153" y="77"/>
                          </a:lnTo>
                          <a:lnTo>
                            <a:pt x="120" y="57"/>
                          </a:lnTo>
                          <a:lnTo>
                            <a:pt x="103" y="52"/>
                          </a:lnTo>
                          <a:lnTo>
                            <a:pt x="108" y="32"/>
                          </a:lnTo>
                          <a:lnTo>
                            <a:pt x="108" y="12"/>
                          </a:lnTo>
                          <a:lnTo>
                            <a:pt x="8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692040" y="1363680"/>
                      <a:ext cx="860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92">
                          <a:moveTo>
                            <a:pt x="83" y="0"/>
                          </a:moveTo>
                          <a:lnTo>
                            <a:pt x="93" y="10"/>
                          </a:lnTo>
                          <a:lnTo>
                            <a:pt x="93" y="30"/>
                          </a:lnTo>
                          <a:lnTo>
                            <a:pt x="90" y="47"/>
                          </a:lnTo>
                          <a:lnTo>
                            <a:pt x="45" y="80"/>
                          </a:lnTo>
                          <a:lnTo>
                            <a:pt x="20" y="92"/>
                          </a:lnTo>
                          <a:lnTo>
                            <a:pt x="0" y="72"/>
                          </a:lnTo>
                          <a:lnTo>
                            <a:pt x="18" y="45"/>
                          </a:lnTo>
                          <a:lnTo>
                            <a:pt x="38" y="30"/>
                          </a:lnTo>
                          <a:lnTo>
                            <a:pt x="8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726000" y="2933640"/>
                  <a:ext cx="1333440" cy="1617480"/>
                  <a:chOff x="3726000" y="2933640"/>
                  <a:chExt cx="1333440" cy="16174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41720" y="4334400"/>
                    <a:ext cx="11736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30">
                        <a:moveTo>
                          <a:pt x="127" y="0"/>
                        </a:moveTo>
                        <a:lnTo>
                          <a:pt x="85" y="47"/>
                        </a:lnTo>
                        <a:lnTo>
                          <a:pt x="37" y="47"/>
                        </a:lnTo>
                        <a:lnTo>
                          <a:pt x="0" y="77"/>
                        </a:lnTo>
                        <a:lnTo>
                          <a:pt x="7" y="117"/>
                        </a:lnTo>
                        <a:lnTo>
                          <a:pt x="7" y="180"/>
                        </a:lnTo>
                        <a:lnTo>
                          <a:pt x="37" y="230"/>
                        </a:lnTo>
                        <a:lnTo>
                          <a:pt x="70" y="217"/>
                        </a:lnTo>
                        <a:lnTo>
                          <a:pt x="77" y="187"/>
                        </a:lnTo>
                        <a:lnTo>
                          <a:pt x="115" y="125"/>
                        </a:lnTo>
                        <a:lnTo>
                          <a:pt x="115" y="9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26000" y="2933640"/>
                    <a:ext cx="1333440" cy="13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0" h="1412">
                        <a:moveTo>
                          <a:pt x="25" y="200"/>
                        </a:moveTo>
                        <a:lnTo>
                          <a:pt x="38" y="235"/>
                        </a:lnTo>
                        <a:lnTo>
                          <a:pt x="25" y="262"/>
                        </a:lnTo>
                        <a:lnTo>
                          <a:pt x="20" y="272"/>
                        </a:lnTo>
                        <a:lnTo>
                          <a:pt x="0" y="265"/>
                        </a:lnTo>
                        <a:lnTo>
                          <a:pt x="8" y="282"/>
                        </a:lnTo>
                        <a:lnTo>
                          <a:pt x="8" y="300"/>
                        </a:lnTo>
                        <a:lnTo>
                          <a:pt x="25" y="327"/>
                        </a:lnTo>
                        <a:lnTo>
                          <a:pt x="58" y="320"/>
                        </a:lnTo>
                        <a:lnTo>
                          <a:pt x="98" y="365"/>
                        </a:lnTo>
                        <a:lnTo>
                          <a:pt x="115" y="395"/>
                        </a:lnTo>
                        <a:lnTo>
                          <a:pt x="140" y="417"/>
                        </a:lnTo>
                        <a:lnTo>
                          <a:pt x="173" y="417"/>
                        </a:lnTo>
                        <a:lnTo>
                          <a:pt x="185" y="445"/>
                        </a:lnTo>
                        <a:lnTo>
                          <a:pt x="213" y="470"/>
                        </a:lnTo>
                        <a:lnTo>
                          <a:pt x="230" y="472"/>
                        </a:lnTo>
                        <a:lnTo>
                          <a:pt x="235" y="485"/>
                        </a:lnTo>
                        <a:lnTo>
                          <a:pt x="225" y="507"/>
                        </a:lnTo>
                        <a:lnTo>
                          <a:pt x="225" y="527"/>
                        </a:lnTo>
                        <a:lnTo>
                          <a:pt x="220" y="547"/>
                        </a:lnTo>
                        <a:lnTo>
                          <a:pt x="213" y="585"/>
                        </a:lnTo>
                        <a:lnTo>
                          <a:pt x="243" y="617"/>
                        </a:lnTo>
                        <a:lnTo>
                          <a:pt x="275" y="642"/>
                        </a:lnTo>
                        <a:lnTo>
                          <a:pt x="275" y="660"/>
                        </a:lnTo>
                        <a:lnTo>
                          <a:pt x="270" y="720"/>
                        </a:lnTo>
                        <a:lnTo>
                          <a:pt x="263" y="770"/>
                        </a:lnTo>
                        <a:lnTo>
                          <a:pt x="270" y="790"/>
                        </a:lnTo>
                        <a:lnTo>
                          <a:pt x="298" y="812"/>
                        </a:lnTo>
                        <a:lnTo>
                          <a:pt x="298" y="852"/>
                        </a:lnTo>
                        <a:lnTo>
                          <a:pt x="298" y="882"/>
                        </a:lnTo>
                        <a:lnTo>
                          <a:pt x="268" y="840"/>
                        </a:lnTo>
                        <a:lnTo>
                          <a:pt x="250" y="812"/>
                        </a:lnTo>
                        <a:lnTo>
                          <a:pt x="238" y="820"/>
                        </a:lnTo>
                        <a:lnTo>
                          <a:pt x="245" y="840"/>
                        </a:lnTo>
                        <a:lnTo>
                          <a:pt x="235" y="865"/>
                        </a:lnTo>
                        <a:lnTo>
                          <a:pt x="218" y="890"/>
                        </a:lnTo>
                        <a:lnTo>
                          <a:pt x="205" y="907"/>
                        </a:lnTo>
                        <a:lnTo>
                          <a:pt x="220" y="922"/>
                        </a:lnTo>
                        <a:lnTo>
                          <a:pt x="210" y="942"/>
                        </a:lnTo>
                        <a:lnTo>
                          <a:pt x="185" y="967"/>
                        </a:lnTo>
                        <a:lnTo>
                          <a:pt x="183" y="987"/>
                        </a:lnTo>
                        <a:lnTo>
                          <a:pt x="168" y="1012"/>
                        </a:lnTo>
                        <a:lnTo>
                          <a:pt x="130" y="1057"/>
                        </a:lnTo>
                        <a:lnTo>
                          <a:pt x="108" y="1102"/>
                        </a:lnTo>
                        <a:lnTo>
                          <a:pt x="108" y="1110"/>
                        </a:lnTo>
                        <a:lnTo>
                          <a:pt x="120" y="1125"/>
                        </a:lnTo>
                        <a:lnTo>
                          <a:pt x="105" y="1145"/>
                        </a:lnTo>
                        <a:lnTo>
                          <a:pt x="110" y="1170"/>
                        </a:lnTo>
                        <a:lnTo>
                          <a:pt x="133" y="1202"/>
                        </a:lnTo>
                        <a:lnTo>
                          <a:pt x="220" y="1250"/>
                        </a:lnTo>
                        <a:lnTo>
                          <a:pt x="283" y="1305"/>
                        </a:lnTo>
                        <a:lnTo>
                          <a:pt x="305" y="1297"/>
                        </a:lnTo>
                        <a:lnTo>
                          <a:pt x="338" y="1285"/>
                        </a:lnTo>
                        <a:lnTo>
                          <a:pt x="445" y="1330"/>
                        </a:lnTo>
                        <a:lnTo>
                          <a:pt x="460" y="1345"/>
                        </a:lnTo>
                        <a:lnTo>
                          <a:pt x="470" y="1375"/>
                        </a:lnTo>
                        <a:lnTo>
                          <a:pt x="488" y="1385"/>
                        </a:lnTo>
                        <a:lnTo>
                          <a:pt x="513" y="1387"/>
                        </a:lnTo>
                        <a:lnTo>
                          <a:pt x="550" y="1407"/>
                        </a:lnTo>
                        <a:lnTo>
                          <a:pt x="613" y="1412"/>
                        </a:lnTo>
                        <a:lnTo>
                          <a:pt x="633" y="1387"/>
                        </a:lnTo>
                        <a:lnTo>
                          <a:pt x="638" y="1360"/>
                        </a:lnTo>
                        <a:lnTo>
                          <a:pt x="638" y="1330"/>
                        </a:lnTo>
                        <a:lnTo>
                          <a:pt x="665" y="1305"/>
                        </a:lnTo>
                        <a:lnTo>
                          <a:pt x="720" y="1275"/>
                        </a:lnTo>
                        <a:lnTo>
                          <a:pt x="743" y="1272"/>
                        </a:lnTo>
                        <a:lnTo>
                          <a:pt x="773" y="1257"/>
                        </a:lnTo>
                        <a:lnTo>
                          <a:pt x="798" y="1257"/>
                        </a:lnTo>
                        <a:lnTo>
                          <a:pt x="825" y="1275"/>
                        </a:lnTo>
                        <a:lnTo>
                          <a:pt x="845" y="1300"/>
                        </a:lnTo>
                        <a:lnTo>
                          <a:pt x="870" y="1300"/>
                        </a:lnTo>
                        <a:lnTo>
                          <a:pt x="893" y="1305"/>
                        </a:lnTo>
                        <a:lnTo>
                          <a:pt x="933" y="1310"/>
                        </a:lnTo>
                        <a:lnTo>
                          <a:pt x="963" y="1345"/>
                        </a:lnTo>
                        <a:lnTo>
                          <a:pt x="985" y="1362"/>
                        </a:lnTo>
                        <a:lnTo>
                          <a:pt x="1023" y="1375"/>
                        </a:lnTo>
                        <a:lnTo>
                          <a:pt x="1053" y="1392"/>
                        </a:lnTo>
                        <a:lnTo>
                          <a:pt x="1070" y="1395"/>
                        </a:lnTo>
                        <a:lnTo>
                          <a:pt x="1110" y="1352"/>
                        </a:lnTo>
                        <a:lnTo>
                          <a:pt x="1140" y="1345"/>
                        </a:lnTo>
                        <a:lnTo>
                          <a:pt x="1160" y="1330"/>
                        </a:lnTo>
                        <a:lnTo>
                          <a:pt x="1190" y="1305"/>
                        </a:lnTo>
                        <a:lnTo>
                          <a:pt x="1230" y="1305"/>
                        </a:lnTo>
                        <a:lnTo>
                          <a:pt x="1228" y="1255"/>
                        </a:lnTo>
                        <a:lnTo>
                          <a:pt x="1220" y="1240"/>
                        </a:lnTo>
                        <a:lnTo>
                          <a:pt x="1203" y="1215"/>
                        </a:lnTo>
                        <a:lnTo>
                          <a:pt x="1188" y="1220"/>
                        </a:lnTo>
                        <a:lnTo>
                          <a:pt x="1173" y="1215"/>
                        </a:lnTo>
                        <a:lnTo>
                          <a:pt x="1160" y="1195"/>
                        </a:lnTo>
                        <a:lnTo>
                          <a:pt x="1158" y="1145"/>
                        </a:lnTo>
                        <a:lnTo>
                          <a:pt x="1185" y="1112"/>
                        </a:lnTo>
                        <a:lnTo>
                          <a:pt x="1165" y="1087"/>
                        </a:lnTo>
                        <a:lnTo>
                          <a:pt x="1165" y="1075"/>
                        </a:lnTo>
                        <a:lnTo>
                          <a:pt x="1205" y="1032"/>
                        </a:lnTo>
                        <a:lnTo>
                          <a:pt x="1205" y="1017"/>
                        </a:lnTo>
                        <a:lnTo>
                          <a:pt x="1198" y="967"/>
                        </a:lnTo>
                        <a:lnTo>
                          <a:pt x="1223" y="942"/>
                        </a:lnTo>
                        <a:lnTo>
                          <a:pt x="1203" y="915"/>
                        </a:lnTo>
                        <a:lnTo>
                          <a:pt x="1203" y="892"/>
                        </a:lnTo>
                        <a:lnTo>
                          <a:pt x="1198" y="857"/>
                        </a:lnTo>
                        <a:lnTo>
                          <a:pt x="1188" y="847"/>
                        </a:lnTo>
                        <a:lnTo>
                          <a:pt x="1165" y="847"/>
                        </a:lnTo>
                        <a:lnTo>
                          <a:pt x="1140" y="852"/>
                        </a:lnTo>
                        <a:lnTo>
                          <a:pt x="1135" y="860"/>
                        </a:lnTo>
                        <a:lnTo>
                          <a:pt x="1120" y="875"/>
                        </a:lnTo>
                        <a:lnTo>
                          <a:pt x="1100" y="882"/>
                        </a:lnTo>
                        <a:lnTo>
                          <a:pt x="1093" y="860"/>
                        </a:lnTo>
                        <a:lnTo>
                          <a:pt x="1108" y="845"/>
                        </a:lnTo>
                        <a:lnTo>
                          <a:pt x="1115" y="830"/>
                        </a:lnTo>
                        <a:lnTo>
                          <a:pt x="1115" y="812"/>
                        </a:lnTo>
                        <a:lnTo>
                          <a:pt x="1153" y="775"/>
                        </a:lnTo>
                        <a:lnTo>
                          <a:pt x="1173" y="767"/>
                        </a:lnTo>
                        <a:lnTo>
                          <a:pt x="1178" y="737"/>
                        </a:lnTo>
                        <a:lnTo>
                          <a:pt x="1198" y="712"/>
                        </a:lnTo>
                        <a:lnTo>
                          <a:pt x="1258" y="667"/>
                        </a:lnTo>
                        <a:lnTo>
                          <a:pt x="1275" y="667"/>
                        </a:lnTo>
                        <a:lnTo>
                          <a:pt x="1283" y="650"/>
                        </a:lnTo>
                        <a:lnTo>
                          <a:pt x="1305" y="630"/>
                        </a:lnTo>
                        <a:lnTo>
                          <a:pt x="1320" y="630"/>
                        </a:lnTo>
                        <a:lnTo>
                          <a:pt x="1328" y="617"/>
                        </a:lnTo>
                        <a:lnTo>
                          <a:pt x="1338" y="610"/>
                        </a:lnTo>
                        <a:lnTo>
                          <a:pt x="1353" y="587"/>
                        </a:lnTo>
                        <a:lnTo>
                          <a:pt x="1368" y="547"/>
                        </a:lnTo>
                        <a:lnTo>
                          <a:pt x="1370" y="525"/>
                        </a:lnTo>
                        <a:lnTo>
                          <a:pt x="1370" y="502"/>
                        </a:lnTo>
                        <a:lnTo>
                          <a:pt x="1390" y="477"/>
                        </a:lnTo>
                        <a:lnTo>
                          <a:pt x="1423" y="460"/>
                        </a:lnTo>
                        <a:lnTo>
                          <a:pt x="1440" y="442"/>
                        </a:lnTo>
                        <a:lnTo>
                          <a:pt x="1440" y="435"/>
                        </a:lnTo>
                        <a:lnTo>
                          <a:pt x="1413" y="415"/>
                        </a:lnTo>
                        <a:lnTo>
                          <a:pt x="1398" y="407"/>
                        </a:lnTo>
                        <a:lnTo>
                          <a:pt x="1358" y="402"/>
                        </a:lnTo>
                        <a:lnTo>
                          <a:pt x="1310" y="395"/>
                        </a:lnTo>
                        <a:lnTo>
                          <a:pt x="1293" y="392"/>
                        </a:lnTo>
                        <a:lnTo>
                          <a:pt x="1275" y="385"/>
                        </a:lnTo>
                        <a:lnTo>
                          <a:pt x="1258" y="367"/>
                        </a:lnTo>
                        <a:lnTo>
                          <a:pt x="1243" y="340"/>
                        </a:lnTo>
                        <a:lnTo>
                          <a:pt x="1230" y="322"/>
                        </a:lnTo>
                        <a:lnTo>
                          <a:pt x="1213" y="315"/>
                        </a:lnTo>
                        <a:lnTo>
                          <a:pt x="1190" y="307"/>
                        </a:lnTo>
                        <a:lnTo>
                          <a:pt x="1180" y="305"/>
                        </a:lnTo>
                        <a:lnTo>
                          <a:pt x="1153" y="280"/>
                        </a:lnTo>
                        <a:lnTo>
                          <a:pt x="1118" y="250"/>
                        </a:lnTo>
                        <a:lnTo>
                          <a:pt x="1095" y="225"/>
                        </a:lnTo>
                        <a:lnTo>
                          <a:pt x="1073" y="217"/>
                        </a:lnTo>
                        <a:lnTo>
                          <a:pt x="1060" y="205"/>
                        </a:lnTo>
                        <a:lnTo>
                          <a:pt x="1048" y="180"/>
                        </a:lnTo>
                        <a:lnTo>
                          <a:pt x="1018" y="142"/>
                        </a:lnTo>
                        <a:lnTo>
                          <a:pt x="1010" y="117"/>
                        </a:lnTo>
                        <a:lnTo>
                          <a:pt x="985" y="95"/>
                        </a:lnTo>
                        <a:lnTo>
                          <a:pt x="975" y="72"/>
                        </a:lnTo>
                        <a:lnTo>
                          <a:pt x="963" y="55"/>
                        </a:lnTo>
                        <a:lnTo>
                          <a:pt x="938" y="37"/>
                        </a:lnTo>
                        <a:lnTo>
                          <a:pt x="913" y="10"/>
                        </a:lnTo>
                        <a:lnTo>
                          <a:pt x="893" y="0"/>
                        </a:lnTo>
                        <a:lnTo>
                          <a:pt x="838" y="2"/>
                        </a:lnTo>
                        <a:lnTo>
                          <a:pt x="818" y="2"/>
                        </a:lnTo>
                        <a:lnTo>
                          <a:pt x="790" y="22"/>
                        </a:lnTo>
                        <a:lnTo>
                          <a:pt x="805" y="40"/>
                        </a:lnTo>
                        <a:lnTo>
                          <a:pt x="785" y="65"/>
                        </a:lnTo>
                        <a:lnTo>
                          <a:pt x="733" y="132"/>
                        </a:lnTo>
                        <a:lnTo>
                          <a:pt x="705" y="147"/>
                        </a:lnTo>
                        <a:lnTo>
                          <a:pt x="633" y="155"/>
                        </a:lnTo>
                        <a:lnTo>
                          <a:pt x="600" y="165"/>
                        </a:lnTo>
                        <a:lnTo>
                          <a:pt x="583" y="180"/>
                        </a:lnTo>
                        <a:lnTo>
                          <a:pt x="575" y="195"/>
                        </a:lnTo>
                        <a:lnTo>
                          <a:pt x="548" y="187"/>
                        </a:lnTo>
                        <a:lnTo>
                          <a:pt x="503" y="195"/>
                        </a:lnTo>
                        <a:lnTo>
                          <a:pt x="473" y="192"/>
                        </a:lnTo>
                        <a:lnTo>
                          <a:pt x="448" y="175"/>
                        </a:lnTo>
                        <a:lnTo>
                          <a:pt x="430" y="155"/>
                        </a:lnTo>
                        <a:lnTo>
                          <a:pt x="415" y="147"/>
                        </a:lnTo>
                        <a:lnTo>
                          <a:pt x="428" y="130"/>
                        </a:lnTo>
                        <a:lnTo>
                          <a:pt x="408" y="110"/>
                        </a:lnTo>
                        <a:lnTo>
                          <a:pt x="390" y="107"/>
                        </a:lnTo>
                        <a:lnTo>
                          <a:pt x="375" y="105"/>
                        </a:lnTo>
                        <a:lnTo>
                          <a:pt x="373" y="110"/>
                        </a:lnTo>
                        <a:lnTo>
                          <a:pt x="385" y="125"/>
                        </a:lnTo>
                        <a:lnTo>
                          <a:pt x="378" y="135"/>
                        </a:lnTo>
                        <a:lnTo>
                          <a:pt x="385" y="157"/>
                        </a:lnTo>
                        <a:lnTo>
                          <a:pt x="390" y="180"/>
                        </a:lnTo>
                        <a:lnTo>
                          <a:pt x="390" y="200"/>
                        </a:lnTo>
                        <a:lnTo>
                          <a:pt x="385" y="202"/>
                        </a:lnTo>
                        <a:lnTo>
                          <a:pt x="373" y="212"/>
                        </a:lnTo>
                        <a:lnTo>
                          <a:pt x="368" y="230"/>
                        </a:lnTo>
                        <a:lnTo>
                          <a:pt x="368" y="250"/>
                        </a:lnTo>
                        <a:lnTo>
                          <a:pt x="365" y="262"/>
                        </a:lnTo>
                        <a:lnTo>
                          <a:pt x="345" y="257"/>
                        </a:lnTo>
                        <a:lnTo>
                          <a:pt x="320" y="245"/>
                        </a:lnTo>
                        <a:lnTo>
                          <a:pt x="305" y="257"/>
                        </a:lnTo>
                        <a:lnTo>
                          <a:pt x="280" y="242"/>
                        </a:lnTo>
                        <a:lnTo>
                          <a:pt x="268" y="237"/>
                        </a:lnTo>
                        <a:lnTo>
                          <a:pt x="250" y="250"/>
                        </a:lnTo>
                        <a:lnTo>
                          <a:pt x="235" y="250"/>
                        </a:lnTo>
                        <a:lnTo>
                          <a:pt x="235" y="237"/>
                        </a:lnTo>
                        <a:lnTo>
                          <a:pt x="175" y="180"/>
                        </a:lnTo>
                        <a:lnTo>
                          <a:pt x="160" y="180"/>
                        </a:lnTo>
                        <a:lnTo>
                          <a:pt x="150" y="187"/>
                        </a:lnTo>
                        <a:lnTo>
                          <a:pt x="128" y="200"/>
                        </a:lnTo>
                        <a:lnTo>
                          <a:pt x="110" y="202"/>
                        </a:lnTo>
                        <a:lnTo>
                          <a:pt x="95" y="185"/>
                        </a:lnTo>
                        <a:lnTo>
                          <a:pt x="53" y="185"/>
                        </a:lnTo>
                        <a:lnTo>
                          <a:pt x="25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3746520" y="1577880"/>
                  <a:ext cx="790560" cy="1344240"/>
                  <a:chOff x="3746520" y="1577880"/>
                  <a:chExt cx="790560" cy="1344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3746520" y="1594800"/>
                    <a:ext cx="790560" cy="13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1410">
                        <a:moveTo>
                          <a:pt x="255" y="905"/>
                        </a:moveTo>
                        <a:lnTo>
                          <a:pt x="295" y="940"/>
                        </a:lnTo>
                        <a:lnTo>
                          <a:pt x="278" y="975"/>
                        </a:lnTo>
                        <a:lnTo>
                          <a:pt x="253" y="1002"/>
                        </a:lnTo>
                        <a:lnTo>
                          <a:pt x="213" y="1022"/>
                        </a:lnTo>
                        <a:lnTo>
                          <a:pt x="183" y="1040"/>
                        </a:lnTo>
                        <a:lnTo>
                          <a:pt x="150" y="1042"/>
                        </a:lnTo>
                        <a:lnTo>
                          <a:pt x="135" y="1057"/>
                        </a:lnTo>
                        <a:lnTo>
                          <a:pt x="158" y="1097"/>
                        </a:lnTo>
                        <a:lnTo>
                          <a:pt x="198" y="1097"/>
                        </a:lnTo>
                        <a:lnTo>
                          <a:pt x="213" y="1102"/>
                        </a:lnTo>
                        <a:lnTo>
                          <a:pt x="213" y="1130"/>
                        </a:lnTo>
                        <a:lnTo>
                          <a:pt x="235" y="1130"/>
                        </a:lnTo>
                        <a:lnTo>
                          <a:pt x="250" y="1122"/>
                        </a:lnTo>
                        <a:lnTo>
                          <a:pt x="260" y="1152"/>
                        </a:lnTo>
                        <a:lnTo>
                          <a:pt x="280" y="1175"/>
                        </a:lnTo>
                        <a:lnTo>
                          <a:pt x="315" y="1175"/>
                        </a:lnTo>
                        <a:lnTo>
                          <a:pt x="340" y="1167"/>
                        </a:lnTo>
                        <a:lnTo>
                          <a:pt x="363" y="1175"/>
                        </a:lnTo>
                        <a:lnTo>
                          <a:pt x="308" y="1222"/>
                        </a:lnTo>
                        <a:lnTo>
                          <a:pt x="288" y="1232"/>
                        </a:lnTo>
                        <a:lnTo>
                          <a:pt x="260" y="1222"/>
                        </a:lnTo>
                        <a:lnTo>
                          <a:pt x="198" y="1197"/>
                        </a:lnTo>
                        <a:lnTo>
                          <a:pt x="165" y="1197"/>
                        </a:lnTo>
                        <a:lnTo>
                          <a:pt x="135" y="1222"/>
                        </a:lnTo>
                        <a:lnTo>
                          <a:pt x="98" y="1252"/>
                        </a:lnTo>
                        <a:lnTo>
                          <a:pt x="78" y="1270"/>
                        </a:lnTo>
                        <a:lnTo>
                          <a:pt x="53" y="1277"/>
                        </a:lnTo>
                        <a:lnTo>
                          <a:pt x="25" y="1292"/>
                        </a:lnTo>
                        <a:lnTo>
                          <a:pt x="3" y="1307"/>
                        </a:lnTo>
                        <a:lnTo>
                          <a:pt x="0" y="1320"/>
                        </a:lnTo>
                        <a:lnTo>
                          <a:pt x="25" y="1322"/>
                        </a:lnTo>
                        <a:lnTo>
                          <a:pt x="43" y="1340"/>
                        </a:lnTo>
                        <a:lnTo>
                          <a:pt x="65" y="1352"/>
                        </a:lnTo>
                        <a:lnTo>
                          <a:pt x="90" y="1340"/>
                        </a:lnTo>
                        <a:lnTo>
                          <a:pt x="113" y="1330"/>
                        </a:lnTo>
                        <a:lnTo>
                          <a:pt x="135" y="1332"/>
                        </a:lnTo>
                        <a:lnTo>
                          <a:pt x="173" y="1355"/>
                        </a:lnTo>
                        <a:lnTo>
                          <a:pt x="208" y="1370"/>
                        </a:lnTo>
                        <a:lnTo>
                          <a:pt x="230" y="1355"/>
                        </a:lnTo>
                        <a:lnTo>
                          <a:pt x="243" y="1327"/>
                        </a:lnTo>
                        <a:lnTo>
                          <a:pt x="280" y="1305"/>
                        </a:lnTo>
                        <a:lnTo>
                          <a:pt x="305" y="1305"/>
                        </a:lnTo>
                        <a:lnTo>
                          <a:pt x="328" y="1330"/>
                        </a:lnTo>
                        <a:lnTo>
                          <a:pt x="345" y="1345"/>
                        </a:lnTo>
                        <a:lnTo>
                          <a:pt x="373" y="1345"/>
                        </a:lnTo>
                        <a:lnTo>
                          <a:pt x="410" y="1347"/>
                        </a:lnTo>
                        <a:lnTo>
                          <a:pt x="435" y="1357"/>
                        </a:lnTo>
                        <a:lnTo>
                          <a:pt x="460" y="1340"/>
                        </a:lnTo>
                        <a:lnTo>
                          <a:pt x="480" y="1340"/>
                        </a:lnTo>
                        <a:lnTo>
                          <a:pt x="503" y="1352"/>
                        </a:lnTo>
                        <a:lnTo>
                          <a:pt x="525" y="1377"/>
                        </a:lnTo>
                        <a:lnTo>
                          <a:pt x="558" y="1382"/>
                        </a:lnTo>
                        <a:lnTo>
                          <a:pt x="595" y="1390"/>
                        </a:lnTo>
                        <a:lnTo>
                          <a:pt x="620" y="1402"/>
                        </a:lnTo>
                        <a:lnTo>
                          <a:pt x="650" y="1410"/>
                        </a:lnTo>
                        <a:lnTo>
                          <a:pt x="673" y="1397"/>
                        </a:lnTo>
                        <a:lnTo>
                          <a:pt x="705" y="1377"/>
                        </a:lnTo>
                        <a:lnTo>
                          <a:pt x="728" y="1375"/>
                        </a:lnTo>
                        <a:lnTo>
                          <a:pt x="753" y="1370"/>
                        </a:lnTo>
                        <a:lnTo>
                          <a:pt x="775" y="1347"/>
                        </a:lnTo>
                        <a:lnTo>
                          <a:pt x="760" y="1327"/>
                        </a:lnTo>
                        <a:lnTo>
                          <a:pt x="720" y="1305"/>
                        </a:lnTo>
                        <a:lnTo>
                          <a:pt x="705" y="1292"/>
                        </a:lnTo>
                        <a:lnTo>
                          <a:pt x="705" y="1277"/>
                        </a:lnTo>
                        <a:lnTo>
                          <a:pt x="723" y="1262"/>
                        </a:lnTo>
                        <a:lnTo>
                          <a:pt x="753" y="1260"/>
                        </a:lnTo>
                        <a:lnTo>
                          <a:pt x="780" y="1245"/>
                        </a:lnTo>
                        <a:lnTo>
                          <a:pt x="825" y="1197"/>
                        </a:lnTo>
                        <a:lnTo>
                          <a:pt x="845" y="1172"/>
                        </a:lnTo>
                        <a:lnTo>
                          <a:pt x="853" y="1130"/>
                        </a:lnTo>
                        <a:lnTo>
                          <a:pt x="853" y="1105"/>
                        </a:lnTo>
                        <a:lnTo>
                          <a:pt x="833" y="1087"/>
                        </a:lnTo>
                        <a:lnTo>
                          <a:pt x="805" y="1067"/>
                        </a:lnTo>
                        <a:lnTo>
                          <a:pt x="780" y="1057"/>
                        </a:lnTo>
                        <a:lnTo>
                          <a:pt x="753" y="1060"/>
                        </a:lnTo>
                        <a:lnTo>
                          <a:pt x="735" y="1070"/>
                        </a:lnTo>
                        <a:lnTo>
                          <a:pt x="728" y="1052"/>
                        </a:lnTo>
                        <a:lnTo>
                          <a:pt x="743" y="1025"/>
                        </a:lnTo>
                        <a:lnTo>
                          <a:pt x="748" y="1002"/>
                        </a:lnTo>
                        <a:lnTo>
                          <a:pt x="745" y="965"/>
                        </a:lnTo>
                        <a:lnTo>
                          <a:pt x="743" y="912"/>
                        </a:lnTo>
                        <a:lnTo>
                          <a:pt x="753" y="870"/>
                        </a:lnTo>
                        <a:lnTo>
                          <a:pt x="745" y="847"/>
                        </a:lnTo>
                        <a:lnTo>
                          <a:pt x="728" y="815"/>
                        </a:lnTo>
                        <a:lnTo>
                          <a:pt x="685" y="742"/>
                        </a:lnTo>
                        <a:lnTo>
                          <a:pt x="668" y="707"/>
                        </a:lnTo>
                        <a:lnTo>
                          <a:pt x="660" y="667"/>
                        </a:lnTo>
                        <a:lnTo>
                          <a:pt x="658" y="642"/>
                        </a:lnTo>
                        <a:lnTo>
                          <a:pt x="668" y="600"/>
                        </a:lnTo>
                        <a:lnTo>
                          <a:pt x="668" y="567"/>
                        </a:lnTo>
                        <a:lnTo>
                          <a:pt x="660" y="532"/>
                        </a:lnTo>
                        <a:lnTo>
                          <a:pt x="643" y="515"/>
                        </a:lnTo>
                        <a:lnTo>
                          <a:pt x="610" y="482"/>
                        </a:lnTo>
                        <a:lnTo>
                          <a:pt x="588" y="472"/>
                        </a:lnTo>
                        <a:lnTo>
                          <a:pt x="563" y="470"/>
                        </a:lnTo>
                        <a:lnTo>
                          <a:pt x="545" y="465"/>
                        </a:lnTo>
                        <a:lnTo>
                          <a:pt x="545" y="447"/>
                        </a:lnTo>
                        <a:lnTo>
                          <a:pt x="555" y="435"/>
                        </a:lnTo>
                        <a:lnTo>
                          <a:pt x="583" y="432"/>
                        </a:lnTo>
                        <a:lnTo>
                          <a:pt x="608" y="440"/>
                        </a:lnTo>
                        <a:lnTo>
                          <a:pt x="625" y="445"/>
                        </a:lnTo>
                        <a:lnTo>
                          <a:pt x="635" y="427"/>
                        </a:lnTo>
                        <a:lnTo>
                          <a:pt x="633" y="407"/>
                        </a:lnTo>
                        <a:lnTo>
                          <a:pt x="735" y="312"/>
                        </a:lnTo>
                        <a:lnTo>
                          <a:pt x="753" y="290"/>
                        </a:lnTo>
                        <a:lnTo>
                          <a:pt x="753" y="247"/>
                        </a:lnTo>
                        <a:lnTo>
                          <a:pt x="728" y="227"/>
                        </a:lnTo>
                        <a:lnTo>
                          <a:pt x="698" y="222"/>
                        </a:lnTo>
                        <a:lnTo>
                          <a:pt x="673" y="185"/>
                        </a:lnTo>
                        <a:lnTo>
                          <a:pt x="625" y="185"/>
                        </a:lnTo>
                        <a:lnTo>
                          <a:pt x="625" y="185"/>
                        </a:lnTo>
                        <a:lnTo>
                          <a:pt x="580" y="192"/>
                        </a:lnTo>
                        <a:lnTo>
                          <a:pt x="570" y="190"/>
                        </a:lnTo>
                        <a:lnTo>
                          <a:pt x="558" y="172"/>
                        </a:lnTo>
                        <a:lnTo>
                          <a:pt x="580" y="157"/>
                        </a:lnTo>
                        <a:lnTo>
                          <a:pt x="600" y="135"/>
                        </a:lnTo>
                        <a:lnTo>
                          <a:pt x="643" y="97"/>
                        </a:lnTo>
                        <a:lnTo>
                          <a:pt x="678" y="95"/>
                        </a:lnTo>
                        <a:lnTo>
                          <a:pt x="710" y="70"/>
                        </a:lnTo>
                        <a:lnTo>
                          <a:pt x="743" y="45"/>
                        </a:lnTo>
                        <a:lnTo>
                          <a:pt x="670" y="27"/>
                        </a:lnTo>
                        <a:lnTo>
                          <a:pt x="640" y="25"/>
                        </a:lnTo>
                        <a:lnTo>
                          <a:pt x="603" y="20"/>
                        </a:lnTo>
                        <a:lnTo>
                          <a:pt x="563" y="0"/>
                        </a:lnTo>
                        <a:lnTo>
                          <a:pt x="525" y="40"/>
                        </a:lnTo>
                        <a:lnTo>
                          <a:pt x="525" y="62"/>
                        </a:lnTo>
                        <a:lnTo>
                          <a:pt x="505" y="70"/>
                        </a:lnTo>
                        <a:lnTo>
                          <a:pt x="470" y="90"/>
                        </a:lnTo>
                        <a:lnTo>
                          <a:pt x="440" y="102"/>
                        </a:lnTo>
                        <a:lnTo>
                          <a:pt x="440" y="132"/>
                        </a:lnTo>
                        <a:lnTo>
                          <a:pt x="435" y="157"/>
                        </a:lnTo>
                        <a:lnTo>
                          <a:pt x="408" y="197"/>
                        </a:lnTo>
                        <a:lnTo>
                          <a:pt x="363" y="245"/>
                        </a:lnTo>
                        <a:lnTo>
                          <a:pt x="345" y="270"/>
                        </a:lnTo>
                        <a:lnTo>
                          <a:pt x="353" y="287"/>
                        </a:lnTo>
                        <a:lnTo>
                          <a:pt x="400" y="282"/>
                        </a:lnTo>
                        <a:lnTo>
                          <a:pt x="403" y="292"/>
                        </a:lnTo>
                        <a:lnTo>
                          <a:pt x="403" y="312"/>
                        </a:lnTo>
                        <a:lnTo>
                          <a:pt x="340" y="392"/>
                        </a:lnTo>
                        <a:lnTo>
                          <a:pt x="320" y="435"/>
                        </a:lnTo>
                        <a:lnTo>
                          <a:pt x="305" y="472"/>
                        </a:lnTo>
                        <a:lnTo>
                          <a:pt x="320" y="490"/>
                        </a:lnTo>
                        <a:lnTo>
                          <a:pt x="348" y="455"/>
                        </a:lnTo>
                        <a:lnTo>
                          <a:pt x="378" y="415"/>
                        </a:lnTo>
                        <a:lnTo>
                          <a:pt x="398" y="427"/>
                        </a:lnTo>
                        <a:lnTo>
                          <a:pt x="400" y="487"/>
                        </a:lnTo>
                        <a:lnTo>
                          <a:pt x="403" y="525"/>
                        </a:lnTo>
                        <a:lnTo>
                          <a:pt x="365" y="547"/>
                        </a:lnTo>
                        <a:lnTo>
                          <a:pt x="340" y="572"/>
                        </a:lnTo>
                        <a:lnTo>
                          <a:pt x="333" y="592"/>
                        </a:lnTo>
                        <a:lnTo>
                          <a:pt x="383" y="635"/>
                        </a:lnTo>
                        <a:lnTo>
                          <a:pt x="425" y="627"/>
                        </a:lnTo>
                        <a:lnTo>
                          <a:pt x="435" y="650"/>
                        </a:lnTo>
                        <a:lnTo>
                          <a:pt x="480" y="622"/>
                        </a:lnTo>
                        <a:lnTo>
                          <a:pt x="478" y="645"/>
                        </a:lnTo>
                        <a:lnTo>
                          <a:pt x="440" y="690"/>
                        </a:lnTo>
                        <a:lnTo>
                          <a:pt x="455" y="740"/>
                        </a:lnTo>
                        <a:lnTo>
                          <a:pt x="460" y="767"/>
                        </a:lnTo>
                        <a:lnTo>
                          <a:pt x="500" y="770"/>
                        </a:lnTo>
                        <a:lnTo>
                          <a:pt x="503" y="795"/>
                        </a:lnTo>
                        <a:lnTo>
                          <a:pt x="455" y="850"/>
                        </a:lnTo>
                        <a:lnTo>
                          <a:pt x="440" y="842"/>
                        </a:lnTo>
                        <a:lnTo>
                          <a:pt x="423" y="860"/>
                        </a:lnTo>
                        <a:lnTo>
                          <a:pt x="418" y="887"/>
                        </a:lnTo>
                        <a:lnTo>
                          <a:pt x="373" y="862"/>
                        </a:lnTo>
                        <a:lnTo>
                          <a:pt x="255" y="90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032000" y="2237040"/>
                    <a:ext cx="648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37" y="0"/>
                        </a:moveTo>
                        <a:lnTo>
                          <a:pt x="67" y="5"/>
                        </a:lnTo>
                        <a:lnTo>
                          <a:pt x="70" y="23"/>
                        </a:lnTo>
                        <a:lnTo>
                          <a:pt x="37" y="45"/>
                        </a:lnTo>
                        <a:lnTo>
                          <a:pt x="5" y="53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987360" y="1926360"/>
                    <a:ext cx="64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0">
                        <a:moveTo>
                          <a:pt x="58" y="0"/>
                        </a:moveTo>
                        <a:lnTo>
                          <a:pt x="70" y="25"/>
                        </a:lnTo>
                        <a:lnTo>
                          <a:pt x="35" y="43"/>
                        </a:lnTo>
                        <a:lnTo>
                          <a:pt x="8" y="50"/>
                        </a:lnTo>
                        <a:lnTo>
                          <a:pt x="0" y="25"/>
                        </a:lnTo>
                        <a:lnTo>
                          <a:pt x="13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084560" y="1684440"/>
                    <a:ext cx="370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97">
                        <a:moveTo>
                          <a:pt x="15" y="97"/>
                        </a:moveTo>
                        <a:lnTo>
                          <a:pt x="40" y="72"/>
                        </a:lnTo>
                        <a:lnTo>
                          <a:pt x="30" y="40"/>
                        </a:lnTo>
                        <a:lnTo>
                          <a:pt x="23" y="25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8" y="45"/>
                        </a:lnTo>
                        <a:lnTo>
                          <a:pt x="15" y="9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23200" y="2046600"/>
                    <a:ext cx="1713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87">
                        <a:moveTo>
                          <a:pt x="65" y="0"/>
                        </a:moveTo>
                        <a:lnTo>
                          <a:pt x="107" y="0"/>
                        </a:lnTo>
                        <a:lnTo>
                          <a:pt x="137" y="7"/>
                        </a:lnTo>
                        <a:lnTo>
                          <a:pt x="160" y="37"/>
                        </a:lnTo>
                        <a:lnTo>
                          <a:pt x="180" y="85"/>
                        </a:lnTo>
                        <a:lnTo>
                          <a:pt x="185" y="127"/>
                        </a:lnTo>
                        <a:lnTo>
                          <a:pt x="162" y="147"/>
                        </a:lnTo>
                        <a:lnTo>
                          <a:pt x="155" y="177"/>
                        </a:lnTo>
                        <a:lnTo>
                          <a:pt x="135" y="187"/>
                        </a:lnTo>
                        <a:lnTo>
                          <a:pt x="115" y="162"/>
                        </a:lnTo>
                        <a:lnTo>
                          <a:pt x="95" y="115"/>
                        </a:lnTo>
                        <a:lnTo>
                          <a:pt x="82" y="100"/>
                        </a:lnTo>
                        <a:lnTo>
                          <a:pt x="45" y="95"/>
                        </a:lnTo>
                        <a:lnTo>
                          <a:pt x="0" y="47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73760" y="1577880"/>
                    <a:ext cx="878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0">
                        <a:moveTo>
                          <a:pt x="85" y="0"/>
                        </a:moveTo>
                        <a:lnTo>
                          <a:pt x="95" y="18"/>
                        </a:lnTo>
                        <a:lnTo>
                          <a:pt x="60" y="38"/>
                        </a:lnTo>
                        <a:lnTo>
                          <a:pt x="25" y="70"/>
                        </a:lnTo>
                        <a:lnTo>
                          <a:pt x="5" y="63"/>
                        </a:lnTo>
                        <a:lnTo>
                          <a:pt x="0" y="25"/>
                        </a:lnTo>
                        <a:lnTo>
                          <a:pt x="0" y="13"/>
                        </a:lnTo>
                        <a:lnTo>
                          <a:pt x="57" y="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551560" y="307800"/>
                  <a:ext cx="971640" cy="2122560"/>
                  <a:chOff x="5551560" y="307800"/>
                  <a:chExt cx="971640" cy="2122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551560" y="307800"/>
                    <a:ext cx="971640" cy="2122560"/>
                    <a:chOff x="5551560" y="307800"/>
                    <a:chExt cx="971640" cy="2122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937480" y="2144520"/>
                      <a:ext cx="6480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73">
                          <a:moveTo>
                            <a:pt x="70" y="0"/>
                          </a:moveTo>
                          <a:lnTo>
                            <a:pt x="68" y="58"/>
                          </a:lnTo>
                          <a:lnTo>
                            <a:pt x="48" y="103"/>
                          </a:lnTo>
                          <a:lnTo>
                            <a:pt x="15" y="133"/>
                          </a:lnTo>
                          <a:lnTo>
                            <a:pt x="23" y="163"/>
                          </a:lnTo>
                          <a:lnTo>
                            <a:pt x="8" y="173"/>
                          </a:lnTo>
                          <a:lnTo>
                            <a:pt x="0" y="135"/>
                          </a:lnTo>
                          <a:lnTo>
                            <a:pt x="13" y="108"/>
                          </a:lnTo>
                          <a:lnTo>
                            <a:pt x="23" y="75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83640" y="2067120"/>
                      <a:ext cx="87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37">
                          <a:moveTo>
                            <a:pt x="75" y="0"/>
                          </a:moveTo>
                          <a:lnTo>
                            <a:pt x="95" y="0"/>
                          </a:lnTo>
                          <a:lnTo>
                            <a:pt x="70" y="27"/>
                          </a:lnTo>
                          <a:lnTo>
                            <a:pt x="67" y="50"/>
                          </a:lnTo>
                          <a:lnTo>
                            <a:pt x="75" y="77"/>
                          </a:lnTo>
                          <a:lnTo>
                            <a:pt x="50" y="107"/>
                          </a:lnTo>
                          <a:lnTo>
                            <a:pt x="17" y="137"/>
                          </a:lnTo>
                          <a:lnTo>
                            <a:pt x="12" y="107"/>
                          </a:lnTo>
                          <a:lnTo>
                            <a:pt x="0" y="92"/>
                          </a:lnTo>
                          <a:lnTo>
                            <a:pt x="0" y="67"/>
                          </a:lnTo>
                          <a:lnTo>
                            <a:pt x="30" y="42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5551560" y="307800"/>
                      <a:ext cx="971640" cy="2122560"/>
                      <a:chOff x="5551560" y="307800"/>
                      <a:chExt cx="971640" cy="212256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  <a:lnTo>
                              <a:pt x="792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639400" y="1795680"/>
                    <a:ext cx="221760" cy="247680"/>
                    <a:chOff x="5639400" y="1795680"/>
                    <a:chExt cx="221760" cy="24768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5756760" y="1869120"/>
                      <a:ext cx="104400" cy="174240"/>
                      <a:chOff x="5756760" y="1869120"/>
                      <a:chExt cx="104400" cy="17424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639400" y="1795680"/>
                      <a:ext cx="13104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48">
                          <a:moveTo>
                            <a:pt x="112" y="0"/>
                          </a:moveTo>
                          <a:lnTo>
                            <a:pt x="95" y="20"/>
                          </a:lnTo>
                          <a:lnTo>
                            <a:pt x="65" y="18"/>
                          </a:lnTo>
                          <a:lnTo>
                            <a:pt x="50" y="13"/>
                          </a:lnTo>
                          <a:lnTo>
                            <a:pt x="57" y="38"/>
                          </a:lnTo>
                          <a:lnTo>
                            <a:pt x="60" y="58"/>
                          </a:lnTo>
                          <a:lnTo>
                            <a:pt x="62" y="70"/>
                          </a:lnTo>
                          <a:lnTo>
                            <a:pt x="52" y="73"/>
                          </a:lnTo>
                          <a:lnTo>
                            <a:pt x="35" y="65"/>
                          </a:lnTo>
                          <a:lnTo>
                            <a:pt x="35" y="58"/>
                          </a:lnTo>
                          <a:lnTo>
                            <a:pt x="20" y="58"/>
                          </a:lnTo>
                          <a:lnTo>
                            <a:pt x="25" y="73"/>
                          </a:lnTo>
                          <a:lnTo>
                            <a:pt x="17" y="90"/>
                          </a:lnTo>
                          <a:lnTo>
                            <a:pt x="0" y="115"/>
                          </a:lnTo>
                          <a:lnTo>
                            <a:pt x="7" y="135"/>
                          </a:lnTo>
                          <a:lnTo>
                            <a:pt x="25" y="148"/>
                          </a:lnTo>
                          <a:lnTo>
                            <a:pt x="42" y="135"/>
                          </a:lnTo>
                          <a:lnTo>
                            <a:pt x="62" y="123"/>
                          </a:lnTo>
                          <a:lnTo>
                            <a:pt x="102" y="113"/>
                          </a:lnTo>
                          <a:lnTo>
                            <a:pt x="120" y="115"/>
                          </a:lnTo>
                          <a:lnTo>
                            <a:pt x="112" y="90"/>
                          </a:lnTo>
                          <a:lnTo>
                            <a:pt x="127" y="78"/>
                          </a:lnTo>
                          <a:lnTo>
                            <a:pt x="142" y="53"/>
                          </a:lnTo>
                          <a:lnTo>
                            <a:pt x="135" y="38"/>
                          </a:lnTo>
                          <a:lnTo>
                            <a:pt x="122" y="2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40320" y="4703760"/>
                  <a:ext cx="625320" cy="878040"/>
                  <a:chOff x="6340320" y="4703760"/>
                  <a:chExt cx="625320" cy="878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340320" y="4703760"/>
                    <a:ext cx="6210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720">
                        <a:moveTo>
                          <a:pt x="650" y="0"/>
                        </a:moveTo>
                        <a:lnTo>
                          <a:pt x="635" y="20"/>
                        </a:lnTo>
                        <a:lnTo>
                          <a:pt x="620" y="42"/>
                        </a:lnTo>
                        <a:lnTo>
                          <a:pt x="590" y="60"/>
                        </a:lnTo>
                        <a:lnTo>
                          <a:pt x="563" y="62"/>
                        </a:lnTo>
                        <a:lnTo>
                          <a:pt x="540" y="50"/>
                        </a:lnTo>
                        <a:lnTo>
                          <a:pt x="535" y="42"/>
                        </a:lnTo>
                        <a:lnTo>
                          <a:pt x="508" y="32"/>
                        </a:lnTo>
                        <a:lnTo>
                          <a:pt x="493" y="30"/>
                        </a:lnTo>
                        <a:lnTo>
                          <a:pt x="465" y="20"/>
                        </a:lnTo>
                        <a:lnTo>
                          <a:pt x="440" y="7"/>
                        </a:lnTo>
                        <a:lnTo>
                          <a:pt x="433" y="7"/>
                        </a:lnTo>
                        <a:lnTo>
                          <a:pt x="413" y="20"/>
                        </a:lnTo>
                        <a:lnTo>
                          <a:pt x="388" y="25"/>
                        </a:lnTo>
                        <a:lnTo>
                          <a:pt x="368" y="32"/>
                        </a:lnTo>
                        <a:lnTo>
                          <a:pt x="353" y="45"/>
                        </a:lnTo>
                        <a:lnTo>
                          <a:pt x="330" y="45"/>
                        </a:lnTo>
                        <a:lnTo>
                          <a:pt x="305" y="52"/>
                        </a:lnTo>
                        <a:lnTo>
                          <a:pt x="285" y="55"/>
                        </a:lnTo>
                        <a:lnTo>
                          <a:pt x="268" y="60"/>
                        </a:lnTo>
                        <a:lnTo>
                          <a:pt x="270" y="65"/>
                        </a:lnTo>
                        <a:lnTo>
                          <a:pt x="245" y="75"/>
                        </a:lnTo>
                        <a:lnTo>
                          <a:pt x="223" y="75"/>
                        </a:lnTo>
                        <a:lnTo>
                          <a:pt x="183" y="85"/>
                        </a:lnTo>
                        <a:lnTo>
                          <a:pt x="155" y="85"/>
                        </a:lnTo>
                        <a:lnTo>
                          <a:pt x="140" y="90"/>
                        </a:lnTo>
                        <a:lnTo>
                          <a:pt x="123" y="87"/>
                        </a:lnTo>
                        <a:lnTo>
                          <a:pt x="105" y="100"/>
                        </a:lnTo>
                        <a:lnTo>
                          <a:pt x="95" y="110"/>
                        </a:lnTo>
                        <a:lnTo>
                          <a:pt x="100" y="120"/>
                        </a:lnTo>
                        <a:lnTo>
                          <a:pt x="110" y="122"/>
                        </a:lnTo>
                        <a:lnTo>
                          <a:pt x="115" y="132"/>
                        </a:lnTo>
                        <a:lnTo>
                          <a:pt x="118" y="157"/>
                        </a:lnTo>
                        <a:lnTo>
                          <a:pt x="108" y="170"/>
                        </a:lnTo>
                        <a:lnTo>
                          <a:pt x="95" y="177"/>
                        </a:lnTo>
                        <a:lnTo>
                          <a:pt x="85" y="182"/>
                        </a:lnTo>
                        <a:lnTo>
                          <a:pt x="83" y="187"/>
                        </a:lnTo>
                        <a:lnTo>
                          <a:pt x="70" y="205"/>
                        </a:lnTo>
                        <a:lnTo>
                          <a:pt x="68" y="212"/>
                        </a:lnTo>
                        <a:lnTo>
                          <a:pt x="60" y="217"/>
                        </a:lnTo>
                        <a:lnTo>
                          <a:pt x="60" y="232"/>
                        </a:lnTo>
                        <a:lnTo>
                          <a:pt x="55" y="240"/>
                        </a:lnTo>
                        <a:lnTo>
                          <a:pt x="43" y="247"/>
                        </a:lnTo>
                        <a:lnTo>
                          <a:pt x="35" y="245"/>
                        </a:lnTo>
                        <a:lnTo>
                          <a:pt x="0" y="257"/>
                        </a:lnTo>
                        <a:lnTo>
                          <a:pt x="23" y="302"/>
                        </a:lnTo>
                        <a:lnTo>
                          <a:pt x="38" y="310"/>
                        </a:lnTo>
                        <a:lnTo>
                          <a:pt x="40" y="322"/>
                        </a:lnTo>
                        <a:lnTo>
                          <a:pt x="53" y="332"/>
                        </a:lnTo>
                        <a:lnTo>
                          <a:pt x="60" y="340"/>
                        </a:lnTo>
                        <a:lnTo>
                          <a:pt x="65" y="355"/>
                        </a:lnTo>
                        <a:lnTo>
                          <a:pt x="75" y="360"/>
                        </a:lnTo>
                        <a:lnTo>
                          <a:pt x="85" y="362"/>
                        </a:lnTo>
                        <a:lnTo>
                          <a:pt x="100" y="355"/>
                        </a:lnTo>
                        <a:lnTo>
                          <a:pt x="103" y="362"/>
                        </a:lnTo>
                        <a:lnTo>
                          <a:pt x="113" y="365"/>
                        </a:lnTo>
                        <a:lnTo>
                          <a:pt x="118" y="370"/>
                        </a:lnTo>
                        <a:lnTo>
                          <a:pt x="105" y="375"/>
                        </a:lnTo>
                        <a:lnTo>
                          <a:pt x="93" y="375"/>
                        </a:lnTo>
                        <a:lnTo>
                          <a:pt x="78" y="385"/>
                        </a:lnTo>
                        <a:lnTo>
                          <a:pt x="55" y="395"/>
                        </a:lnTo>
                        <a:lnTo>
                          <a:pt x="55" y="420"/>
                        </a:lnTo>
                        <a:lnTo>
                          <a:pt x="65" y="425"/>
                        </a:lnTo>
                        <a:lnTo>
                          <a:pt x="80" y="420"/>
                        </a:lnTo>
                        <a:lnTo>
                          <a:pt x="100" y="430"/>
                        </a:lnTo>
                        <a:lnTo>
                          <a:pt x="103" y="450"/>
                        </a:lnTo>
                        <a:lnTo>
                          <a:pt x="110" y="457"/>
                        </a:lnTo>
                        <a:lnTo>
                          <a:pt x="128" y="445"/>
                        </a:lnTo>
                        <a:lnTo>
                          <a:pt x="130" y="450"/>
                        </a:lnTo>
                        <a:lnTo>
                          <a:pt x="140" y="455"/>
                        </a:lnTo>
                        <a:lnTo>
                          <a:pt x="145" y="452"/>
                        </a:lnTo>
                        <a:lnTo>
                          <a:pt x="175" y="452"/>
                        </a:lnTo>
                        <a:lnTo>
                          <a:pt x="198" y="455"/>
                        </a:lnTo>
                        <a:lnTo>
                          <a:pt x="210" y="460"/>
                        </a:lnTo>
                        <a:lnTo>
                          <a:pt x="225" y="460"/>
                        </a:lnTo>
                        <a:lnTo>
                          <a:pt x="240" y="460"/>
                        </a:lnTo>
                        <a:lnTo>
                          <a:pt x="253" y="457"/>
                        </a:lnTo>
                        <a:lnTo>
                          <a:pt x="258" y="467"/>
                        </a:lnTo>
                        <a:lnTo>
                          <a:pt x="270" y="452"/>
                        </a:lnTo>
                        <a:lnTo>
                          <a:pt x="278" y="467"/>
                        </a:lnTo>
                        <a:lnTo>
                          <a:pt x="285" y="470"/>
                        </a:lnTo>
                        <a:lnTo>
                          <a:pt x="305" y="472"/>
                        </a:lnTo>
                        <a:lnTo>
                          <a:pt x="315" y="475"/>
                        </a:lnTo>
                        <a:lnTo>
                          <a:pt x="328" y="490"/>
                        </a:lnTo>
                        <a:lnTo>
                          <a:pt x="318" y="497"/>
                        </a:lnTo>
                        <a:lnTo>
                          <a:pt x="295" y="502"/>
                        </a:lnTo>
                        <a:lnTo>
                          <a:pt x="295" y="520"/>
                        </a:lnTo>
                        <a:lnTo>
                          <a:pt x="285" y="530"/>
                        </a:lnTo>
                        <a:lnTo>
                          <a:pt x="275" y="525"/>
                        </a:lnTo>
                        <a:lnTo>
                          <a:pt x="275" y="505"/>
                        </a:lnTo>
                        <a:lnTo>
                          <a:pt x="268" y="497"/>
                        </a:lnTo>
                        <a:lnTo>
                          <a:pt x="235" y="485"/>
                        </a:lnTo>
                        <a:lnTo>
                          <a:pt x="215" y="485"/>
                        </a:lnTo>
                        <a:lnTo>
                          <a:pt x="200" y="472"/>
                        </a:lnTo>
                        <a:lnTo>
                          <a:pt x="193" y="467"/>
                        </a:lnTo>
                        <a:lnTo>
                          <a:pt x="153" y="485"/>
                        </a:lnTo>
                        <a:lnTo>
                          <a:pt x="130" y="477"/>
                        </a:lnTo>
                        <a:lnTo>
                          <a:pt x="105" y="495"/>
                        </a:lnTo>
                        <a:lnTo>
                          <a:pt x="103" y="510"/>
                        </a:lnTo>
                        <a:lnTo>
                          <a:pt x="113" y="525"/>
                        </a:lnTo>
                        <a:lnTo>
                          <a:pt x="120" y="532"/>
                        </a:lnTo>
                        <a:lnTo>
                          <a:pt x="138" y="532"/>
                        </a:lnTo>
                        <a:lnTo>
                          <a:pt x="153" y="535"/>
                        </a:lnTo>
                        <a:lnTo>
                          <a:pt x="150" y="550"/>
                        </a:lnTo>
                        <a:lnTo>
                          <a:pt x="155" y="557"/>
                        </a:lnTo>
                        <a:lnTo>
                          <a:pt x="165" y="567"/>
                        </a:lnTo>
                        <a:lnTo>
                          <a:pt x="170" y="575"/>
                        </a:lnTo>
                        <a:lnTo>
                          <a:pt x="168" y="585"/>
                        </a:lnTo>
                        <a:lnTo>
                          <a:pt x="158" y="600"/>
                        </a:lnTo>
                        <a:lnTo>
                          <a:pt x="153" y="610"/>
                        </a:lnTo>
                        <a:lnTo>
                          <a:pt x="155" y="637"/>
                        </a:lnTo>
                        <a:lnTo>
                          <a:pt x="163" y="657"/>
                        </a:lnTo>
                        <a:lnTo>
                          <a:pt x="183" y="672"/>
                        </a:lnTo>
                        <a:lnTo>
                          <a:pt x="183" y="660"/>
                        </a:lnTo>
                        <a:lnTo>
                          <a:pt x="185" y="647"/>
                        </a:lnTo>
                        <a:lnTo>
                          <a:pt x="200" y="630"/>
                        </a:lnTo>
                        <a:lnTo>
                          <a:pt x="210" y="645"/>
                        </a:lnTo>
                        <a:lnTo>
                          <a:pt x="228" y="682"/>
                        </a:lnTo>
                        <a:lnTo>
                          <a:pt x="233" y="710"/>
                        </a:lnTo>
                        <a:lnTo>
                          <a:pt x="250" y="720"/>
                        </a:lnTo>
                        <a:lnTo>
                          <a:pt x="245" y="695"/>
                        </a:lnTo>
                        <a:lnTo>
                          <a:pt x="250" y="677"/>
                        </a:lnTo>
                        <a:lnTo>
                          <a:pt x="270" y="665"/>
                        </a:lnTo>
                        <a:lnTo>
                          <a:pt x="278" y="667"/>
                        </a:lnTo>
                        <a:lnTo>
                          <a:pt x="280" y="677"/>
                        </a:lnTo>
                        <a:lnTo>
                          <a:pt x="290" y="697"/>
                        </a:lnTo>
                        <a:lnTo>
                          <a:pt x="305" y="712"/>
                        </a:lnTo>
                        <a:lnTo>
                          <a:pt x="315" y="712"/>
                        </a:lnTo>
                        <a:lnTo>
                          <a:pt x="315" y="685"/>
                        </a:lnTo>
                        <a:lnTo>
                          <a:pt x="308" y="672"/>
                        </a:lnTo>
                        <a:lnTo>
                          <a:pt x="308" y="652"/>
                        </a:lnTo>
                        <a:lnTo>
                          <a:pt x="305" y="642"/>
                        </a:lnTo>
                        <a:lnTo>
                          <a:pt x="310" y="630"/>
                        </a:lnTo>
                        <a:lnTo>
                          <a:pt x="280" y="595"/>
                        </a:lnTo>
                        <a:lnTo>
                          <a:pt x="275" y="575"/>
                        </a:lnTo>
                        <a:lnTo>
                          <a:pt x="265" y="572"/>
                        </a:lnTo>
                        <a:lnTo>
                          <a:pt x="270" y="567"/>
                        </a:lnTo>
                        <a:lnTo>
                          <a:pt x="278" y="562"/>
                        </a:lnTo>
                        <a:lnTo>
                          <a:pt x="290" y="560"/>
                        </a:lnTo>
                        <a:lnTo>
                          <a:pt x="300" y="572"/>
                        </a:lnTo>
                        <a:lnTo>
                          <a:pt x="315" y="580"/>
                        </a:lnTo>
                        <a:lnTo>
                          <a:pt x="318" y="592"/>
                        </a:lnTo>
                        <a:lnTo>
                          <a:pt x="325" y="602"/>
                        </a:lnTo>
                        <a:lnTo>
                          <a:pt x="340" y="590"/>
                        </a:lnTo>
                        <a:lnTo>
                          <a:pt x="370" y="587"/>
                        </a:lnTo>
                        <a:lnTo>
                          <a:pt x="370" y="580"/>
                        </a:lnTo>
                        <a:lnTo>
                          <a:pt x="358" y="577"/>
                        </a:lnTo>
                        <a:lnTo>
                          <a:pt x="350" y="570"/>
                        </a:lnTo>
                        <a:lnTo>
                          <a:pt x="350" y="550"/>
                        </a:lnTo>
                        <a:lnTo>
                          <a:pt x="333" y="555"/>
                        </a:lnTo>
                        <a:lnTo>
                          <a:pt x="315" y="550"/>
                        </a:lnTo>
                        <a:lnTo>
                          <a:pt x="310" y="540"/>
                        </a:lnTo>
                        <a:lnTo>
                          <a:pt x="293" y="537"/>
                        </a:lnTo>
                        <a:lnTo>
                          <a:pt x="363" y="505"/>
                        </a:lnTo>
                        <a:lnTo>
                          <a:pt x="375" y="507"/>
                        </a:lnTo>
                        <a:lnTo>
                          <a:pt x="395" y="525"/>
                        </a:lnTo>
                        <a:lnTo>
                          <a:pt x="398" y="537"/>
                        </a:lnTo>
                        <a:lnTo>
                          <a:pt x="410" y="542"/>
                        </a:lnTo>
                        <a:lnTo>
                          <a:pt x="415" y="525"/>
                        </a:lnTo>
                        <a:lnTo>
                          <a:pt x="415" y="485"/>
                        </a:lnTo>
                        <a:lnTo>
                          <a:pt x="430" y="480"/>
                        </a:lnTo>
                        <a:lnTo>
                          <a:pt x="433" y="495"/>
                        </a:lnTo>
                        <a:lnTo>
                          <a:pt x="458" y="505"/>
                        </a:lnTo>
                        <a:lnTo>
                          <a:pt x="473" y="505"/>
                        </a:lnTo>
                        <a:lnTo>
                          <a:pt x="475" y="490"/>
                        </a:lnTo>
                        <a:lnTo>
                          <a:pt x="465" y="490"/>
                        </a:lnTo>
                        <a:lnTo>
                          <a:pt x="455" y="487"/>
                        </a:lnTo>
                        <a:lnTo>
                          <a:pt x="448" y="470"/>
                        </a:lnTo>
                        <a:lnTo>
                          <a:pt x="440" y="467"/>
                        </a:lnTo>
                        <a:lnTo>
                          <a:pt x="440" y="435"/>
                        </a:lnTo>
                        <a:lnTo>
                          <a:pt x="433" y="432"/>
                        </a:lnTo>
                        <a:lnTo>
                          <a:pt x="423" y="442"/>
                        </a:lnTo>
                        <a:lnTo>
                          <a:pt x="398" y="437"/>
                        </a:lnTo>
                        <a:lnTo>
                          <a:pt x="385" y="435"/>
                        </a:lnTo>
                        <a:lnTo>
                          <a:pt x="378" y="425"/>
                        </a:lnTo>
                        <a:lnTo>
                          <a:pt x="365" y="425"/>
                        </a:lnTo>
                        <a:lnTo>
                          <a:pt x="358" y="417"/>
                        </a:lnTo>
                        <a:lnTo>
                          <a:pt x="355" y="417"/>
                        </a:lnTo>
                        <a:lnTo>
                          <a:pt x="355" y="392"/>
                        </a:lnTo>
                        <a:lnTo>
                          <a:pt x="340" y="390"/>
                        </a:lnTo>
                        <a:lnTo>
                          <a:pt x="335" y="375"/>
                        </a:lnTo>
                        <a:lnTo>
                          <a:pt x="320" y="375"/>
                        </a:lnTo>
                        <a:lnTo>
                          <a:pt x="305" y="375"/>
                        </a:lnTo>
                        <a:lnTo>
                          <a:pt x="295" y="367"/>
                        </a:lnTo>
                        <a:lnTo>
                          <a:pt x="298" y="362"/>
                        </a:lnTo>
                        <a:lnTo>
                          <a:pt x="290" y="360"/>
                        </a:lnTo>
                        <a:lnTo>
                          <a:pt x="295" y="355"/>
                        </a:lnTo>
                        <a:lnTo>
                          <a:pt x="308" y="355"/>
                        </a:lnTo>
                        <a:lnTo>
                          <a:pt x="310" y="340"/>
                        </a:lnTo>
                        <a:lnTo>
                          <a:pt x="305" y="335"/>
                        </a:lnTo>
                        <a:lnTo>
                          <a:pt x="293" y="337"/>
                        </a:lnTo>
                        <a:lnTo>
                          <a:pt x="283" y="322"/>
                        </a:lnTo>
                        <a:lnTo>
                          <a:pt x="295" y="315"/>
                        </a:lnTo>
                        <a:lnTo>
                          <a:pt x="305" y="315"/>
                        </a:lnTo>
                        <a:lnTo>
                          <a:pt x="313" y="322"/>
                        </a:lnTo>
                        <a:lnTo>
                          <a:pt x="330" y="335"/>
                        </a:lnTo>
                        <a:lnTo>
                          <a:pt x="330" y="325"/>
                        </a:lnTo>
                        <a:lnTo>
                          <a:pt x="325" y="310"/>
                        </a:lnTo>
                        <a:lnTo>
                          <a:pt x="305" y="295"/>
                        </a:lnTo>
                        <a:lnTo>
                          <a:pt x="298" y="282"/>
                        </a:lnTo>
                        <a:lnTo>
                          <a:pt x="283" y="260"/>
                        </a:lnTo>
                        <a:lnTo>
                          <a:pt x="268" y="245"/>
                        </a:lnTo>
                        <a:lnTo>
                          <a:pt x="268" y="222"/>
                        </a:lnTo>
                        <a:lnTo>
                          <a:pt x="265" y="197"/>
                        </a:lnTo>
                        <a:lnTo>
                          <a:pt x="270" y="182"/>
                        </a:lnTo>
                        <a:lnTo>
                          <a:pt x="275" y="162"/>
                        </a:lnTo>
                        <a:lnTo>
                          <a:pt x="283" y="160"/>
                        </a:lnTo>
                        <a:lnTo>
                          <a:pt x="295" y="150"/>
                        </a:lnTo>
                        <a:lnTo>
                          <a:pt x="300" y="157"/>
                        </a:lnTo>
                        <a:lnTo>
                          <a:pt x="290" y="175"/>
                        </a:lnTo>
                        <a:lnTo>
                          <a:pt x="308" y="190"/>
                        </a:lnTo>
                        <a:lnTo>
                          <a:pt x="323" y="197"/>
                        </a:lnTo>
                        <a:lnTo>
                          <a:pt x="333" y="202"/>
                        </a:lnTo>
                        <a:lnTo>
                          <a:pt x="353" y="205"/>
                        </a:lnTo>
                        <a:lnTo>
                          <a:pt x="368" y="210"/>
                        </a:lnTo>
                        <a:lnTo>
                          <a:pt x="385" y="200"/>
                        </a:lnTo>
                        <a:lnTo>
                          <a:pt x="393" y="200"/>
                        </a:lnTo>
                        <a:lnTo>
                          <a:pt x="395" y="190"/>
                        </a:lnTo>
                        <a:lnTo>
                          <a:pt x="395" y="177"/>
                        </a:lnTo>
                        <a:lnTo>
                          <a:pt x="398" y="165"/>
                        </a:lnTo>
                        <a:lnTo>
                          <a:pt x="393" y="157"/>
                        </a:lnTo>
                        <a:lnTo>
                          <a:pt x="380" y="150"/>
                        </a:lnTo>
                        <a:lnTo>
                          <a:pt x="375" y="142"/>
                        </a:lnTo>
                        <a:lnTo>
                          <a:pt x="385" y="135"/>
                        </a:lnTo>
                        <a:lnTo>
                          <a:pt x="393" y="137"/>
                        </a:lnTo>
                        <a:lnTo>
                          <a:pt x="410" y="145"/>
                        </a:lnTo>
                        <a:lnTo>
                          <a:pt x="423" y="137"/>
                        </a:lnTo>
                        <a:lnTo>
                          <a:pt x="440" y="127"/>
                        </a:lnTo>
                        <a:lnTo>
                          <a:pt x="465" y="115"/>
                        </a:lnTo>
                        <a:lnTo>
                          <a:pt x="485" y="127"/>
                        </a:lnTo>
                        <a:lnTo>
                          <a:pt x="500" y="120"/>
                        </a:lnTo>
                        <a:lnTo>
                          <a:pt x="508" y="112"/>
                        </a:lnTo>
                        <a:lnTo>
                          <a:pt x="515" y="102"/>
                        </a:lnTo>
                        <a:lnTo>
                          <a:pt x="528" y="110"/>
                        </a:lnTo>
                        <a:lnTo>
                          <a:pt x="553" y="120"/>
                        </a:lnTo>
                        <a:lnTo>
                          <a:pt x="565" y="120"/>
                        </a:lnTo>
                        <a:lnTo>
                          <a:pt x="588" y="120"/>
                        </a:lnTo>
                        <a:lnTo>
                          <a:pt x="603" y="122"/>
                        </a:lnTo>
                        <a:lnTo>
                          <a:pt x="625" y="135"/>
                        </a:lnTo>
                        <a:lnTo>
                          <a:pt x="640" y="110"/>
                        </a:lnTo>
                        <a:lnTo>
                          <a:pt x="638" y="85"/>
                        </a:lnTo>
                        <a:lnTo>
                          <a:pt x="650" y="77"/>
                        </a:lnTo>
                        <a:lnTo>
                          <a:pt x="660" y="65"/>
                        </a:lnTo>
                        <a:lnTo>
                          <a:pt x="665" y="55"/>
                        </a:lnTo>
                        <a:lnTo>
                          <a:pt x="675" y="42"/>
                        </a:lnTo>
                        <a:lnTo>
                          <a:pt x="675" y="27"/>
                        </a:lnTo>
                        <a:lnTo>
                          <a:pt x="670" y="20"/>
                        </a:lnTo>
                        <a:lnTo>
                          <a:pt x="65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652800" y="5482440"/>
                    <a:ext cx="312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5">
                        <a:moveTo>
                          <a:pt x="43" y="0"/>
                        </a:moveTo>
                        <a:lnTo>
                          <a:pt x="30" y="13"/>
                        </a:lnTo>
                        <a:lnTo>
                          <a:pt x="15" y="20"/>
                        </a:lnTo>
                        <a:lnTo>
                          <a:pt x="23" y="25"/>
                        </a:lnTo>
                        <a:lnTo>
                          <a:pt x="13" y="45"/>
                        </a:lnTo>
                        <a:lnTo>
                          <a:pt x="13" y="50"/>
                        </a:lnTo>
                        <a:lnTo>
                          <a:pt x="0" y="50"/>
                        </a:lnTo>
                        <a:lnTo>
                          <a:pt x="8" y="60"/>
                        </a:lnTo>
                        <a:lnTo>
                          <a:pt x="85" y="60"/>
                        </a:lnTo>
                        <a:lnTo>
                          <a:pt x="123" y="73"/>
                        </a:lnTo>
                        <a:lnTo>
                          <a:pt x="168" y="95"/>
                        </a:lnTo>
                        <a:lnTo>
                          <a:pt x="213" y="105"/>
                        </a:lnTo>
                        <a:lnTo>
                          <a:pt x="265" y="80"/>
                        </a:lnTo>
                        <a:lnTo>
                          <a:pt x="303" y="70"/>
                        </a:lnTo>
                        <a:lnTo>
                          <a:pt x="308" y="63"/>
                        </a:lnTo>
                        <a:lnTo>
                          <a:pt x="333" y="63"/>
                        </a:lnTo>
                        <a:lnTo>
                          <a:pt x="340" y="50"/>
                        </a:lnTo>
                        <a:lnTo>
                          <a:pt x="315" y="55"/>
                        </a:lnTo>
                        <a:lnTo>
                          <a:pt x="298" y="55"/>
                        </a:lnTo>
                        <a:lnTo>
                          <a:pt x="285" y="60"/>
                        </a:lnTo>
                        <a:lnTo>
                          <a:pt x="278" y="50"/>
                        </a:lnTo>
                        <a:lnTo>
                          <a:pt x="270" y="45"/>
                        </a:lnTo>
                        <a:lnTo>
                          <a:pt x="253" y="40"/>
                        </a:lnTo>
                        <a:lnTo>
                          <a:pt x="243" y="45"/>
                        </a:lnTo>
                        <a:lnTo>
                          <a:pt x="220" y="45"/>
                        </a:lnTo>
                        <a:lnTo>
                          <a:pt x="210" y="65"/>
                        </a:lnTo>
                        <a:lnTo>
                          <a:pt x="195" y="63"/>
                        </a:lnTo>
                        <a:lnTo>
                          <a:pt x="185" y="48"/>
                        </a:lnTo>
                        <a:lnTo>
                          <a:pt x="173" y="40"/>
                        </a:lnTo>
                        <a:lnTo>
                          <a:pt x="160" y="33"/>
                        </a:lnTo>
                        <a:lnTo>
                          <a:pt x="148" y="35"/>
                        </a:lnTo>
                        <a:lnTo>
                          <a:pt x="140" y="40"/>
                        </a:lnTo>
                        <a:lnTo>
                          <a:pt x="128" y="40"/>
                        </a:lnTo>
                        <a:lnTo>
                          <a:pt x="105" y="45"/>
                        </a:lnTo>
                        <a:lnTo>
                          <a:pt x="105" y="30"/>
                        </a:lnTo>
                        <a:lnTo>
                          <a:pt x="88" y="20"/>
                        </a:lnTo>
                        <a:lnTo>
                          <a:pt x="60" y="20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flipH="1" flipV="1">
                  <a:off x="2895480" y="2819160"/>
                  <a:ext cx="18288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0" y="5334120"/>
                <a:ext cx="2743200" cy="150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Basata sui Programmi: Strategia focalizzata sull’ implementazione dei progammi scolastici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76720" y="5378400"/>
                <a:ext cx="2819160" cy="1479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Approccio Misto: Finanziamento di servizi locali con l’implementazione supplementare di alcuni programmi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78720" y="5334120"/>
                <a:ext cx="2465280" cy="1523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Basata sui servizi locali: finanziamento</a:t>
                </a: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di servizi ed istituzioni locali con lo scopo di sviluppare una prevenzione ad ho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1055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I.) Strategie di prevenzione scolastic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Scelte politiche sulla prevenzione scolastica 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2666880" cy="342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Politiche scolastic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es. formulazione di regole e norme riguardanti l’assunzione di droghe a scuola. U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838080"/>
            <a:ext cx="3124440" cy="3429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Prevenzione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ntegrata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Interventi per includere rilevanti tematiche preventive nelle attivita’ scolastiche quotidiane, es. politiche scolastiche associate all’integrazione </a:t>
            </a:r>
            <a:r>
              <a:rPr b="1" i="1" lang="it-IT" sz="2000" spc="-1" strike="noStrike">
                <a:solidFill>
                  <a:srgbClr val="ffff00"/>
                </a:solidFill>
                <a:latin typeface="Times New Roman"/>
              </a:rPr>
              <a:t>flessibile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di argomenti relati alla droga nelle diverse materie scolastich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838080"/>
            <a:ext cx="3429000" cy="342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99"/>
                </a:solidFill>
                <a:latin typeface="Times New Roman"/>
              </a:rPr>
              <a:t>Progra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99"/>
                </a:solidFill>
                <a:latin typeface="Times New Roman"/>
              </a:rPr>
              <a:t>di prevenzione - interventi “curriculari” con sessioni, argomenti e materiali specifici, es. una inclusione stabile della prevenzione entro la programmazione didattic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360" y="4267080"/>
            <a:ext cx="8839080" cy="2590920"/>
            <a:chOff x="-360" y="4267080"/>
            <a:chExt cx="8839080" cy="2590920"/>
          </a:xfrm>
        </p:grpSpPr>
        <p:sp>
          <p:nvSpPr>
            <p:cNvPr id="184" name=""/>
            <p:cNvSpPr/>
            <p:nvPr/>
          </p:nvSpPr>
          <p:spPr>
            <a:xfrm flipH="1">
              <a:off x="-720" y="4267080"/>
              <a:ext cx="8839080" cy="25909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5029200"/>
              <a:ext cx="45720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enziali per l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aranzia della qualità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la valutazione de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uti e risulta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00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25560"/>
          <a:ext cx="8763120" cy="67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8763120" cy="67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86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-228600" y="-119160"/>
          <a:ext cx="9677520" cy="71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119160"/>
                    <a:ext cx="9677520" cy="71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8153280" y="5257800"/>
            <a:ext cx="990720" cy="1295280"/>
            <a:chOff x="8153280" y="5257800"/>
            <a:chExt cx="990720" cy="1295280"/>
          </a:xfrm>
        </p:grpSpPr>
        <p:sp>
          <p:nvSpPr>
            <p:cNvPr id="193" name=""/>
            <p:cNvSpPr/>
            <p:nvPr/>
          </p:nvSpPr>
          <p:spPr>
            <a:xfrm>
              <a:off x="8153280" y="5334120"/>
              <a:ext cx="990720" cy="1218960"/>
            </a:xfrm>
            <a:prstGeom prst="wedgeEllipseCallout">
              <a:avLst>
                <a:gd name="adj1" fmla="val 40064"/>
                <a:gd name="adj2" fmla="val -1403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3280" y="5257800"/>
              <a:ext cx="990720" cy="1295280"/>
            </a:xfrm>
            <a:prstGeom prst="wedgeEllipseCallout">
              <a:avLst>
                <a:gd name="adj1" fmla="val 10736"/>
                <a:gd name="adj2" fmla="val -1302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400" spc="-1" strike="noStrike">
                  <a:solidFill>
                    <a:srgbClr val="ff3300"/>
                  </a:solidFill>
                  <a:latin typeface="Times New Roman"/>
                </a:rPr>
                <a:t>!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905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9144000" cy="59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1944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1:40:08Z</dcterms:created>
  <dc:creator>Gregor Burkhart</dc:creator>
  <dc:description>Developed by Operandi</dc:description>
  <dc:language>en-US</dc:language>
  <cp:lastModifiedBy>Gregor Burkhart</cp:lastModifiedBy>
  <dcterms:modified xsi:type="dcterms:W3CDTF">2003-11-06T09:18:50Z</dcterms:modified>
  <cp:revision>86</cp:revision>
  <dc:subject/>
  <dc:title>Prevention with risk groups</dc:title>
</cp:coreProperties>
</file>