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3.wmf" ContentType="image/x-wmf"/>
  <Override PartName="/ppt/media/image18.jpeg" ContentType="image/jpeg"/>
  <Override PartName="/ppt/media/image22.wmf" ContentType="image/x-wmf"/>
  <Override PartName="/ppt/media/image5.wmf" ContentType="image/x-wmf"/>
  <Override PartName="/ppt/media/image21.jpeg" ContentType="image/jpeg"/>
  <Override PartName="/ppt/media/image16.png" ContentType="image/png"/>
  <Override PartName="/ppt/media/image17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B2A-34A8-4835-9886-9B0E8EEE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C18-8131-4404-8934-192F2874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894-0D72-429A-9A11-8BAED9FD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2E8-0FE8-4ABB-8E17-64B299EC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F48-05B9-4963-9734-3EC9D40C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127-B2CD-445A-9DC4-75DCFFF3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CB5-4B3A-491D-9694-B4C03BE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E2D-5141-4159-921D-60EEBB5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E9F-939F-4B85-83BA-ABA13B4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03A-839B-44D3-99C5-3BB3745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783-935B-4410-95C1-53FA670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707-364A-4654-8528-4DE751F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D465-A93B-4644-9AD6-34AAF7E2C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biology of Alcoholism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Risk, Prevention,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Robert Cloninger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hingt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@tci.wustl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biology.wustl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of transition from used 5 times to weekly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(H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Environmentalities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(E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f transition from weekly use to abuse/depe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1120" y="2424240"/>
          <a:ext cx="7767720" cy="45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424240"/>
                    <a:ext cx="776772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ability of Abusing other drugs conditional on index drug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Veterans Twin Stud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20600" y="2658960"/>
            <a:ext cx="762012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on &amp; Unique Genetic Variance by Drug Typ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Veterans Twin Stud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73040" y="1979640"/>
          <a:ext cx="776772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79640"/>
                    <a:ext cx="776772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spective Predictors of Alcoholism --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ildhood 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2560" y="2400480"/>
          <a:ext cx="380700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400480"/>
                    <a:ext cx="380700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419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3 boys rated on personality at 11 y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cohol abuse rated independently at 28 y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social triad predicted alcoh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HA, high NS, low 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_cu01_small" descr=""/>
          <p:cNvPicPr/>
          <p:nvPr/>
        </p:nvPicPr>
        <p:blipFill>
          <a:blip r:embed="rId1"/>
          <a:stretch/>
        </p:blipFill>
        <p:spPr>
          <a:xfrm>
            <a:off x="0" y="-404640"/>
            <a:ext cx="9144000" cy="70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 sizes of adult personality on Severe Alcohol Dependence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COG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2286000"/>
          <a:ext cx="7770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0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iquely inherited antecedents of  initiation of ab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Novelty See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arly initiation of impulsive-aggressive behavior and poly-drug exper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lygenic trait associated with differences in dopamine transporter, DRD4, and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Self-direc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rresponsible behavior and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sociated with low P3 ampl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&amp; poor executive function of medial prefrontal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iquely inherited antecedents o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pendence and Relap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Self-directedness - irrespo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ooperativeness – little free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2 of the 3 key aspects of our mental self-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 general model of the dynamics of human th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need a general neurogenetic model of cogni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categories and even disease spectra group together neurogenetically heterogeneous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-gene and gene-environment effects suggest stabilizing selection with a preferred intermediate path of  “normal” cognitive development and with extremes vulnerable to psycho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xity of Assessing Risk in Indiv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ohol abusers are heterogeneous with highly variable risk factors, clinical features, an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psychobiological processes are complex, requiring understanding in depth as biopsychosocial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possible to distinguish subtypes and risk factors unique to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228600"/>
          <a:ext cx="7897680" cy="745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7897680" cy="74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_cube" descr=""/>
          <p:cNvPicPr/>
          <p:nvPr/>
        </p:nvPicPr>
        <p:blipFill>
          <a:blip r:embed="rId1"/>
          <a:srcRect l="0" t="0" r="4545" b="0"/>
          <a:stretch/>
        </p:blipFill>
        <p:spPr>
          <a:xfrm>
            <a:off x="-457200" y="-447840"/>
            <a:ext cx="9601200" cy="775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er Cognitive Func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tal Self-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ble, purposeful, resourc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islat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asonable, helpful, compassi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ici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udicious, insightful, intu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4360" y="433440"/>
          <a:ext cx="7775280" cy="90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7775280" cy="90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crot" descr=""/>
          <p:cNvPicPr/>
          <p:nvPr/>
        </p:nvPicPr>
        <p:blipFill>
          <a:blip r:embed="rId1"/>
          <a:srcRect l="18946" t="0" r="5964" b="17311"/>
          <a:stretch/>
        </p:blipFill>
        <p:spPr>
          <a:xfrm>
            <a:off x="733320" y="0"/>
            <a:ext cx="74962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ers_schem" descr=""/>
          <p:cNvPicPr/>
          <p:nvPr/>
        </p:nvPicPr>
        <p:blipFill>
          <a:blip r:embed="rId1"/>
          <a:srcRect l="4545" t="0" r="4545" b="13682"/>
          <a:stretch/>
        </p:blipFill>
        <p:spPr>
          <a:xfrm>
            <a:off x="0" y="0"/>
            <a:ext cx="916776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e the seven TCI personality factors biologically dis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dimension has unique genetic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dimension has specific brain circui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dimension has unique role in information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8672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inger, The Science of Well-Being, Oxford U Press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vement of Thought ha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directions within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tion of awareness =  Self-direc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pleasant  versus pleas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d by brain network involving medial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th of acceptance  = Coopera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ver-aroused versus under-aro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d by brain network involving anterior insula,  right inferior parietal cortex, and right lateral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th of consciousness = Self-transc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rolled versus cont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d by brain network involving ACC, DLPFC, and basal gan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Model of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piral2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1946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oughts may spiral up or 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tress &amp; Ad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edo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heavy,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dissatisfie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flict = unhappy vs hap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Less purposeful &amp; Self-dir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o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narrow,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electiv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flict = over- vs under-aro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Less flexible &amp; Coope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tro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shallow,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stereotyp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flict = controlled vs 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ore repressive &amp; Less Self-transc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ll-Being &amp;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creasingly 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impar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(light = impartial,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satisfied</a:t>
            </a: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More realistic &amp; Self-dir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cal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(broad = flexible, allo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More alert &amp; Co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(deep = patient,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integ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More wise &amp; Self-transc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riteria_For_Substance_Dependence%20copy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639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78360" y="626256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G. Ko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ges in the Development of   Self-aware Conscious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ge 0 - No Self-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minated by immediate likes &amp; disl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mmature, unconscious defenses (“child” ego-state)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ge 1 - Ordinary 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gocentric view of conflicts (“adult” ego-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eking individual power and conten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ge 2 - Meta-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alm allocentric observation of what was sub-conscious (“parental” ego-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ge 3 - Contemp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nlarging consciousness by access to unconscious non-dualistic psyche (“coherent” well-be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85840" y="2481120"/>
            <a:ext cx="69343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9378" t="19374" r="23518" b="15236"/>
          <a:stretch/>
        </p:blipFill>
        <p:spPr>
          <a:xfrm>
            <a:off x="1368360" y="2604960"/>
            <a:ext cx="3005280" cy="255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FRONTAL CORTEX FUNCTION 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GES of SELF-AWARE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21864" t="21854" r="26001" b="17717"/>
          <a:stretch/>
        </p:blipFill>
        <p:spPr>
          <a:xfrm>
            <a:off x="4913280" y="2604960"/>
            <a:ext cx="3003480" cy="25844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352680" y="1905120"/>
            <a:ext cx="4724640" cy="1805040"/>
            <a:chOff x="3352680" y="1905120"/>
            <a:chExt cx="4724640" cy="1805040"/>
          </a:xfrm>
        </p:grpSpPr>
        <p:sp>
          <p:nvSpPr>
            <p:cNvPr id="119" name=""/>
            <p:cNvSpPr/>
            <p:nvPr/>
          </p:nvSpPr>
          <p:spPr>
            <a:xfrm>
              <a:off x="5105520" y="2948040"/>
              <a:ext cx="666720" cy="762120"/>
            </a:xfrm>
            <a:custGeom>
              <a:avLst/>
              <a:gdLst/>
              <a:ahLst/>
              <a:rect l="l" t="t" r="r" b="b"/>
              <a:pathLst>
                <a:path w="753" h="861">
                  <a:moveTo>
                    <a:pt x="747" y="0"/>
                  </a:moveTo>
                  <a:cubicBezTo>
                    <a:pt x="741" y="18"/>
                    <a:pt x="735" y="36"/>
                    <a:pt x="729" y="54"/>
                  </a:cubicBezTo>
                  <a:cubicBezTo>
                    <a:pt x="726" y="63"/>
                    <a:pt x="720" y="81"/>
                    <a:pt x="720" y="81"/>
                  </a:cubicBezTo>
                  <a:cubicBezTo>
                    <a:pt x="728" y="158"/>
                    <a:pt x="753" y="251"/>
                    <a:pt x="711" y="324"/>
                  </a:cubicBezTo>
                  <a:cubicBezTo>
                    <a:pt x="689" y="363"/>
                    <a:pt x="688" y="343"/>
                    <a:pt x="657" y="360"/>
                  </a:cubicBezTo>
                  <a:cubicBezTo>
                    <a:pt x="638" y="371"/>
                    <a:pt x="603" y="396"/>
                    <a:pt x="603" y="396"/>
                  </a:cubicBezTo>
                  <a:cubicBezTo>
                    <a:pt x="539" y="492"/>
                    <a:pt x="639" y="346"/>
                    <a:pt x="558" y="450"/>
                  </a:cubicBezTo>
                  <a:cubicBezTo>
                    <a:pt x="545" y="467"/>
                    <a:pt x="540" y="492"/>
                    <a:pt x="522" y="504"/>
                  </a:cubicBezTo>
                  <a:cubicBezTo>
                    <a:pt x="466" y="541"/>
                    <a:pt x="415" y="584"/>
                    <a:pt x="360" y="621"/>
                  </a:cubicBezTo>
                  <a:cubicBezTo>
                    <a:pt x="327" y="671"/>
                    <a:pt x="314" y="709"/>
                    <a:pt x="297" y="765"/>
                  </a:cubicBezTo>
                  <a:cubicBezTo>
                    <a:pt x="292" y="783"/>
                    <a:pt x="297" y="813"/>
                    <a:pt x="279" y="819"/>
                  </a:cubicBezTo>
                  <a:cubicBezTo>
                    <a:pt x="252" y="828"/>
                    <a:pt x="225" y="837"/>
                    <a:pt x="198" y="846"/>
                  </a:cubicBezTo>
                  <a:cubicBezTo>
                    <a:pt x="189" y="849"/>
                    <a:pt x="171" y="855"/>
                    <a:pt x="171" y="855"/>
                  </a:cubicBezTo>
                  <a:cubicBezTo>
                    <a:pt x="138" y="851"/>
                    <a:pt x="96" y="861"/>
                    <a:pt x="72" y="837"/>
                  </a:cubicBezTo>
                  <a:cubicBezTo>
                    <a:pt x="49" y="814"/>
                    <a:pt x="36" y="783"/>
                    <a:pt x="18" y="756"/>
                  </a:cubicBezTo>
                  <a:cubicBezTo>
                    <a:pt x="12" y="747"/>
                    <a:pt x="0" y="729"/>
                    <a:pt x="0" y="729"/>
                  </a:cubicBezTo>
                  <a:cubicBezTo>
                    <a:pt x="29" y="710"/>
                    <a:pt x="52" y="685"/>
                    <a:pt x="81" y="666"/>
                  </a:cubicBezTo>
                  <a:cubicBezTo>
                    <a:pt x="103" y="600"/>
                    <a:pt x="104" y="630"/>
                    <a:pt x="90" y="576"/>
                  </a:cubicBezTo>
                  <a:cubicBezTo>
                    <a:pt x="107" y="507"/>
                    <a:pt x="128" y="430"/>
                    <a:pt x="180" y="378"/>
                  </a:cubicBezTo>
                  <a:cubicBezTo>
                    <a:pt x="204" y="354"/>
                    <a:pt x="237" y="339"/>
                    <a:pt x="261" y="315"/>
                  </a:cubicBezTo>
                  <a:cubicBezTo>
                    <a:pt x="310" y="266"/>
                    <a:pt x="383" y="211"/>
                    <a:pt x="450" y="189"/>
                  </a:cubicBezTo>
                  <a:cubicBezTo>
                    <a:pt x="462" y="171"/>
                    <a:pt x="474" y="153"/>
                    <a:pt x="486" y="135"/>
                  </a:cubicBezTo>
                  <a:cubicBezTo>
                    <a:pt x="491" y="127"/>
                    <a:pt x="488" y="115"/>
                    <a:pt x="495" y="108"/>
                  </a:cubicBezTo>
                  <a:cubicBezTo>
                    <a:pt x="562" y="41"/>
                    <a:pt x="662" y="28"/>
                    <a:pt x="747" y="0"/>
                  </a:cubicBez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1905120"/>
              <a:ext cx="4724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tage 2: Monitoring One’s Own Mental St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71600" y="3665520"/>
            <a:ext cx="4572000" cy="3012120"/>
            <a:chOff x="1371600" y="3665520"/>
            <a:chExt cx="4572000" cy="3012120"/>
          </a:xfrm>
        </p:grpSpPr>
        <p:sp>
          <p:nvSpPr>
            <p:cNvPr id="122" name=""/>
            <p:cNvSpPr/>
            <p:nvPr/>
          </p:nvSpPr>
          <p:spPr>
            <a:xfrm>
              <a:off x="5181480" y="3710160"/>
              <a:ext cx="762120" cy="382320"/>
            </a:xfrm>
            <a:custGeom>
              <a:avLst/>
              <a:gdLst/>
              <a:ahLst/>
              <a:rect l="l" t="t" r="r" b="b"/>
              <a:pathLst>
                <a:path w="915" h="459">
                  <a:moveTo>
                    <a:pt x="510" y="0"/>
                  </a:moveTo>
                  <a:cubicBezTo>
                    <a:pt x="522" y="18"/>
                    <a:pt x="525" y="47"/>
                    <a:pt x="546" y="54"/>
                  </a:cubicBezTo>
                  <a:cubicBezTo>
                    <a:pt x="649" y="88"/>
                    <a:pt x="752" y="91"/>
                    <a:pt x="861" y="99"/>
                  </a:cubicBezTo>
                  <a:cubicBezTo>
                    <a:pt x="897" y="111"/>
                    <a:pt x="903" y="127"/>
                    <a:pt x="915" y="162"/>
                  </a:cubicBezTo>
                  <a:cubicBezTo>
                    <a:pt x="902" y="228"/>
                    <a:pt x="890" y="267"/>
                    <a:pt x="852" y="324"/>
                  </a:cubicBezTo>
                  <a:cubicBezTo>
                    <a:pt x="833" y="352"/>
                    <a:pt x="855" y="354"/>
                    <a:pt x="825" y="378"/>
                  </a:cubicBezTo>
                  <a:cubicBezTo>
                    <a:pt x="818" y="384"/>
                    <a:pt x="806" y="382"/>
                    <a:pt x="798" y="387"/>
                  </a:cubicBezTo>
                  <a:cubicBezTo>
                    <a:pt x="770" y="403"/>
                    <a:pt x="748" y="431"/>
                    <a:pt x="717" y="441"/>
                  </a:cubicBezTo>
                  <a:cubicBezTo>
                    <a:pt x="699" y="447"/>
                    <a:pt x="663" y="459"/>
                    <a:pt x="663" y="459"/>
                  </a:cubicBezTo>
                  <a:cubicBezTo>
                    <a:pt x="589" y="451"/>
                    <a:pt x="521" y="439"/>
                    <a:pt x="447" y="432"/>
                  </a:cubicBezTo>
                  <a:cubicBezTo>
                    <a:pt x="357" y="414"/>
                    <a:pt x="226" y="393"/>
                    <a:pt x="150" y="342"/>
                  </a:cubicBezTo>
                  <a:cubicBezTo>
                    <a:pt x="130" y="283"/>
                    <a:pt x="158" y="341"/>
                    <a:pt x="114" y="306"/>
                  </a:cubicBezTo>
                  <a:cubicBezTo>
                    <a:pt x="106" y="299"/>
                    <a:pt x="104" y="286"/>
                    <a:pt x="96" y="279"/>
                  </a:cubicBezTo>
                  <a:cubicBezTo>
                    <a:pt x="80" y="265"/>
                    <a:pt x="60" y="255"/>
                    <a:pt x="42" y="243"/>
                  </a:cubicBezTo>
                  <a:cubicBezTo>
                    <a:pt x="33" y="237"/>
                    <a:pt x="15" y="225"/>
                    <a:pt x="15" y="225"/>
                  </a:cubicBezTo>
                  <a:cubicBezTo>
                    <a:pt x="0" y="181"/>
                    <a:pt x="16" y="150"/>
                    <a:pt x="60" y="135"/>
                  </a:cubicBezTo>
                  <a:cubicBezTo>
                    <a:pt x="100" y="75"/>
                    <a:pt x="53" y="134"/>
                    <a:pt x="105" y="99"/>
                  </a:cubicBezTo>
                  <a:cubicBezTo>
                    <a:pt x="116" y="92"/>
                    <a:pt x="121" y="79"/>
                    <a:pt x="132" y="72"/>
                  </a:cubicBezTo>
                  <a:cubicBezTo>
                    <a:pt x="140" y="67"/>
                    <a:pt x="151" y="67"/>
                    <a:pt x="159" y="63"/>
                  </a:cubicBezTo>
                  <a:cubicBezTo>
                    <a:pt x="217" y="34"/>
                    <a:pt x="275" y="13"/>
                    <a:pt x="339" y="0"/>
                  </a:cubicBezTo>
                  <a:cubicBezTo>
                    <a:pt x="379" y="13"/>
                    <a:pt x="461" y="36"/>
                    <a:pt x="501" y="27"/>
                  </a:cubicBezTo>
                  <a:cubicBezTo>
                    <a:pt x="510" y="25"/>
                    <a:pt x="507" y="9"/>
                    <a:pt x="510" y="0"/>
                  </a:cubicBez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03440" y="3665520"/>
              <a:ext cx="650880" cy="433440"/>
            </a:xfrm>
            <a:custGeom>
              <a:avLst/>
              <a:gdLst/>
              <a:ahLst/>
              <a:rect l="l" t="t" r="r" b="b"/>
              <a:pathLst>
                <a:path w="410" h="273">
                  <a:moveTo>
                    <a:pt x="324" y="30"/>
                  </a:moveTo>
                  <a:cubicBezTo>
                    <a:pt x="305" y="57"/>
                    <a:pt x="291" y="67"/>
                    <a:pt x="260" y="77"/>
                  </a:cubicBezTo>
                  <a:cubicBezTo>
                    <a:pt x="216" y="70"/>
                    <a:pt x="203" y="62"/>
                    <a:pt x="166" y="46"/>
                  </a:cubicBezTo>
                  <a:cubicBezTo>
                    <a:pt x="151" y="39"/>
                    <a:pt x="134" y="35"/>
                    <a:pt x="118" y="30"/>
                  </a:cubicBezTo>
                  <a:cubicBezTo>
                    <a:pt x="110" y="27"/>
                    <a:pt x="95" y="22"/>
                    <a:pt x="95" y="22"/>
                  </a:cubicBezTo>
                  <a:cubicBezTo>
                    <a:pt x="25" y="30"/>
                    <a:pt x="19" y="19"/>
                    <a:pt x="0" y="77"/>
                  </a:cubicBezTo>
                  <a:cubicBezTo>
                    <a:pt x="15" y="120"/>
                    <a:pt x="17" y="162"/>
                    <a:pt x="55" y="188"/>
                  </a:cubicBezTo>
                  <a:cubicBezTo>
                    <a:pt x="77" y="219"/>
                    <a:pt x="105" y="241"/>
                    <a:pt x="142" y="251"/>
                  </a:cubicBezTo>
                  <a:cubicBezTo>
                    <a:pt x="163" y="257"/>
                    <a:pt x="205" y="266"/>
                    <a:pt x="205" y="266"/>
                  </a:cubicBezTo>
                  <a:cubicBezTo>
                    <a:pt x="240" y="263"/>
                    <a:pt x="281" y="273"/>
                    <a:pt x="308" y="251"/>
                  </a:cubicBezTo>
                  <a:cubicBezTo>
                    <a:pt x="316" y="245"/>
                    <a:pt x="317" y="233"/>
                    <a:pt x="324" y="227"/>
                  </a:cubicBezTo>
                  <a:cubicBezTo>
                    <a:pt x="338" y="214"/>
                    <a:pt x="371" y="195"/>
                    <a:pt x="371" y="195"/>
                  </a:cubicBezTo>
                  <a:cubicBezTo>
                    <a:pt x="382" y="153"/>
                    <a:pt x="396" y="111"/>
                    <a:pt x="410" y="69"/>
                  </a:cubicBezTo>
                  <a:cubicBezTo>
                    <a:pt x="407" y="56"/>
                    <a:pt x="409" y="42"/>
                    <a:pt x="402" y="30"/>
                  </a:cubicBezTo>
                  <a:cubicBezTo>
                    <a:pt x="385" y="0"/>
                    <a:pt x="347" y="24"/>
                    <a:pt x="324" y="30"/>
                  </a:cubicBez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1600" y="5486400"/>
              <a:ext cx="2666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Stage 1: </a:t>
              </a:r>
              <a:br>
                <a:rPr sz="1800"/>
              </a:b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ntegration of Social Cues, Outcomes and Bioregulatory Process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04880" y="3200400"/>
            <a:ext cx="5862600" cy="3477240"/>
            <a:chOff x="1604880" y="3200400"/>
            <a:chExt cx="5862600" cy="3477240"/>
          </a:xfrm>
        </p:grpSpPr>
        <p:sp>
          <p:nvSpPr>
            <p:cNvPr id="126" name=""/>
            <p:cNvSpPr/>
            <p:nvPr/>
          </p:nvSpPr>
          <p:spPr>
            <a:xfrm>
              <a:off x="1604880" y="3213000"/>
              <a:ext cx="503280" cy="884160"/>
            </a:xfrm>
            <a:custGeom>
              <a:avLst/>
              <a:gdLst/>
              <a:ahLst/>
              <a:rect l="l" t="t" r="r" b="b"/>
              <a:pathLst>
                <a:path w="317" h="557">
                  <a:moveTo>
                    <a:pt x="150" y="15"/>
                  </a:moveTo>
                  <a:cubicBezTo>
                    <a:pt x="137" y="17"/>
                    <a:pt x="122" y="16"/>
                    <a:pt x="111" y="23"/>
                  </a:cubicBezTo>
                  <a:cubicBezTo>
                    <a:pt x="94" y="32"/>
                    <a:pt x="81" y="78"/>
                    <a:pt x="71" y="94"/>
                  </a:cubicBezTo>
                  <a:cubicBezTo>
                    <a:pt x="56" y="138"/>
                    <a:pt x="53" y="154"/>
                    <a:pt x="16" y="180"/>
                  </a:cubicBezTo>
                  <a:cubicBezTo>
                    <a:pt x="0" y="232"/>
                    <a:pt x="2" y="248"/>
                    <a:pt x="16" y="306"/>
                  </a:cubicBezTo>
                  <a:cubicBezTo>
                    <a:pt x="19" y="322"/>
                    <a:pt x="32" y="353"/>
                    <a:pt x="32" y="353"/>
                  </a:cubicBezTo>
                  <a:cubicBezTo>
                    <a:pt x="35" y="386"/>
                    <a:pt x="33" y="473"/>
                    <a:pt x="71" y="502"/>
                  </a:cubicBezTo>
                  <a:cubicBezTo>
                    <a:pt x="84" y="512"/>
                    <a:pt x="102" y="516"/>
                    <a:pt x="118" y="525"/>
                  </a:cubicBezTo>
                  <a:cubicBezTo>
                    <a:pt x="134" y="534"/>
                    <a:pt x="166" y="557"/>
                    <a:pt x="166" y="557"/>
                  </a:cubicBezTo>
                  <a:cubicBezTo>
                    <a:pt x="210" y="547"/>
                    <a:pt x="255" y="547"/>
                    <a:pt x="299" y="533"/>
                  </a:cubicBezTo>
                  <a:cubicBezTo>
                    <a:pt x="317" y="479"/>
                    <a:pt x="263" y="422"/>
                    <a:pt x="244" y="376"/>
                  </a:cubicBezTo>
                  <a:cubicBezTo>
                    <a:pt x="239" y="366"/>
                    <a:pt x="239" y="355"/>
                    <a:pt x="236" y="345"/>
                  </a:cubicBezTo>
                  <a:cubicBezTo>
                    <a:pt x="231" y="329"/>
                    <a:pt x="220" y="298"/>
                    <a:pt x="220" y="298"/>
                  </a:cubicBezTo>
                  <a:cubicBezTo>
                    <a:pt x="217" y="239"/>
                    <a:pt x="238" y="40"/>
                    <a:pt x="173" y="0"/>
                  </a:cubicBezTo>
                  <a:cubicBezTo>
                    <a:pt x="107" y="9"/>
                    <a:pt x="99" y="4"/>
                    <a:pt x="150" y="15"/>
                  </a:cubicBezTo>
                  <a:close/>
                </a:path>
              </a:pathLst>
            </a:custGeom>
            <a:solidFill>
              <a:srgbClr val="bd99ff"/>
            </a:solidFill>
            <a:ln w="9360">
              <a:solidFill>
                <a:srgbClr val="bd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5520" y="3200400"/>
              <a:ext cx="503280" cy="884160"/>
            </a:xfrm>
            <a:custGeom>
              <a:avLst/>
              <a:gdLst/>
              <a:ahLst/>
              <a:rect l="l" t="t" r="r" b="b"/>
              <a:pathLst>
                <a:path w="317" h="557">
                  <a:moveTo>
                    <a:pt x="150" y="15"/>
                  </a:moveTo>
                  <a:cubicBezTo>
                    <a:pt x="137" y="17"/>
                    <a:pt x="122" y="16"/>
                    <a:pt x="111" y="23"/>
                  </a:cubicBezTo>
                  <a:cubicBezTo>
                    <a:pt x="94" y="32"/>
                    <a:pt x="81" y="78"/>
                    <a:pt x="71" y="94"/>
                  </a:cubicBezTo>
                  <a:cubicBezTo>
                    <a:pt x="56" y="138"/>
                    <a:pt x="53" y="154"/>
                    <a:pt x="16" y="180"/>
                  </a:cubicBezTo>
                  <a:cubicBezTo>
                    <a:pt x="0" y="232"/>
                    <a:pt x="2" y="248"/>
                    <a:pt x="16" y="306"/>
                  </a:cubicBezTo>
                  <a:cubicBezTo>
                    <a:pt x="19" y="322"/>
                    <a:pt x="32" y="353"/>
                    <a:pt x="32" y="353"/>
                  </a:cubicBezTo>
                  <a:cubicBezTo>
                    <a:pt x="35" y="386"/>
                    <a:pt x="33" y="473"/>
                    <a:pt x="71" y="502"/>
                  </a:cubicBezTo>
                  <a:cubicBezTo>
                    <a:pt x="84" y="512"/>
                    <a:pt x="102" y="516"/>
                    <a:pt x="118" y="525"/>
                  </a:cubicBezTo>
                  <a:cubicBezTo>
                    <a:pt x="134" y="534"/>
                    <a:pt x="166" y="557"/>
                    <a:pt x="166" y="557"/>
                  </a:cubicBezTo>
                  <a:cubicBezTo>
                    <a:pt x="210" y="547"/>
                    <a:pt x="255" y="547"/>
                    <a:pt x="299" y="533"/>
                  </a:cubicBezTo>
                  <a:cubicBezTo>
                    <a:pt x="317" y="479"/>
                    <a:pt x="263" y="422"/>
                    <a:pt x="244" y="376"/>
                  </a:cubicBezTo>
                  <a:cubicBezTo>
                    <a:pt x="239" y="366"/>
                    <a:pt x="239" y="355"/>
                    <a:pt x="236" y="345"/>
                  </a:cubicBezTo>
                  <a:cubicBezTo>
                    <a:pt x="231" y="329"/>
                    <a:pt x="220" y="298"/>
                    <a:pt x="220" y="298"/>
                  </a:cubicBezTo>
                  <a:cubicBezTo>
                    <a:pt x="217" y="239"/>
                    <a:pt x="238" y="40"/>
                    <a:pt x="173" y="0"/>
                  </a:cubicBezTo>
                  <a:cubicBezTo>
                    <a:pt x="107" y="9"/>
                    <a:pt x="99" y="4"/>
                    <a:pt x="150" y="15"/>
                  </a:cubicBezTo>
                  <a:close/>
                </a:path>
              </a:pathLst>
            </a:custGeom>
            <a:solidFill>
              <a:srgbClr val="bd99ff"/>
            </a:solidFill>
            <a:ln w="9360">
              <a:solidFill>
                <a:srgbClr val="bd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5486400"/>
              <a:ext cx="22860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Times New Roman"/>
                </a:rPr>
                <a:t>Stage 3: </a:t>
              </a:r>
              <a:br>
                <a:rPr sz="1800"/>
              </a:br>
              <a:r>
                <a:rPr b="0" lang="en-US" sz="1800" spc="-1" strike="noStrike">
                  <a:solidFill>
                    <a:srgbClr val="660066"/>
                  </a:solidFill>
                  <a:latin typeface="Times New Roman"/>
                </a:rPr>
                <a:t>Ability to multitask, contemplate, gain understandin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cognitive processes (measured by character) regulate our emotional conflicts (measured by tempera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isk of substance abuse and dependence are predicted by high anxiety (type 1) and/or high novelty seeking (type 2) in individuals with poor mental self-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treatment depends on improved mental self-government (increasing SD, CO, 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Freedom and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individual is responsible and free to understand what makes him or her happy at any time regardless of genetics or past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 can only encourage people to consider what is really satisfying, rather than entering into conflicts about what should be d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eatment 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approach, called “coherence therapy” is based on providing a calm, non-judgmental relationship in which I encourage patients to recognize what leads to the “good lif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 that facilitate this are specific meditations that exercise the brain networks needed for character develop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603760"/>
            <a:ext cx="45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ninger (2004).  Feeling G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ience of Well-Being, Ox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makes you happ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(TCI Cooperative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ork at the service of others, not self-preoccup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(TCI Self-directed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ccept reality and let go of strug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th (TCI Self-transcen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e aware and patient, not judging or bl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Happines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dness</a:t>
            </a: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 on all 3 TCI character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981080" y="6019920"/>
            <a:ext cx="51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inger, Feeling Good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we get more calm and aw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human being has the capacity to get calm, let go of struggles, and grow in awar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specific exercises are cal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lence of Mind :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gresses in 3 phases through stages of self-aware conscious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on in Nature: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wakens 5 senses so that we experience coherence – satisfying, joyful, loving, feeling at-one-ness with all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iral path of Conscious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09680" y="2286000"/>
          <a:ext cx="4565880" cy="3417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0"/>
                    <a:ext cx="45658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38280" y="914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Y QUESTI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2767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heritance of Type 2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 Abuse 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Swedish Adoption Studi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2 men adopted away at early age in Stockholm &amp; 577 in Goteb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2 genetic and environmental backgrounds derived in Stockholm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replicated in Goteborg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51200" y="2263680"/>
          <a:ext cx="38102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2263680"/>
                    <a:ext cx="38102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heritance of Type 2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 Abuse 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Swedish Adoption Studi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2 associated with early initiation and antisocial behavior in biological fa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ly her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1 associated with late onset of severe dep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ly her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51200" y="2263680"/>
          <a:ext cx="38102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2263680"/>
                    <a:ext cx="38102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heritance of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evere Type 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 Abuse 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Swedish Adoption Studi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2 associated with early initiation and antisocial behavior in biological fa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ly her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1 associated with severe 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ly her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replicated in Goteborg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51200" y="2263680"/>
          <a:ext cx="38102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2263680"/>
                    <a:ext cx="38102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of Substance Abuse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Harvard Veterans Twin Stud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of transition from exposed to ever used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Harvard Veterans Twin Study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6800" y="2560680"/>
          <a:ext cx="7767720" cy="41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2560680"/>
                    <a:ext cx="77677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(H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Environmentalities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(E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f transition from ever used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d 5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2286000"/>
          <a:ext cx="77709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0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21:15:12Z</dcterms:created>
  <dc:creator>c.r.cloninger</dc:creator>
  <dc:description/>
  <dc:language>en-US</dc:language>
  <cp:lastModifiedBy>Robert Cloninger</cp:lastModifiedBy>
  <dcterms:modified xsi:type="dcterms:W3CDTF">2004-09-25T20:28:01Z</dcterms:modified>
  <cp:revision>64</cp:revision>
  <dc:subject/>
  <dc:title>Heritabilities of transition from exposed to ever used</dc:title>
</cp:coreProperties>
</file>