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732-3D9A-4063-B969-53FF2FB7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D2E-7976-4367-91A5-00D50DB6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D79-748A-4841-B460-9740A4F8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E87-FDA5-4ECA-A8C3-3D0EE3E6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000-8BEF-4D7A-990B-E9CCDBF3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05C-B9DD-4229-91B1-D5DB89F6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674-2028-43C8-AC98-536358C9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783-F349-4B47-B9BC-08353BE2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49F-2B31-4A77-B64C-4F321334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5F6-EE48-44F6-A28C-37C67E5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F5A-5312-4FD9-9105-F9D6A83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5A5-2B93-4824-8B59-65E3A619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6AD3-9D82-4BF8-9EFF-6BFDDA22D4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 fattori protettivi del modello di consumo mediterraneo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5410080"/>
            <a:ext cx="552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ma, 4 ottobr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ndazione S. Lucia IR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7360" y="582480"/>
            <a:ext cx="82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Osservatorio Permanente sui Giovani e l’Al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93560" y="423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f. Enrico Temp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variabili dell’alco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914400"/>
            <a:ext cx="8686800" cy="218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gni società il rapporto con le bevande alcoliche è segnato da un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insieme di variabi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ipendenti dalla sostanz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ria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divid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1905120"/>
            <a:ext cx="6019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Individualita somato-psichica di ogni consumatore in una determinata collettività, che può carattérizzare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la sua differente sensibilità all’alc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variabili dell’alco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914400"/>
            <a:ext cx="8686800" cy="5986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gni società il rapporto con le bevande alcoliche è segnato da un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insieme di variabi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ipendenti dalla sostanz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ria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divid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riabili 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ll’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905120"/>
            <a:ext cx="6019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Individualita somato-psichica di ogni consumatore in una determinata collettività, che può carattérizzare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la sua differente sensibilità all’alc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200400"/>
            <a:ext cx="58672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testo lo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oria e trad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delli di relazioni soc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orme e le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dizioni socio-econom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testo cultu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ermeabilità ai mutamenti cultur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desione ad altri mode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essione del mercato glob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appresentazioni simbo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nfluenza dei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Due modalità di alcolizz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752480"/>
            <a:ext cx="2362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Alcolizzazione fisi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19520"/>
            <a:ext cx="38862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viluppo di un rapporto sano e responsabile con le bevande alcoliche che sono accettate come parte integrante della cultura sia nutrizionale (rito della nutrizione) sia della comunicazion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Due modalità di alcolizz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752480"/>
            <a:ext cx="2362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Alcolizzazione fisi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1676520"/>
            <a:ext cx="236196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lcolizzazione pat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819520"/>
            <a:ext cx="38862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viluppo di un rapporto sano e responsabile con le bevande alcoliche che sono accettate come parte integrante della cultura sia nutrizionale (rito della nutrizione) sia della comunicazion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819520"/>
            <a:ext cx="380988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apporto qualitativo e quantitativo con le bevande alcoliche dove i  fattori individuali di vulnerabilita bio-psico-sociale che orientano i comportamenti verso una patologia giocano un ruolo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7993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modalità di alcolizzazione riflettono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tipi di 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371600"/>
            <a:ext cx="3048120" cy="760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ltura “asciut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paesi nord europ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438280"/>
            <a:ext cx="3657600" cy="3010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Meno occasioni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i consu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Minore quantità totale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’alcool consum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Concentrazione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el consumo </a:t>
            </a: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nei wee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Binge drinking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7993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modalità di alcolizzazione riflettono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tipi di 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371600"/>
            <a:ext cx="3048120" cy="760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ltura “asciut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paesi nord europ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1295280"/>
            <a:ext cx="2819520" cy="76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ultura “bagn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paesi sud europ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438280"/>
            <a:ext cx="3657600" cy="3010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Meno occasioni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i consu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Minore quantità totale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’alcool consum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Concentrazione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el consumo </a:t>
            </a: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nei wee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Binge drinking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286000"/>
            <a:ext cx="4419720" cy="363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Più occasioni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 di consu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Maggiore quantita totale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 d’alcool consum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L’alcool è un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aspetto della vita quotidiana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 a partire dall’infanz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Il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consumo 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d’alcool fa parte di un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comportamento socialmente accettato 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se resta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nei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limiti della moder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fattori dell’alcolizzazione fisiologica: il ruolo della fami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2492280"/>
            <a:ext cx="7842240" cy="265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contatto con le bevande alcoliche nel  passaggio dall’infanzia all’adolescenza è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ediato dal collettivo famili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e, direttamente e/o indirettamente, stabilisc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or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 scrit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 comportame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troll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relazione al rapporto con l’al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5334120"/>
            <a:ext cx="8229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fattori dell’alcolizzazione fisiologica: la famiglia e il contesto so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’autorizzazione famili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l’accesso 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’accettazione socia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 consumo di bevande alcoliche (anche se nel rispetto della legge) durante le tappe dell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rescita adolescenzia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ermettono al giovane d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periment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l propri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mite di risch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di imparare cosi 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iorizzare un comport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 consumo  responsa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n esempio di alcolizzazione fisiologica: l’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76520"/>
            <a:ext cx="7848360" cy="16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giovani consumatori italiani fra 15 e 24 anni sono molti (76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n esempio di alcolizzazione fisiologica: l’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676520"/>
            <a:ext cx="7848360" cy="276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giovani consumatori italiani fra 15 e 24 anni sono molti (76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numero dei giovani consumator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risch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tisticamente insign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’Europa e gli Stati Uniti sono in allarme p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n esempio di alcolizzazione fisiologica: l’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76520"/>
            <a:ext cx="7848360" cy="383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giovani consumatori italiani fra 15 e 24 anni sono molti (76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numero dei giovani consumator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risch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tisticamente insign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,6%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i giovani consumatori ha riportat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episodio di ubriachez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3 m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n esempio di alcolizzazione fisiologica: l’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676520"/>
            <a:ext cx="7848360" cy="491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giovani consumatori italiani fra 15 e 24 anni sono molti (76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numero dei giovani consumator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risch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tisticamente insign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,6%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i giovani consumatori ha riportat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episodio di ubriachez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3 m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lo 1,3%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i giovani consumatori si è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briaca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iù vol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3 m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attori protettivi delle culture “bagn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905120"/>
            <a:ext cx="243828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ttori tradi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600200"/>
            <a:ext cx="4952880" cy="131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stituzione famili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alcool fa parte della di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umo ai pa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ima alcolizzazione in famig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20574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attori protettivi delle culture “bagn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905120"/>
            <a:ext cx="243828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ttori tradi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1600200"/>
            <a:ext cx="4952880" cy="131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stituzione famili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alcool fa parte della di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umo ai pa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ima alcolizzazione in famig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0574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267080"/>
            <a:ext cx="2232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uovi fat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4956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733920"/>
            <a:ext cx="4952880" cy="25333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 e bar come luoghi di incontro dei giov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ca tolleranza per l’ubriachezza da parte del gruppo dei p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stamento dalla quantità alla qu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sociale (glam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e di vita s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1447920"/>
            <a:ext cx="8610480" cy="82548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ec12"/>
                </a:solidFill>
                <a:latin typeface="Times New Roman"/>
              </a:rPr>
              <a:t>PER PREVENIRE L’ABUSO SI DEVE LAVORARE SIA A LIVELLO INDIVIDUALE CHE COLL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447920"/>
            <a:ext cx="8610480" cy="82548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ec12"/>
                </a:solidFill>
                <a:latin typeface="Times New Roman"/>
              </a:rPr>
              <a:t>PER PREVENIRE L’ABUSO SI DEVE LAVORARE SIA A LIVELLO INDIVIDUALE CHE COLL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514600"/>
            <a:ext cx="3047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DUZIONE d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b"/>
                </a:solidFill>
                <a:latin typeface="Times New Roman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419720"/>
            <a:ext cx="432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cazione precoce della vulnerabilita individ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uzione del d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stione dei modelli imit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733920"/>
            <a:ext cx="9903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447920"/>
            <a:ext cx="8610480" cy="82548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ec12"/>
                </a:solidFill>
                <a:latin typeface="Times New Roman"/>
              </a:rPr>
              <a:t>PER PREVENIRE L’ABUSO SI DEVE LAVORARE SIA A LIVELLO INDIVIDUALE CHE COLL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514600"/>
            <a:ext cx="3047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DUZIONE d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b"/>
                </a:solidFill>
                <a:latin typeface="Times New Roman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514600"/>
            <a:ext cx="358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NFORZO de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ATTORI PROT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4419720"/>
            <a:ext cx="432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cazione precoce della vulnerabilita individ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uzione del d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stione dei modelli imit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4419720"/>
            <a:ext cx="3733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o moderato e respons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blicità orien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9903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733920"/>
            <a:ext cx="9907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828800"/>
            <a:ext cx="746784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diffusione crescente di bevande alcoliche fra i giovani, in particolare fra gli adolesc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’Europa e gli Stati Uniti sono in allarme p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828800"/>
            <a:ext cx="7467840" cy="391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diffusione crescente di bevande alcoliche fra i giovani, in particolare fra gli adolesc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risultati di ricerche che mostrano come un consumo di alcool molto precoce favorisce lo sviluppo di comportamenti di abuso e dipendenza e l’insorgenza di problemi alcol-correlati nell’eta adu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’Europa e gli Stati Uniti sono in allarme p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ESPAD 2000 dimostra che in Europa il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% dei giovani sotto i 13 anni ha già consumato alcol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ci sono differenze sostanziali f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ESPAD 2000 dimostra che in Europa il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% dei giovani sotto i 13 anni ha già consumato alcol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2666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% in Danimarca, 38% nel Regno Unito, 33% in Finlandia, 24% in Sv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209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uropa del N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ci sono differenze sostanziali f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ESPAD 2000 dimostra che in Europa il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% dei giovani sotto i 13 anni ha già consumato alcol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560" y="2666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% in Danimarca, 38% nel Regno Unito, 33% in Finlandia, 24% in Sv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uropa del 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1911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% in Francia, 9% in Grecia, 7% in It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876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ndo le percentuali di giovani sotto i 13 anni c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chiarano di essersi ubriac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meno una volta negli ultimi 3 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9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uropa del N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ci sono differenze sostanziali f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 dati sono indicativi di co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socio-cultu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norm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27432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zionino tali differenze, che sono lega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1640" y="3716280"/>
            <a:ext cx="7003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E I GIOVANI IMPARANO A B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724280"/>
            <a:ext cx="8305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ioè a come si sviluppa durante le fasi della crescita adolescenziale il rapporto con le bevande alcoliche (alcolizzazione) sia a livello individuale che coll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 dati sono indicativi di co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socio-cultu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norm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27432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zionino tali differenze, che sono lega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1:39:03Z</dcterms:created>
  <dc:creator>simona</dc:creator>
  <dc:description/>
  <dc:language>en-US</dc:language>
  <cp:lastModifiedBy> </cp:lastModifiedBy>
  <dcterms:modified xsi:type="dcterms:W3CDTF">2004-09-30T11:26:14Z</dcterms:modified>
  <cp:revision>38</cp:revision>
  <dc:subject/>
  <dc:title>Alcoolisation fisiologique, alcoolisation pathologique  </dc:title>
</cp:coreProperties>
</file>